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277920" y="1052640"/>
            <a:ext cx="8570880" cy="4155840"/>
            <a:chOff x="277920" y="1052640"/>
            <a:chExt cx="8570880" cy="4155840"/>
          </a:xfrm>
        </p:grpSpPr>
        <p:grpSp>
          <p:nvGrpSpPr>
            <p:cNvPr id="40" name="Group 8"/>
            <p:cNvGrpSpPr/>
            <p:nvPr/>
          </p:nvGrpSpPr>
          <p:grpSpPr>
            <a:xfrm>
              <a:off x="277920" y="1052640"/>
              <a:ext cx="8570880" cy="4155840"/>
              <a:chOff x="277920" y="1052640"/>
              <a:chExt cx="8570880" cy="4155840"/>
            </a:xfrm>
          </p:grpSpPr>
          <p:sp>
            <p:nvSpPr>
              <p:cNvPr id="41" name="Rectangle 3"/>
              <p:cNvSpPr/>
              <p:nvPr/>
            </p:nvSpPr>
            <p:spPr>
              <a:xfrm>
                <a:off x="338040" y="1052640"/>
                <a:ext cx="8498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3000" spc="-1" strike="noStrike">
                    <a:solidFill>
                      <a:srgbClr val="000000"/>
                    </a:solidFill>
                    <a:latin typeface="Arial"/>
                  </a:rPr>
                  <a:t>ХРОНИЧНА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 БУБРЕ</a:t>
                </a:r>
                <a:r>
                  <a:rPr b="1" lang="sr-Latn-CS" sz="3000" spc="-1" strike="noStrike">
                    <a:solidFill>
                      <a:srgbClr val="000000"/>
                    </a:solidFill>
                    <a:latin typeface="Arial"/>
                  </a:rPr>
                  <a:t>Ж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НА </a:t>
                </a:r>
                <a:r>
                  <a:rPr b="1" lang="sr-Latn-CS" sz="3000" spc="-1" strike="noStrike">
                    <a:solidFill>
                      <a:srgbClr val="000000"/>
                    </a:solidFill>
                    <a:latin typeface="Arial"/>
                  </a:rPr>
                  <a:t>ИНСУФИЦИЈЕ</a:t>
                </a:r>
                <a:r>
                  <a:rPr b="1" lang="sr-CS" sz="3000" spc="-1" strike="noStrike">
                    <a:solidFill>
                      <a:srgbClr val="000000"/>
                    </a:solidFill>
                    <a:latin typeface="Arial"/>
                  </a:rPr>
                  <a:t>НЦИЈА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4"/>
              <p:cNvSpPr/>
              <p:nvPr/>
            </p:nvSpPr>
            <p:spPr>
              <a:xfrm>
                <a:off x="277920" y="1772640"/>
                <a:ext cx="8570880" cy="0"/>
              </a:xfrm>
              <a:prstGeom prst="line">
                <a:avLst/>
              </a:prstGeom>
              <a:ln w="38160">
                <a:solidFill>
                  <a:srgbClr val="ff79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12"/>
              <p:cNvSpPr/>
              <p:nvPr/>
            </p:nvSpPr>
            <p:spPr>
              <a:xfrm>
                <a:off x="620280" y="4467240"/>
                <a:ext cx="812808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РОФ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. ДР ДЕЈАН ПЕТРОВИ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5"/>
            <p:cNvSpPr/>
            <p:nvPr/>
          </p:nvSpPr>
          <p:spPr>
            <a:xfrm>
              <a:off x="507960" y="185364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ОСМА НЕДЕЉ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5"/>
          <p:cNvGrpSpPr/>
          <p:nvPr/>
        </p:nvGrpSpPr>
        <p:grpSpPr>
          <a:xfrm>
            <a:off x="214200" y="1038240"/>
            <a:ext cx="8683560" cy="5481720"/>
            <a:chOff x="214200" y="1038240"/>
            <a:chExt cx="8683560" cy="5481720"/>
          </a:xfrm>
        </p:grpSpPr>
        <p:sp>
          <p:nvSpPr>
            <p:cNvPr id="159" name="Rectangle 2"/>
            <p:cNvSpPr/>
            <p:nvPr/>
          </p:nvSpPr>
          <p:spPr>
            <a:xfrm>
              <a:off x="214200" y="150120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губитак апетита, мука, гађење, повраћање, штуцањ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"/>
            <p:cNvSpPr/>
            <p:nvPr/>
          </p:nvSpPr>
          <p:spPr>
            <a:xfrm>
              <a:off x="214200" y="19569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алаксалост, замарање, лупање срц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"/>
            <p:cNvSpPr/>
            <p:nvPr/>
          </p:nvSpPr>
          <p:spPr>
            <a:xfrm>
              <a:off x="214200" y="24123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гушење, потиљачна главобољ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"/>
            <p:cNvSpPr/>
            <p:nvPr/>
          </p:nvSpPr>
          <p:spPr>
            <a:xfrm>
              <a:off x="214200" y="286812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иперволемија, хипертензија, едем плућ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"/>
            <p:cNvSpPr/>
            <p:nvPr/>
          </p:nvSpPr>
          <p:spPr>
            <a:xfrm>
              <a:off x="214200" y="332388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гастроинтестинално крварење: мелена, хематемез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214200" y="377964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успорен мисаони ток, поспаност, грчеви (хипокалциемија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"/>
            <p:cNvSpPr/>
            <p:nvPr/>
          </p:nvSpPr>
          <p:spPr>
            <a:xfrm>
              <a:off x="214200" y="423684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костни симптоми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30"/>
            <p:cNvSpPr/>
            <p:nvPr/>
          </p:nvSpPr>
          <p:spPr>
            <a:xfrm>
              <a:off x="217440" y="1449360"/>
              <a:ext cx="8680320" cy="0"/>
            </a:xfrm>
            <a:prstGeom prst="line">
              <a:avLst/>
            </a:prstGeom>
            <a:ln w="38160">
              <a:solidFill>
                <a:srgbClr val="f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"/>
            <p:cNvSpPr/>
            <p:nvPr/>
          </p:nvSpPr>
          <p:spPr>
            <a:xfrm>
              <a:off x="214200" y="469260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лабост проксималних мишић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"/>
            <p:cNvSpPr/>
            <p:nvPr/>
          </p:nvSpPr>
          <p:spPr>
            <a:xfrm>
              <a:off x="217080" y="1038240"/>
              <a:ext cx="86742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КЛИНИЧКА СЛИКА ХРОНИЧНЕ БУБРЕЖНЕ ИНСУФИЦИЈЕНЦИЈ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"/>
            <p:cNvSpPr/>
            <p:nvPr/>
          </p:nvSpPr>
          <p:spPr>
            <a:xfrm>
              <a:off x="214200" y="514980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враб коже и екстраскелетне калцификациј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"/>
            <p:cNvSpPr/>
            <p:nvPr/>
          </p:nvSpPr>
          <p:spPr>
            <a:xfrm>
              <a:off x="214200" y="56073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понтане руптуре тетив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"/>
            <p:cNvSpPr/>
            <p:nvPr/>
          </p:nvSpPr>
          <p:spPr>
            <a:xfrm>
              <a:off x="214200" y="60645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еломи и болови у костим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2"/>
          <p:cNvGrpSpPr/>
          <p:nvPr/>
        </p:nvGrpSpPr>
        <p:grpSpPr>
          <a:xfrm>
            <a:off x="214200" y="1106640"/>
            <a:ext cx="8683560" cy="4186080"/>
            <a:chOff x="214200" y="1106640"/>
            <a:chExt cx="8683560" cy="4186080"/>
          </a:xfrm>
        </p:grpSpPr>
        <p:sp>
          <p:nvSpPr>
            <p:cNvPr id="173" name="Rectangle 2"/>
            <p:cNvSpPr/>
            <p:nvPr/>
          </p:nvSpPr>
          <p:spPr>
            <a:xfrm>
              <a:off x="214200" y="16455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АНАМНЕЗ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"/>
            <p:cNvSpPr/>
            <p:nvPr/>
          </p:nvSpPr>
          <p:spPr>
            <a:xfrm>
              <a:off x="214200" y="210132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ФИЗИКАЛНИ ПРЕГЛЕ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"/>
            <p:cNvSpPr/>
            <p:nvPr/>
          </p:nvSpPr>
          <p:spPr>
            <a:xfrm>
              <a:off x="214200" y="255708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ЛАБОРАТОРИЈСКА ИСПИТИВАЊ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"/>
            <p:cNvSpPr/>
            <p:nvPr/>
          </p:nvSpPr>
          <p:spPr>
            <a:xfrm>
              <a:off x="214200" y="301284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ИСПИТИВАЊА ИМУНСКОГ СИСТЕМ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"/>
            <p:cNvSpPr/>
            <p:nvPr/>
          </p:nvSpPr>
          <p:spPr>
            <a:xfrm>
              <a:off x="214200" y="346860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УЛТРАЗВУК БУБРЕГА И МОКРАЋНИХ ПУТЕ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"/>
            <p:cNvSpPr/>
            <p:nvPr/>
          </p:nvSpPr>
          <p:spPr>
            <a:xfrm>
              <a:off x="214200" y="39243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АДИОЛОШКИ ПРЕГЛЕДИ: И.В. УРОГРАФИЈ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"/>
            <p:cNvSpPr/>
            <p:nvPr/>
          </p:nvSpPr>
          <p:spPr>
            <a:xfrm>
              <a:off x="214200" y="43815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ЕНДОСКОПСКИ ПРЕГЛЕДИ: ЦИСТОСКОПИЈ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30"/>
            <p:cNvSpPr/>
            <p:nvPr/>
          </p:nvSpPr>
          <p:spPr>
            <a:xfrm>
              <a:off x="217080" y="1553400"/>
              <a:ext cx="8680680" cy="0"/>
            </a:xfrm>
            <a:prstGeom prst="line">
              <a:avLst/>
            </a:prstGeom>
            <a:ln w="38160">
              <a:solidFill>
                <a:srgbClr val="f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"/>
            <p:cNvSpPr/>
            <p:nvPr/>
          </p:nvSpPr>
          <p:spPr>
            <a:xfrm>
              <a:off x="214200" y="483732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БИОПСИЈА БУБРЕГА: ПАТОХИСТОЛОШКА ДИЈАГНОСТИ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217080" y="1106640"/>
              <a:ext cx="86742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ДИЈАГНОСТИКА ХРОНИЧНЕ БУБРЕЖНЕ ИНСУФИЦИЈЕНЦИЈ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4"/>
          <p:cNvGrpSpPr/>
          <p:nvPr/>
        </p:nvGrpSpPr>
        <p:grpSpPr>
          <a:xfrm>
            <a:off x="165240" y="990720"/>
            <a:ext cx="8789760" cy="5613120"/>
            <a:chOff x="165240" y="990720"/>
            <a:chExt cx="8789760" cy="5613120"/>
          </a:xfrm>
        </p:grpSpPr>
        <p:sp>
          <p:nvSpPr>
            <p:cNvPr id="184" name="Rectangle 3"/>
            <p:cNvSpPr/>
            <p:nvPr/>
          </p:nvSpPr>
          <p:spPr>
            <a:xfrm>
              <a:off x="203040" y="990720"/>
              <a:ext cx="8751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100" spc="-1" strike="noStrike">
                  <a:solidFill>
                    <a:srgbClr val="000000"/>
                  </a:solidFill>
                  <a:latin typeface="Arial"/>
                </a:rPr>
                <a:t>КОМПЛИКАЦИЈЕ  Х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РОНИЧНЕ </a:t>
              </a:r>
              <a:r>
                <a:rPr b="1" lang="sr-RS" sz="2100" spc="-1" strike="noStrike">
                  <a:solidFill>
                    <a:srgbClr val="000000"/>
                  </a:solidFill>
                  <a:latin typeface="Arial"/>
                </a:rPr>
                <a:t>БУБРЕЖНЕ ИНСУФИЦИЈЕНЦИЈЕ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165240" y="1411560"/>
              <a:ext cx="8761320" cy="144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>
              <a:off x="266760" y="1545120"/>
              <a:ext cx="855864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ремијске компликације: азотемија + метаболичк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таболичка ацид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ипокалци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иперкали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иперфосфат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5312520" y="2184480"/>
              <a:ext cx="0" cy="203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0"/>
            <p:cNvSpPr/>
            <p:nvPr/>
          </p:nvSpPr>
          <p:spPr>
            <a:xfrm>
              <a:off x="165240" y="1483920"/>
              <a:ext cx="8761320" cy="5119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273960" y="3822480"/>
              <a:ext cx="85586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рдиоваскуларне компликације: уремијска кардиомиопат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271440" y="4260600"/>
              <a:ext cx="85586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лућне компликације: уремијска плућа, уремијски плеу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273960" y="2989440"/>
              <a:ext cx="8558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ематолошке компликације: анемија, повећан ризик од крварењ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280800" y="3389040"/>
              <a:ext cx="85586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ндокринолошке компликације: секундарни хиперпаратиреоидиз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271440" y="4751280"/>
              <a:ext cx="85586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уролошке компликације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нтрални нервни систем: уремијска енцефалопат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ериферни нервни систем: синдром немирних ног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273960" y="5559120"/>
              <a:ext cx="85586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астроинтестиналне компликације: уремијски гаст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266760" y="5943600"/>
              <a:ext cx="85586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ерматолошке компликације: уремијски дермат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7"/>
          <p:cNvGrpSpPr/>
          <p:nvPr/>
        </p:nvGrpSpPr>
        <p:grpSpPr>
          <a:xfrm>
            <a:off x="297000" y="870120"/>
            <a:ext cx="8564400" cy="5662440"/>
            <a:chOff x="297000" y="870120"/>
            <a:chExt cx="8564400" cy="5662440"/>
          </a:xfrm>
        </p:grpSpPr>
        <p:grpSp>
          <p:nvGrpSpPr>
            <p:cNvPr id="197" name="Group 75"/>
            <p:cNvGrpSpPr/>
            <p:nvPr/>
          </p:nvGrpSpPr>
          <p:grpSpPr>
            <a:xfrm>
              <a:off x="297000" y="870120"/>
              <a:ext cx="8564400" cy="5662440"/>
              <a:chOff x="297000" y="870120"/>
              <a:chExt cx="8564400" cy="5662440"/>
            </a:xfrm>
          </p:grpSpPr>
          <p:sp>
            <p:nvSpPr>
              <p:cNvPr id="198" name="Rectangle 3"/>
              <p:cNvSpPr/>
              <p:nvPr/>
            </p:nvSpPr>
            <p:spPr>
              <a:xfrm>
                <a:off x="377640" y="1538280"/>
                <a:ext cx="8389800" cy="49942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normAutofit/>
              </a:bodyPr>
              <a:p>
                <a:pPr marL="239760" indent="-239760">
                  <a:buClr>
                    <a:srgbClr val="ff6363"/>
                  </a:buClr>
                  <a:buSzPct val="70000"/>
                  <a:buFont typeface="Wingdings" charset="2"/>
                  <a:buChar char="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смањено стварање ендогеног еритропоетина</a:t>
                </a: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9760" indent="-239760">
                  <a:buClr>
                    <a:srgbClr val="ff5050"/>
                  </a:buClr>
                  <a:buSzPct val="70000"/>
                  <a:buFont typeface="Wingdings 2" charset="2"/>
                  <a:buChar char="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смањена интестинална апсорпција гвођж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9760" indent="-239760">
                  <a:buClr>
                    <a:srgbClr val="ff5050"/>
                  </a:buClr>
                  <a:buSzPct val="70000"/>
                  <a:buFont typeface="Wingdings 2" charset="2"/>
                  <a:buChar char="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гастроинтестинални губитак крв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9760" indent="-239760">
                  <a:buClr>
                    <a:srgbClr val="ff5050"/>
                  </a:buClr>
                  <a:buSzPct val="70000"/>
                  <a:buFont typeface="Wingdings 2" charset="2"/>
                  <a:buChar char="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крварење из утеруса код жена пре менопауз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9760" indent="-239760">
                  <a:buClr>
                    <a:srgbClr val="ff5050"/>
                  </a:buClr>
                  <a:buSzPct val="70000"/>
                  <a:buFont typeface="Wingdings 2" charset="2"/>
                  <a:buChar char="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хемоглобинопатије</a:t>
                </a: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9760" indent="-239760">
                  <a:buClr>
                    <a:srgbClr val="ff5050"/>
                  </a:buClr>
                  <a:buSzPct val="70000"/>
                  <a:buFont typeface="Wingdings 2" charset="2"/>
                  <a:buChar char="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недостатак витамина </a:t>
                </a:r>
                <a:r>
                  <a:rPr b="1" i="1" lang="sr-Latn-C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i="1" lang="sr-Latn-CS" sz="24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и фолат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9760" indent="-239760">
                  <a:buClr>
                    <a:srgbClr val="ff5050"/>
                  </a:buClr>
                  <a:buSzPct val="70000"/>
                  <a:buFont typeface="Wingdings 2" charset="2"/>
                  <a:buChar char="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sr-Latn-C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недостатак карнити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39760" indent="-239760">
                  <a:buClr>
                    <a:srgbClr val="ff5050"/>
                  </a:buClr>
                  <a:buSzPct val="70000"/>
                  <a:buFont typeface="Wingdings 2" charset="2"/>
                  <a:buChar char="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de-CH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хипотиреоз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"/>
              <p:cNvSpPr/>
              <p:nvPr/>
            </p:nvSpPr>
            <p:spPr>
              <a:xfrm>
                <a:off x="297000" y="870120"/>
                <a:ext cx="8564400" cy="80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"/>
                  </a:rPr>
                  <a:t>АНЕМИЈА-ХРОНИЧНА БУБРЕЖНА ИНСУФИЦИЈЕНЦИЈА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5"/>
              <p:cNvSpPr/>
              <p:nvPr/>
            </p:nvSpPr>
            <p:spPr>
              <a:xfrm>
                <a:off x="377640" y="1470600"/>
                <a:ext cx="8389800" cy="0"/>
              </a:xfrm>
              <a:prstGeom prst="line">
                <a:avLst/>
              </a:prstGeom>
              <a:ln w="57240">
                <a:solidFill>
                  <a:srgbClr val="ff6f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7"/>
              <p:cNvSpPr/>
              <p:nvPr/>
            </p:nvSpPr>
            <p:spPr>
              <a:xfrm>
                <a:off x="6031800" y="2360160"/>
                <a:ext cx="1411560" cy="3927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дефицит</a:t>
                </a: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sr-Latn-CS" sz="1200" spc="-1" strike="noStrike">
                    <a:solidFill>
                      <a:srgbClr val="ffffff"/>
                    </a:solidFill>
                    <a:latin typeface="Arial"/>
                  </a:rPr>
                  <a:t>Fe</a:t>
                </a:r>
                <a:r>
                  <a:rPr b="1" i="1" lang="sr-Latn-CS" sz="1200" spc="-1" strike="noStrike" baseline="30000">
                    <a:solidFill>
                      <a:srgbClr val="ffffff"/>
                    </a:solidFill>
                    <a:latin typeface="Arial"/>
                  </a:rPr>
                  <a:t>2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6"/>
            <p:cNvSpPr/>
            <p:nvPr/>
          </p:nvSpPr>
          <p:spPr>
            <a:xfrm>
              <a:off x="739800" y="1614600"/>
              <a:ext cx="7967520" cy="372960"/>
            </a:xfrm>
            <a:prstGeom prst="rect">
              <a:avLst/>
            </a:prstGeom>
            <a:noFill/>
            <a:ln w="38160">
              <a:solidFill>
                <a:srgbClr val="ff9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52"/>
          <p:cNvGrpSpPr/>
          <p:nvPr/>
        </p:nvGrpSpPr>
        <p:grpSpPr>
          <a:xfrm>
            <a:off x="142920" y="1035000"/>
            <a:ext cx="8864640" cy="5637240"/>
            <a:chOff x="142920" y="1035000"/>
            <a:chExt cx="8864640" cy="5637240"/>
          </a:xfrm>
        </p:grpSpPr>
        <p:sp>
          <p:nvSpPr>
            <p:cNvPr id="204" name="Rectangle 5"/>
            <p:cNvSpPr/>
            <p:nvPr/>
          </p:nvSpPr>
          <p:spPr>
            <a:xfrm>
              <a:off x="142920" y="1531800"/>
              <a:ext cx="8864640" cy="514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"/>
            <p:cNvSpPr/>
            <p:nvPr/>
          </p:nvSpPr>
          <p:spPr>
            <a:xfrm>
              <a:off x="261720" y="1035000"/>
              <a:ext cx="86220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ЛИНИЧКЕ ПОСЛЕДИЦЕ СЕКУНДАРНОГ ХИПЕРПАРАТИРЕОИДИЗ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"/>
            <p:cNvSpPr/>
            <p:nvPr/>
          </p:nvSpPr>
          <p:spPr>
            <a:xfrm>
              <a:off x="145800" y="1458720"/>
              <a:ext cx="8861760" cy="0"/>
            </a:xfrm>
            <a:prstGeom prst="line">
              <a:avLst/>
            </a:prstGeom>
            <a:ln w="38160">
              <a:solidFill>
                <a:srgbClr val="ff9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2793960" y="1595160"/>
              <a:ext cx="3549600" cy="696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иперплазија паратиреоиде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нтеза и секреција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Straight Arrow Connector 8"/>
            <p:cNvCxnSpPr/>
            <p:nvPr/>
          </p:nvCxnSpPr>
          <p:spPr>
            <a:xfrm flipV="1">
              <a:off x="4571640" y="2291400"/>
              <a:ext cx="1080" cy="7261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9" name="Rectangle 9"/>
            <p:cNvSpPr/>
            <p:nvPr/>
          </p:nvSpPr>
          <p:spPr>
            <a:xfrm>
              <a:off x="3817800" y="3017880"/>
              <a:ext cx="1530360" cy="696600"/>
            </a:xfrm>
            <a:prstGeom prst="rect">
              <a:avLst/>
            </a:prstGeom>
            <a:solidFill>
              <a:srgbClr val="a50021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1" lang="sr-Latn-C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sr-Latn-C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</a:t>
              </a:r>
              <a:r>
                <a:rPr b="1" i="1" lang="sr-Latn-CS" sz="2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2793960" y="4179960"/>
              <a:ext cx="1531800" cy="696600"/>
            </a:xfrm>
            <a:prstGeom prst="rect">
              <a:avLst/>
            </a:prstGeom>
            <a:solidFill>
              <a:srgbClr val="a50021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1" lang="sr-Latn-C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sr-Latn-C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25D</a:t>
              </a:r>
              <a:r>
                <a:rPr b="1" i="1" lang="sr-Latn-CS" sz="2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"/>
            <p:cNvSpPr/>
            <p:nvPr/>
          </p:nvSpPr>
          <p:spPr>
            <a:xfrm>
              <a:off x="4811760" y="4179960"/>
              <a:ext cx="1531800" cy="696600"/>
            </a:xfrm>
            <a:prstGeom prst="rect">
              <a:avLst/>
            </a:prstGeom>
            <a:solidFill>
              <a:srgbClr val="a50021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1" lang="sr-Latn-C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sr-Latn-C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</a:t>
              </a:r>
              <a:r>
                <a:rPr b="1" i="1" lang="sr-Latn-CS" sz="2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1" i="1" lang="sr-Latn-CS" sz="2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3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>
              <a:off x="3090960" y="5365800"/>
              <a:ext cx="3004920" cy="696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ронична бубрежна инсуфицијенц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3"/>
            <p:cNvCxnSpPr/>
            <p:nvPr/>
          </p:nvCxnSpPr>
          <p:spPr>
            <a:xfrm flipV="1">
              <a:off x="4581360" y="3714480"/>
              <a:ext cx="1080" cy="165024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Straight Connector 14"/>
            <p:cNvSpPr/>
            <p:nvPr/>
          </p:nvSpPr>
          <p:spPr>
            <a:xfrm flipV="1">
              <a:off x="3559320" y="397656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15"/>
            <p:cNvSpPr/>
            <p:nvPr/>
          </p:nvSpPr>
          <p:spPr>
            <a:xfrm>
              <a:off x="3559320" y="3976560"/>
              <a:ext cx="76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Straight Arrow Connector 16"/>
            <p:cNvCxnSpPr/>
            <p:nvPr/>
          </p:nvCxnSpPr>
          <p:spPr>
            <a:xfrm flipV="1">
              <a:off x="4327200" y="3714480"/>
              <a:ext cx="1080" cy="262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Straight Connector 17"/>
            <p:cNvSpPr/>
            <p:nvPr/>
          </p:nvSpPr>
          <p:spPr>
            <a:xfrm flipV="1">
              <a:off x="3309840" y="2714400"/>
              <a:ext cx="0" cy="146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18"/>
            <p:cNvSpPr/>
            <p:nvPr/>
          </p:nvSpPr>
          <p:spPr>
            <a:xfrm>
              <a:off x="3309840" y="2714400"/>
              <a:ext cx="1015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Straight Arrow Connector 19"/>
            <p:cNvCxnSpPr/>
            <p:nvPr/>
          </p:nvCxnSpPr>
          <p:spPr>
            <a:xfrm flipV="1">
              <a:off x="4325760" y="2291400"/>
              <a:ext cx="1080" cy="423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Rectangle 20"/>
            <p:cNvSpPr/>
            <p:nvPr/>
          </p:nvSpPr>
          <p:spPr>
            <a:xfrm>
              <a:off x="261720" y="4179960"/>
              <a:ext cx="2359080" cy="1882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штана бол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teitis fibr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минерализа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штани б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рактур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6494760" y="4179960"/>
              <a:ext cx="2388960" cy="1882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олест крвних судова и срчаних валву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лцификација артериј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лцификација срчаних валву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22"/>
            <p:cNvSpPr/>
            <p:nvPr/>
          </p:nvSpPr>
          <p:spPr>
            <a:xfrm flipV="1">
              <a:off x="3551400" y="4884840"/>
              <a:ext cx="1440" cy="21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23"/>
            <p:cNvSpPr/>
            <p:nvPr/>
          </p:nvSpPr>
          <p:spPr>
            <a:xfrm>
              <a:off x="3552840" y="510228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Straight Arrow Connector 24"/>
            <p:cNvCxnSpPr/>
            <p:nvPr/>
          </p:nvCxnSpPr>
          <p:spPr>
            <a:xfrm flipV="1">
              <a:off x="4320720" y="5101920"/>
              <a:ext cx="1080" cy="262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225" name="Straight Connector 25"/>
            <p:cNvSpPr/>
            <p:nvPr/>
          </p:nvSpPr>
          <p:spPr>
            <a:xfrm flipV="1">
              <a:off x="5577120" y="4876920"/>
              <a:ext cx="0" cy="21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26"/>
            <p:cNvSpPr/>
            <p:nvPr/>
          </p:nvSpPr>
          <p:spPr>
            <a:xfrm>
              <a:off x="4808520" y="509436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Straight Arrow Connector 27"/>
            <p:cNvCxnSpPr/>
            <p:nvPr/>
          </p:nvCxnSpPr>
          <p:spPr>
            <a:xfrm flipV="1">
              <a:off x="4806720" y="5094000"/>
              <a:ext cx="1080" cy="262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228" name="Straight Connector 28"/>
            <p:cNvSpPr/>
            <p:nvPr/>
          </p:nvSpPr>
          <p:spPr>
            <a:xfrm flipV="1">
              <a:off x="5585040" y="397044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29"/>
            <p:cNvSpPr/>
            <p:nvPr/>
          </p:nvSpPr>
          <p:spPr>
            <a:xfrm>
              <a:off x="4815000" y="3970440"/>
              <a:ext cx="766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Straight Arrow Connector 30"/>
            <p:cNvCxnSpPr/>
            <p:nvPr/>
          </p:nvCxnSpPr>
          <p:spPr>
            <a:xfrm flipV="1">
              <a:off x="4812840" y="3708000"/>
              <a:ext cx="1080" cy="262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1" name="Straight Connector 31"/>
            <p:cNvSpPr/>
            <p:nvPr/>
          </p:nvSpPr>
          <p:spPr>
            <a:xfrm flipV="1">
              <a:off x="5842080" y="2714400"/>
              <a:ext cx="0" cy="146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32"/>
            <p:cNvSpPr/>
            <p:nvPr/>
          </p:nvSpPr>
          <p:spPr>
            <a:xfrm>
              <a:off x="4826160" y="2714400"/>
              <a:ext cx="1015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Straight Arrow Connector 33"/>
            <p:cNvCxnSpPr/>
            <p:nvPr/>
          </p:nvCxnSpPr>
          <p:spPr>
            <a:xfrm flipV="1">
              <a:off x="4825800" y="2291400"/>
              <a:ext cx="1080" cy="42300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4" name="Straight Connector 36"/>
            <p:cNvSpPr/>
            <p:nvPr/>
          </p:nvSpPr>
          <p:spPr>
            <a:xfrm>
              <a:off x="7736040" y="1944360"/>
              <a:ext cx="0" cy="2235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37"/>
            <p:cNvSpPr/>
            <p:nvPr/>
          </p:nvSpPr>
          <p:spPr>
            <a:xfrm>
              <a:off x="6345360" y="1944360"/>
              <a:ext cx="139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50"/>
            <p:cNvSpPr/>
            <p:nvPr/>
          </p:nvSpPr>
          <p:spPr>
            <a:xfrm>
              <a:off x="1412640" y="1944360"/>
              <a:ext cx="1388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51"/>
            <p:cNvSpPr/>
            <p:nvPr/>
          </p:nvSpPr>
          <p:spPr>
            <a:xfrm>
              <a:off x="1412640" y="1944360"/>
              <a:ext cx="0" cy="2235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2"/>
          <p:cNvGrpSpPr/>
          <p:nvPr/>
        </p:nvGrpSpPr>
        <p:grpSpPr>
          <a:xfrm>
            <a:off x="214200" y="1106640"/>
            <a:ext cx="8683560" cy="3730320"/>
            <a:chOff x="214200" y="1106640"/>
            <a:chExt cx="8683560" cy="3730320"/>
          </a:xfrm>
        </p:grpSpPr>
        <p:sp>
          <p:nvSpPr>
            <p:cNvPr id="239" name="Rectangle 2"/>
            <p:cNvSpPr/>
            <p:nvPr/>
          </p:nvSpPr>
          <p:spPr>
            <a:xfrm>
              <a:off x="214200" y="16455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fb1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ИГИЈЕНСКО-ДИЈЕТЕТСКИ РЕЖ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"/>
            <p:cNvSpPr/>
            <p:nvPr/>
          </p:nvSpPr>
          <p:spPr>
            <a:xfrm>
              <a:off x="214200" y="210132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ронична бубрежна инсуфицијенција-стадијум 1-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"/>
            <p:cNvSpPr/>
            <p:nvPr/>
          </p:nvSpPr>
          <p:spPr>
            <a:xfrm>
              <a:off x="214200" y="255708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2" marL="914400">
                <a:buClr>
                  <a:srgbClr val="ff9fb1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отеини: 0.8-1.0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g/kg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/да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"/>
            <p:cNvSpPr/>
            <p:nvPr/>
          </p:nvSpPr>
          <p:spPr>
            <a:xfrm>
              <a:off x="214200" y="301284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2" marL="914400" indent="-465120">
                <a:buClr>
                  <a:srgbClr val="ff9fb1"/>
                </a:buClr>
                <a:buFont typeface="Wingdings" charset="2"/>
                <a:buChar char="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ронична бубрежна инсуфицијенција-стадијум 4-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"/>
            <p:cNvSpPr/>
            <p:nvPr/>
          </p:nvSpPr>
          <p:spPr>
            <a:xfrm>
              <a:off x="214200" y="346860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2" marL="914400">
                <a:buClr>
                  <a:srgbClr val="ff9fb1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отеини: 0.6-0.75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g/kg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/да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"/>
            <p:cNvSpPr/>
            <p:nvPr/>
          </p:nvSpPr>
          <p:spPr>
            <a:xfrm>
              <a:off x="214200" y="392400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атријум: &lt; 2.0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/дан (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90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mmol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/дан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"/>
            <p:cNvSpPr/>
            <p:nvPr/>
          </p:nvSpPr>
          <p:spPr>
            <a:xfrm>
              <a:off x="214200" y="4381560"/>
              <a:ext cx="867744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buClr>
                  <a:srgbClr val="ff9fb1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фосфат: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800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/да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030"/>
            <p:cNvSpPr/>
            <p:nvPr/>
          </p:nvSpPr>
          <p:spPr>
            <a:xfrm>
              <a:off x="217080" y="1553400"/>
              <a:ext cx="8680680" cy="0"/>
            </a:xfrm>
            <a:prstGeom prst="line">
              <a:avLst/>
            </a:prstGeom>
            <a:ln w="38160">
              <a:solidFill>
                <a:srgbClr val="ff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217080" y="1106640"/>
              <a:ext cx="86742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ЛЕЧЕЊЕ ХРОНИЧНЕ БУБРЕЖНЕ ИНСУФИЦИЈЕНЦИЈ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3"/>
          <p:cNvGrpSpPr/>
          <p:nvPr/>
        </p:nvGrpSpPr>
        <p:grpSpPr>
          <a:xfrm>
            <a:off x="297000" y="870120"/>
            <a:ext cx="8564400" cy="5662440"/>
            <a:chOff x="297000" y="870120"/>
            <a:chExt cx="8564400" cy="5662440"/>
          </a:xfrm>
        </p:grpSpPr>
        <p:grpSp>
          <p:nvGrpSpPr>
            <p:cNvPr id="249" name="Group 75"/>
            <p:cNvGrpSpPr/>
            <p:nvPr/>
          </p:nvGrpSpPr>
          <p:grpSpPr>
            <a:xfrm>
              <a:off x="297000" y="870120"/>
              <a:ext cx="8564400" cy="5662440"/>
              <a:chOff x="297000" y="870120"/>
              <a:chExt cx="8564400" cy="5662440"/>
            </a:xfrm>
          </p:grpSpPr>
          <p:sp>
            <p:nvSpPr>
              <p:cNvPr id="250" name="Rectangle 3"/>
              <p:cNvSpPr/>
              <p:nvPr/>
            </p:nvSpPr>
            <p:spPr>
              <a:xfrm>
                <a:off x="377640" y="1538280"/>
                <a:ext cx="8389800" cy="49942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t">
                <a:normAutofit/>
              </a:bodyPr>
              <a:p>
                <a:pPr marL="239760" indent="-239760">
                  <a:buClr>
                    <a:srgbClr val="ff6363"/>
                  </a:buClr>
                  <a:buSzPct val="70000"/>
                  <a:buFont typeface="Wingdings" charset="2"/>
                  <a:buChar char=""/>
                  <a:tabLst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4"/>
              <p:cNvSpPr/>
              <p:nvPr/>
            </p:nvSpPr>
            <p:spPr>
              <a:xfrm>
                <a:off x="297000" y="870120"/>
                <a:ext cx="8564400" cy="80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ЛЕЧЕЊЕ АНЕМИЈЕ-ХРОНИЧНА БУБРЕЖНА ИНСУФИЦИЈЕНЦ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5"/>
              <p:cNvSpPr/>
              <p:nvPr/>
            </p:nvSpPr>
            <p:spPr>
              <a:xfrm>
                <a:off x="377640" y="1470600"/>
                <a:ext cx="8389800" cy="0"/>
              </a:xfrm>
              <a:prstGeom prst="line">
                <a:avLst/>
              </a:prstGeom>
              <a:ln w="57240">
                <a:solidFill>
                  <a:srgbClr val="ff6f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ctangle 8"/>
            <p:cNvSpPr/>
            <p:nvPr/>
          </p:nvSpPr>
          <p:spPr>
            <a:xfrm>
              <a:off x="595440" y="1679760"/>
              <a:ext cx="2975040" cy="56988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ffffff"/>
                  </a:solidFill>
                  <a:latin typeface="Arial"/>
                </a:rPr>
                <a:t>Врста еритропоет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3570480" y="1679760"/>
              <a:ext cx="2801880" cy="569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ницијална д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372360" y="1679760"/>
              <a:ext cx="2190600" cy="569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Учесталост озе одржавањ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595440" y="2249640"/>
              <a:ext cx="2975040" cy="406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Епоетин-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3570480" y="2249640"/>
              <a:ext cx="2801880" cy="406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IU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, 3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3"/>
            <p:cNvSpPr/>
            <p:nvPr/>
          </p:nvSpPr>
          <p:spPr>
            <a:xfrm>
              <a:off x="6372360" y="2249640"/>
              <a:ext cx="2190600" cy="406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-3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595440" y="2656080"/>
              <a:ext cx="297504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Епоетин-</a:t>
              </a:r>
              <a:r>
                <a:rPr b="1" i="1" lang="sr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8"/>
            <p:cNvSpPr/>
            <p:nvPr/>
          </p:nvSpPr>
          <p:spPr>
            <a:xfrm>
              <a:off x="3570480" y="2656080"/>
              <a:ext cx="280188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20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IU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, 3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9"/>
            <p:cNvSpPr/>
            <p:nvPr/>
          </p:nvSpPr>
          <p:spPr>
            <a:xfrm>
              <a:off x="6372360" y="2656080"/>
              <a:ext cx="219060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-3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0"/>
            <p:cNvSpPr/>
            <p:nvPr/>
          </p:nvSpPr>
          <p:spPr>
            <a:xfrm>
              <a:off x="595440" y="3060720"/>
              <a:ext cx="297504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Епоетин-</a:t>
              </a:r>
              <a:r>
                <a:rPr b="1" lang="sr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1"/>
            <p:cNvSpPr/>
            <p:nvPr/>
          </p:nvSpPr>
          <p:spPr>
            <a:xfrm>
              <a:off x="3570480" y="3060720"/>
              <a:ext cx="280188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IU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, 2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2"/>
            <p:cNvSpPr/>
            <p:nvPr/>
          </p:nvSpPr>
          <p:spPr>
            <a:xfrm>
              <a:off x="6372360" y="3060720"/>
              <a:ext cx="219060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-3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3"/>
            <p:cNvSpPr/>
            <p:nvPr/>
          </p:nvSpPr>
          <p:spPr>
            <a:xfrm>
              <a:off x="595440" y="3465720"/>
              <a:ext cx="2975040" cy="598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Дарбепоетин-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3570480" y="3465720"/>
              <a:ext cx="2801880" cy="598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0.45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, 1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0.75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, 1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2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5"/>
            <p:cNvSpPr/>
            <p:nvPr/>
          </p:nvSpPr>
          <p:spPr>
            <a:xfrm>
              <a:off x="6372360" y="3465720"/>
              <a:ext cx="2190600" cy="598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2 неде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месеч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595440" y="4064040"/>
              <a:ext cx="297504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CERA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7"/>
            <p:cNvSpPr/>
            <p:nvPr/>
          </p:nvSpPr>
          <p:spPr>
            <a:xfrm>
              <a:off x="3570480" y="4064040"/>
              <a:ext cx="280188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0.6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g/k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, 1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2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ељ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6372360" y="4064040"/>
              <a:ext cx="2190600" cy="40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есеч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595440" y="4469040"/>
              <a:ext cx="7967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RS" sz="1200" spc="-1" strike="noStrike">
                  <a:solidFill>
                    <a:srgbClr val="000000"/>
                  </a:solidFill>
                  <a:latin typeface="Arial"/>
                </a:rPr>
                <a:t>CERA</a:t>
              </a:r>
              <a:r>
                <a:rPr b="1" i="1" lang="sr-R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R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R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200" spc="-1" strike="noStrike">
                  <a:solidFill>
                    <a:srgbClr val="000000"/>
                  </a:solidFill>
                  <a:latin typeface="Arial"/>
                </a:rPr>
                <a:t>Continuous Erythropoetin Receptor Activ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87280" y="1703520"/>
            <a:ext cx="3175200" cy="455400"/>
          </a:xfrm>
          <a:prstGeom prst="rect">
            <a:avLst/>
          </a:prstGeom>
          <a:solidFill>
            <a:srgbClr val="c00000"/>
          </a:solidFill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зачи фосф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30"/>
          <p:cNvSpPr/>
          <p:nvPr/>
        </p:nvSpPr>
        <p:spPr>
          <a:xfrm>
            <a:off x="290520" y="1554120"/>
            <a:ext cx="8418600" cy="0"/>
          </a:xfrm>
          <a:prstGeom prst="line">
            <a:avLst/>
          </a:prstGeom>
          <a:ln w="38160">
            <a:solidFill>
              <a:srgbClr val="ff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87280" y="1106640"/>
            <a:ext cx="8421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ЧЕ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КУНДАРНОГ ХИПЕРПАРАТИРЕОИД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462480" y="1703520"/>
            <a:ext cx="298116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лик/ја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6445080" y="1703520"/>
            <a:ext cx="225612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зир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287280" y="2158920"/>
            <a:ext cx="317520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уминијум хидрокс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462480" y="2158920"/>
            <a:ext cx="298116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пс. 4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6445080" y="2158920"/>
            <a:ext cx="225612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287280" y="2614680"/>
            <a:ext cx="3175200" cy="457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лцијум карбо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462480" y="2614680"/>
            <a:ext cx="2981160" cy="457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. 5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6445080" y="2614680"/>
            <a:ext cx="2256120" cy="457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-6.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287280" y="3071880"/>
            <a:ext cx="317664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лцијум аце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3462480" y="3071880"/>
            <a:ext cx="298116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. 5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6443640" y="3071880"/>
            <a:ext cx="225756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-6.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287280" y="3527280"/>
            <a:ext cx="317664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ламер хидро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3462480" y="3527280"/>
            <a:ext cx="298116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. 4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,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6445080" y="3527280"/>
            <a:ext cx="225612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-4.8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87280" y="3983040"/>
            <a:ext cx="317664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ламер карбо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462480" y="3983040"/>
            <a:ext cx="298116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. 80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445080" y="3983040"/>
            <a:ext cx="2256120" cy="45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-4.8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287280" y="4438800"/>
            <a:ext cx="317664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нтанум карбо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462480" y="4438800"/>
            <a:ext cx="298116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. 25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g, 500 m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6445080" y="4438800"/>
            <a:ext cx="2256120" cy="455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-3.0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5"/>
          <p:cNvGrpSpPr/>
          <p:nvPr/>
        </p:nvGrpSpPr>
        <p:grpSpPr>
          <a:xfrm>
            <a:off x="287280" y="1106640"/>
            <a:ext cx="8421840" cy="4214520"/>
            <a:chOff x="287280" y="1106640"/>
            <a:chExt cx="8421840" cy="4214520"/>
          </a:xfrm>
        </p:grpSpPr>
        <p:grpSp>
          <p:nvGrpSpPr>
            <p:cNvPr id="296" name="Group 31"/>
            <p:cNvGrpSpPr/>
            <p:nvPr/>
          </p:nvGrpSpPr>
          <p:grpSpPr>
            <a:xfrm>
              <a:off x="287280" y="1106640"/>
              <a:ext cx="8421840" cy="2874600"/>
              <a:chOff x="287280" y="1106640"/>
              <a:chExt cx="8421840" cy="2874600"/>
            </a:xfrm>
          </p:grpSpPr>
          <p:sp>
            <p:nvSpPr>
              <p:cNvPr id="297" name="Rectangle 2"/>
              <p:cNvSpPr/>
              <p:nvPr/>
            </p:nvSpPr>
            <p:spPr>
              <a:xfrm>
                <a:off x="287280" y="1703520"/>
                <a:ext cx="3175200" cy="45540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Витамин 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030"/>
              <p:cNvSpPr/>
              <p:nvPr/>
            </p:nvSpPr>
            <p:spPr>
              <a:xfrm>
                <a:off x="290160" y="1553400"/>
                <a:ext cx="8418960" cy="0"/>
              </a:xfrm>
              <a:prstGeom prst="line">
                <a:avLst/>
              </a:prstGeom>
              <a:ln w="38160">
                <a:solidFill>
                  <a:srgbClr val="ff69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"/>
              <p:cNvSpPr/>
              <p:nvPr/>
            </p:nvSpPr>
            <p:spPr>
              <a:xfrm>
                <a:off x="290160" y="1106640"/>
                <a:ext cx="841896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ЛЕЧЕЊЕ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СЕКУНДАРНОГ ХИПЕРПАРАТИРЕОИДИЗМ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"/>
              <p:cNvSpPr/>
              <p:nvPr/>
            </p:nvSpPr>
            <p:spPr>
              <a:xfrm>
                <a:off x="3462480" y="1703520"/>
                <a:ext cx="32418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Облик/јачи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"/>
              <p:cNvSpPr/>
              <p:nvPr/>
            </p:nvSpPr>
            <p:spPr>
              <a:xfrm>
                <a:off x="6706080" y="1703520"/>
                <a:ext cx="199512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Дозирањ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"/>
              <p:cNvSpPr/>
              <p:nvPr/>
            </p:nvSpPr>
            <p:spPr>
              <a:xfrm>
                <a:off x="287280" y="2159280"/>
                <a:ext cx="31752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алцитрио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2"/>
              <p:cNvSpPr/>
              <p:nvPr/>
            </p:nvSpPr>
            <p:spPr>
              <a:xfrm>
                <a:off x="3462480" y="2159280"/>
                <a:ext cx="32418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табл. 0.2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,0.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"/>
              <p:cNvSpPr/>
              <p:nvPr/>
            </p:nvSpPr>
            <p:spPr>
              <a:xfrm>
                <a:off x="6706080" y="2159280"/>
                <a:ext cx="199512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2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/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"/>
              <p:cNvSpPr/>
              <p:nvPr/>
            </p:nvSpPr>
            <p:spPr>
              <a:xfrm>
                <a:off x="287280" y="2614680"/>
                <a:ext cx="31752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Алфакалцидо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2"/>
              <p:cNvSpPr/>
              <p:nvPr/>
            </p:nvSpPr>
            <p:spPr>
              <a:xfrm>
                <a:off x="3462480" y="2614680"/>
                <a:ext cx="32418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апс. 0.2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, 0.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, 1.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2"/>
              <p:cNvSpPr/>
              <p:nvPr/>
            </p:nvSpPr>
            <p:spPr>
              <a:xfrm>
                <a:off x="6706080" y="2614680"/>
                <a:ext cx="199512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.2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/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"/>
              <p:cNvSpPr/>
              <p:nvPr/>
            </p:nvSpPr>
            <p:spPr>
              <a:xfrm>
                <a:off x="287640" y="3070440"/>
                <a:ext cx="31752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арикалцитро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2"/>
              <p:cNvSpPr/>
              <p:nvPr/>
            </p:nvSpPr>
            <p:spPr>
              <a:xfrm>
                <a:off x="3462480" y="3070440"/>
                <a:ext cx="324252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апс. 1.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, 2.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, 5.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2"/>
              <p:cNvSpPr/>
              <p:nvPr/>
            </p:nvSpPr>
            <p:spPr>
              <a:xfrm>
                <a:off x="6704640" y="3070440"/>
                <a:ext cx="199692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.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/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"/>
              <p:cNvSpPr/>
              <p:nvPr/>
            </p:nvSpPr>
            <p:spPr>
              <a:xfrm>
                <a:off x="287640" y="3525840"/>
                <a:ext cx="31752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Доксеркалциферо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"/>
              <p:cNvSpPr/>
              <p:nvPr/>
            </p:nvSpPr>
            <p:spPr>
              <a:xfrm>
                <a:off x="3462480" y="3525840"/>
                <a:ext cx="324180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апс. 0.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, 1.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, 2.5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"/>
              <p:cNvSpPr/>
              <p:nvPr/>
            </p:nvSpPr>
            <p:spPr>
              <a:xfrm>
                <a:off x="6706440" y="3525840"/>
                <a:ext cx="1995120" cy="45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1.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/д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"/>
            <p:cNvSpPr/>
            <p:nvPr/>
          </p:nvSpPr>
          <p:spPr>
            <a:xfrm>
              <a:off x="294480" y="4410360"/>
              <a:ext cx="3175200" cy="45540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Калцимиметиц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"/>
            <p:cNvSpPr/>
            <p:nvPr/>
          </p:nvSpPr>
          <p:spPr>
            <a:xfrm>
              <a:off x="3469680" y="4410360"/>
              <a:ext cx="324180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лик/јач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"/>
            <p:cNvSpPr/>
            <p:nvPr/>
          </p:nvSpPr>
          <p:spPr>
            <a:xfrm>
              <a:off x="6713640" y="4410360"/>
              <a:ext cx="199512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зирањ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"/>
            <p:cNvSpPr/>
            <p:nvPr/>
          </p:nvSpPr>
          <p:spPr>
            <a:xfrm>
              <a:off x="294840" y="4865760"/>
              <a:ext cx="317520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инакалц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"/>
            <p:cNvSpPr/>
            <p:nvPr/>
          </p:nvSpPr>
          <p:spPr>
            <a:xfrm>
              <a:off x="3470400" y="4865760"/>
              <a:ext cx="324180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бл.3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6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9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"/>
            <p:cNvSpPr/>
            <p:nvPr/>
          </p:nvSpPr>
          <p:spPr>
            <a:xfrm>
              <a:off x="6714000" y="4865760"/>
              <a:ext cx="1994760" cy="45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д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8"/>
          <p:cNvGrpSpPr/>
          <p:nvPr/>
        </p:nvGrpSpPr>
        <p:grpSpPr>
          <a:xfrm>
            <a:off x="276120" y="1049400"/>
            <a:ext cx="8591760" cy="5576760"/>
            <a:chOff x="276120" y="1049400"/>
            <a:chExt cx="8591760" cy="5576760"/>
          </a:xfrm>
        </p:grpSpPr>
        <p:sp>
          <p:nvSpPr>
            <p:cNvPr id="321" name="Rectangle 5"/>
            <p:cNvSpPr/>
            <p:nvPr/>
          </p:nvSpPr>
          <p:spPr>
            <a:xfrm>
              <a:off x="276120" y="1625400"/>
              <a:ext cx="8548920" cy="5000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"/>
            <p:cNvSpPr/>
            <p:nvPr/>
          </p:nvSpPr>
          <p:spPr>
            <a:xfrm>
              <a:off x="318960" y="1049400"/>
              <a:ext cx="84920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ЕТОДЕ ЛЕЧЕЊА ЗА ЗАМЕНУ ФУНКЦИЈЕ БУБРЕ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"/>
            <p:cNvSpPr/>
            <p:nvPr/>
          </p:nvSpPr>
          <p:spPr>
            <a:xfrm flipV="1">
              <a:off x="276120" y="1558440"/>
              <a:ext cx="8548920" cy="144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"/>
            <p:cNvSpPr/>
            <p:nvPr/>
          </p:nvSpPr>
          <p:spPr>
            <a:xfrm>
              <a:off x="276120" y="1625400"/>
              <a:ext cx="8591760" cy="50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buClr>
                  <a:srgbClr val="ff797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ДИКАЦИЈЕ ЗА ХЕМОДИЈАЛИЗ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979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РОНИЧНИ ПРОГРАМ ХЕМОДИЈАЛИЗ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buClr>
                  <a:srgbClr val="ff7979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довно праћење болесника болесника са Х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buClr>
                  <a:srgbClr val="ff797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нцентрација креатинина у серум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70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buClr>
                  <a:srgbClr val="ff797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лиренс ендогеног креатинина-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CC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1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l/min/1.73m</a:t>
              </a:r>
              <a:r>
                <a:rPr b="1" i="1" lang="sr-Latn-C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дијабетес мелиту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CC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= 15-2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l/min/1.73m</a:t>
              </a:r>
              <a:r>
                <a:rPr b="1" i="1" lang="sr-Latn-C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иперволем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buClr>
                  <a:srgbClr val="ff797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линичко стање болесни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м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алаксало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мањена физичка активно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убитак концентра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падање менталних функ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ука, гађење, повраћањ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утитак телесне мас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ксуална дисфунк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стне проме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 algn="just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7"/>
          <p:cNvGrpSpPr/>
          <p:nvPr/>
        </p:nvGrpSpPr>
        <p:grpSpPr>
          <a:xfrm>
            <a:off x="222120" y="1063800"/>
            <a:ext cx="8696520" cy="5554440"/>
            <a:chOff x="222120" y="1063800"/>
            <a:chExt cx="8696520" cy="5554440"/>
          </a:xfrm>
        </p:grpSpPr>
        <p:sp>
          <p:nvSpPr>
            <p:cNvPr id="46" name="Rectangle 3"/>
            <p:cNvSpPr/>
            <p:nvPr/>
          </p:nvSpPr>
          <p:spPr>
            <a:xfrm>
              <a:off x="222120" y="1063800"/>
              <a:ext cx="8696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ХРОНИЧНА 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УБРЕЖНА ИНСУФИЦИЈЕНЦИЈА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28240" y="1556280"/>
              <a:ext cx="8660160" cy="5061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34"/>
            <p:cNvGrpSpPr/>
            <p:nvPr/>
          </p:nvGrpSpPr>
          <p:grpSpPr>
            <a:xfrm>
              <a:off x="395640" y="1758240"/>
              <a:ext cx="8310960" cy="1880640"/>
              <a:chOff x="395640" y="1758240"/>
              <a:chExt cx="8310960" cy="1880640"/>
            </a:xfrm>
          </p:grpSpPr>
          <p:sp>
            <p:nvSpPr>
              <p:cNvPr id="49" name="Rectangle 8"/>
              <p:cNvSpPr/>
              <p:nvPr/>
            </p:nvSpPr>
            <p:spPr>
              <a:xfrm>
                <a:off x="395640" y="1758240"/>
                <a:ext cx="2162160" cy="65232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ffffff"/>
                    </a:solidFill>
                    <a:latin typeface="Arial"/>
                  </a:rPr>
                  <a:t>ПОПУЛАЦ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9"/>
              <p:cNvSpPr/>
              <p:nvPr/>
            </p:nvSpPr>
            <p:spPr>
              <a:xfrm>
                <a:off x="2556360" y="1759680"/>
                <a:ext cx="2098800" cy="65052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ffffff"/>
                    </a:solidFill>
                    <a:latin typeface="Arial"/>
                  </a:rPr>
                  <a:t>СВЕ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0"/>
              <p:cNvSpPr/>
              <p:nvPr/>
            </p:nvSpPr>
            <p:spPr>
              <a:xfrm>
                <a:off x="4655520" y="1759680"/>
                <a:ext cx="2025360" cy="65052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ffffff"/>
                    </a:solidFill>
                    <a:latin typeface="Arial"/>
                  </a:rPr>
                  <a:t>СА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1"/>
              <p:cNvSpPr/>
              <p:nvPr/>
            </p:nvSpPr>
            <p:spPr>
              <a:xfrm>
                <a:off x="6680160" y="1759680"/>
                <a:ext cx="2026440" cy="65052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ffffff"/>
                    </a:solidFill>
                    <a:latin typeface="Arial"/>
                  </a:rPr>
                  <a:t>ЕВРОП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395640" y="2410560"/>
                <a:ext cx="2162160" cy="40932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Општа попула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2556360" y="2410560"/>
                <a:ext cx="2098800" cy="4093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6.0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4655520" y="2410560"/>
                <a:ext cx="2025360" cy="4093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389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6680160" y="2410560"/>
                <a:ext cx="2026440" cy="4093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8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8"/>
              <p:cNvSpPr/>
              <p:nvPr/>
            </p:nvSpPr>
            <p:spPr>
              <a:xfrm>
                <a:off x="395640" y="2818440"/>
                <a:ext cx="2162160" cy="41112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ffffff"/>
                    </a:solidFill>
                    <a:latin typeface="Arial"/>
                  </a:rPr>
                  <a:t>ЈГФ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&lt;</a:t>
                </a:r>
                <a:r>
                  <a:rPr b="1" lang="sr-Latn-C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60 </a:t>
                </a:r>
                <a:r>
                  <a:rPr b="1" i="1" lang="sr-Latn-C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l/min</a:t>
                </a:r>
                <a:r>
                  <a:rPr b="1" lang="sr-Latn-C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(4.7%)</a:t>
                </a:r>
                <a:r>
                  <a:rPr b="1" lang="sr-Latn-CS" sz="1400" spc="-1" strike="noStrike" baseline="30000">
                    <a:solidFill>
                      <a:srgbClr val="ffffff"/>
                    </a:solidFill>
                    <a:latin typeface="Arial"/>
                    <a:ea typeface="Arial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>
                <a:off x="2556360" y="2819520"/>
                <a:ext cx="2098800" cy="41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282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>
                <a:off x="4655520" y="2819520"/>
                <a:ext cx="2025360" cy="41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18.283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>
                <a:off x="6680160" y="2819520"/>
                <a:ext cx="2026440" cy="41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37.6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3"/>
              <p:cNvSpPr/>
              <p:nvPr/>
            </p:nvSpPr>
            <p:spPr>
              <a:xfrm>
                <a:off x="395640" y="3227760"/>
                <a:ext cx="2162160" cy="41112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дијум 5 (ЕСРД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4"/>
              <p:cNvSpPr/>
              <p:nvPr/>
            </p:nvSpPr>
            <p:spPr>
              <a:xfrm>
                <a:off x="2556360" y="3228840"/>
                <a:ext cx="2098800" cy="41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1.75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5"/>
              <p:cNvSpPr/>
              <p:nvPr/>
            </p:nvSpPr>
            <p:spPr>
              <a:xfrm>
                <a:off x="4655520" y="3228840"/>
                <a:ext cx="2025360" cy="41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335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6"/>
              <p:cNvSpPr/>
              <p:nvPr/>
            </p:nvSpPr>
            <p:spPr>
              <a:xfrm>
                <a:off x="6680160" y="3228840"/>
                <a:ext cx="2026440" cy="41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35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Line 4"/>
            <p:cNvSpPr/>
            <p:nvPr/>
          </p:nvSpPr>
          <p:spPr>
            <a:xfrm>
              <a:off x="228240" y="1482480"/>
              <a:ext cx="866016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407160" y="3646800"/>
              <a:ext cx="83156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САД - Сједињене Америчке Државе, ЈГФ - јачина гломерулске филтрације, ЕСРД - завршни стадијум хроничне болести бубрег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- базирано на епидемиолошким подацима СА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44"/>
          <p:cNvGrpSpPr/>
          <p:nvPr/>
        </p:nvGrpSpPr>
        <p:grpSpPr>
          <a:xfrm>
            <a:off x="201600" y="1028880"/>
            <a:ext cx="8739360" cy="5243400"/>
            <a:chOff x="201600" y="1028880"/>
            <a:chExt cx="8739360" cy="5243400"/>
          </a:xfrm>
        </p:grpSpPr>
        <p:sp>
          <p:nvSpPr>
            <p:cNvPr id="326" name="Rectangle 4"/>
            <p:cNvSpPr/>
            <p:nvPr/>
          </p:nvSpPr>
          <p:spPr>
            <a:xfrm>
              <a:off x="857880" y="1028880"/>
              <a:ext cx="76338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РАН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ОТКРИВАЊЕ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БОЛЕСТИ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БУБРЕГ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201600" y="1512000"/>
              <a:ext cx="873720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20"/>
            <p:cNvGrpSpPr/>
            <p:nvPr/>
          </p:nvGrpSpPr>
          <p:grpSpPr>
            <a:xfrm>
              <a:off x="202320" y="1623600"/>
              <a:ext cx="8738640" cy="4648680"/>
              <a:chOff x="202320" y="1623600"/>
              <a:chExt cx="8738640" cy="4648680"/>
            </a:xfrm>
          </p:grpSpPr>
          <p:sp>
            <p:nvSpPr>
              <p:cNvPr id="329" name="Rectangle 7"/>
              <p:cNvSpPr/>
              <p:nvPr/>
            </p:nvSpPr>
            <p:spPr>
              <a:xfrm>
                <a:off x="203760" y="1623600"/>
                <a:ext cx="4162320" cy="58068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ОСОБЕ СА ПОВЕЋАНИМ РИЗИКОМ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"/>
              <p:cNvSpPr/>
              <p:nvPr/>
            </p:nvSpPr>
            <p:spPr>
              <a:xfrm>
                <a:off x="4365360" y="1623600"/>
                <a:ext cx="4575600" cy="58068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СКРИНИНГ ЗА РАНО ДИЈАГНОСТИКОВАЊЕ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"/>
              <p:cNvSpPr/>
              <p:nvPr/>
            </p:nvSpPr>
            <p:spPr>
              <a:xfrm>
                <a:off x="203760" y="2204280"/>
                <a:ext cx="4162320" cy="5824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хипертензија и/или КВС болести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1"/>
              <p:cNvSpPr/>
              <p:nvPr/>
            </p:nvSpPr>
            <p:spPr>
              <a:xfrm>
                <a:off x="4613040" y="2206080"/>
                <a:ext cx="4327920" cy="581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роцена бубрежне функц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Cockcroft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-Gaul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ова 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формула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2"/>
              <p:cNvSpPr/>
              <p:nvPr/>
            </p:nvSpPr>
            <p:spPr>
              <a:xfrm>
                <a:off x="202320" y="2786760"/>
                <a:ext cx="416304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дијабетес мелиту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3"/>
              <p:cNvSpPr/>
              <p:nvPr/>
            </p:nvSpPr>
            <p:spPr>
              <a:xfrm>
                <a:off x="4613760" y="2787840"/>
                <a:ext cx="432720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реглед мокраће тест трака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(протеинурија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4"/>
              <p:cNvSpPr/>
              <p:nvPr/>
            </p:nvSpPr>
            <p:spPr>
              <a:xfrm>
                <a:off x="202320" y="3367800"/>
                <a:ext cx="416304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системске болести (СЛЕ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5"/>
              <p:cNvSpPr/>
              <p:nvPr/>
            </p:nvSpPr>
            <p:spPr>
              <a:xfrm>
                <a:off x="4613040" y="3368520"/>
                <a:ext cx="432792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роцена микроалбуминур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6"/>
              <p:cNvSpPr/>
              <p:nvPr/>
            </p:nvSpPr>
            <p:spPr>
              <a:xfrm>
                <a:off x="202320" y="3948840"/>
                <a:ext cx="416304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старост преко 60 год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7"/>
              <p:cNvSpPr/>
              <p:nvPr/>
            </p:nvSpPr>
            <p:spPr>
              <a:xfrm>
                <a:off x="4613040" y="3949560"/>
                <a:ext cx="432792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реглед седимента мокраћ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8"/>
              <p:cNvSpPr/>
              <p:nvPr/>
            </p:nvSpPr>
            <p:spPr>
              <a:xfrm>
                <a:off x="202320" y="4529520"/>
                <a:ext cx="416304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озитивна породична анамнез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9"/>
              <p:cNvSpPr/>
              <p:nvPr/>
            </p:nvSpPr>
            <p:spPr>
              <a:xfrm>
                <a:off x="4613040" y="4530600"/>
                <a:ext cx="4327920" cy="5799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мерење артеријског крвног притис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20"/>
              <p:cNvSpPr/>
              <p:nvPr/>
            </p:nvSpPr>
            <p:spPr>
              <a:xfrm>
                <a:off x="202320" y="5110560"/>
                <a:ext cx="416304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учесталост инфекција мокраћних путе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21"/>
              <p:cNvSpPr/>
              <p:nvPr/>
            </p:nvSpPr>
            <p:spPr>
              <a:xfrm>
                <a:off x="4613040" y="5111280"/>
                <a:ext cx="432792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реглед бубрега и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мокраћних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утева ултразвуко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22"/>
              <p:cNvSpPr/>
              <p:nvPr/>
            </p:nvSpPr>
            <p:spPr>
              <a:xfrm>
                <a:off x="202320" y="5691600"/>
                <a:ext cx="4163040" cy="5806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изложеност дејству нефротоксичних леко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83"/>
          <p:cNvGrpSpPr/>
          <p:nvPr/>
        </p:nvGrpSpPr>
        <p:grpSpPr>
          <a:xfrm>
            <a:off x="179280" y="990720"/>
            <a:ext cx="8790120" cy="5613120"/>
            <a:chOff x="179280" y="990720"/>
            <a:chExt cx="8790120" cy="5613120"/>
          </a:xfrm>
        </p:grpSpPr>
        <p:sp>
          <p:nvSpPr>
            <p:cNvPr id="345" name="Rectangle 3"/>
            <p:cNvSpPr/>
            <p:nvPr/>
          </p:nvSpPr>
          <p:spPr>
            <a:xfrm>
              <a:off x="217080" y="990720"/>
              <a:ext cx="87523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КЛАСИФИКАЦИЈА СТАДИЈУМА ХРОНИЧНЕ БОЛЕСТИ БУБРЕГА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4"/>
            <p:cNvSpPr/>
            <p:nvPr/>
          </p:nvSpPr>
          <p:spPr>
            <a:xfrm>
              <a:off x="179280" y="1411560"/>
              <a:ext cx="8761680" cy="144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Group 30" descr=""/>
            <p:cNvPicPr/>
            <p:nvPr/>
          </p:nvPicPr>
          <p:blipFill>
            <a:blip r:embed="rId1"/>
            <a:stretch/>
          </p:blipFill>
          <p:spPr>
            <a:xfrm>
              <a:off x="292320" y="1530000"/>
              <a:ext cx="85896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Rectangle 30"/>
            <p:cNvSpPr/>
            <p:nvPr/>
          </p:nvSpPr>
          <p:spPr>
            <a:xfrm>
              <a:off x="203040" y="1483920"/>
              <a:ext cx="8709480" cy="5119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94"/>
          <p:cNvGrpSpPr/>
          <p:nvPr/>
        </p:nvGrpSpPr>
        <p:grpSpPr>
          <a:xfrm>
            <a:off x="174600" y="1108080"/>
            <a:ext cx="8766360" cy="5510160"/>
            <a:chOff x="174600" y="1108080"/>
            <a:chExt cx="8766360" cy="5510160"/>
          </a:xfrm>
        </p:grpSpPr>
        <p:sp>
          <p:nvSpPr>
            <p:cNvPr id="350" name="Rectangle 5"/>
            <p:cNvSpPr/>
            <p:nvPr/>
          </p:nvSpPr>
          <p:spPr>
            <a:xfrm>
              <a:off x="2725560" y="1108080"/>
              <a:ext cx="33670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СКРИНИН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ЗА ПРОТЕИНУРИЈ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4395960" y="1455840"/>
              <a:ext cx="0" cy="18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3290760" y="1644840"/>
              <a:ext cx="2212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3286080" y="164628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5505480" y="1644840"/>
              <a:ext cx="0" cy="18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2292120" y="1849680"/>
              <a:ext cx="1971720" cy="27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РИЗИК ОДСУ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4508640" y="1849680"/>
              <a:ext cx="1971720" cy="27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РИЗИК ПРИСУ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1557360" y="2428920"/>
              <a:ext cx="2205000" cy="392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стандардне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тест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трак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5396040" y="2438640"/>
              <a:ext cx="2205000" cy="392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тест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траке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за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албуми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 flipH="1">
              <a:off x="2960640" y="2183040"/>
              <a:ext cx="333360" cy="17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5"/>
            <p:cNvSpPr/>
            <p:nvPr/>
          </p:nvSpPr>
          <p:spPr>
            <a:xfrm>
              <a:off x="5500800" y="2183040"/>
              <a:ext cx="349200" cy="18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820440" y="3111480"/>
              <a:ext cx="16826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позитиван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1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7"/>
            <p:cNvSpPr/>
            <p:nvPr/>
          </p:nvSpPr>
          <p:spPr>
            <a:xfrm>
              <a:off x="2787480" y="3106800"/>
              <a:ext cx="16826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негативан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нала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8"/>
            <p:cNvSpPr/>
            <p:nvPr/>
          </p:nvSpPr>
          <p:spPr>
            <a:xfrm>
              <a:off x="4683240" y="3102120"/>
              <a:ext cx="16826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негативан нала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9"/>
            <p:cNvSpPr/>
            <p:nvPr/>
          </p:nvSpPr>
          <p:spPr>
            <a:xfrm>
              <a:off x="6650280" y="3102120"/>
              <a:ext cx="16826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позитиван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нала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0"/>
            <p:cNvSpPr/>
            <p:nvPr/>
          </p:nvSpPr>
          <p:spPr>
            <a:xfrm>
              <a:off x="693720" y="3706920"/>
              <a:ext cx="1930320" cy="43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ffff"/>
                  </a:solidFill>
                  <a:latin typeface="Arial"/>
                </a:rPr>
                <a:t>протеин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1" lang="sr-Latn-CS" sz="1500" spc="-1" strike="noStrike">
                  <a:solidFill>
                    <a:srgbClr val="ffffff"/>
                  </a:solidFill>
                  <a:latin typeface="Arial"/>
                </a:rPr>
                <a:t>креатини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1"/>
            <p:cNvSpPr/>
            <p:nvPr/>
          </p:nvSpPr>
          <p:spPr>
            <a:xfrm>
              <a:off x="1666800" y="3389400"/>
              <a:ext cx="0" cy="27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2"/>
            <p:cNvSpPr/>
            <p:nvPr/>
          </p:nvSpPr>
          <p:spPr>
            <a:xfrm>
              <a:off x="6526440" y="3716280"/>
              <a:ext cx="1930320" cy="43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ffffff"/>
                  </a:solidFill>
                  <a:latin typeface="Arial"/>
                </a:rPr>
                <a:t>албумин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1" lang="sr-Latn-CS" sz="1500" spc="-1" strike="noStrike">
                  <a:solidFill>
                    <a:srgbClr val="ffffff"/>
                  </a:solidFill>
                  <a:latin typeface="Arial"/>
                </a:rPr>
                <a:t>креатини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3"/>
            <p:cNvSpPr/>
            <p:nvPr/>
          </p:nvSpPr>
          <p:spPr>
            <a:xfrm>
              <a:off x="7493400" y="3392640"/>
              <a:ext cx="0" cy="27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4"/>
            <p:cNvSpPr/>
            <p:nvPr/>
          </p:nvSpPr>
          <p:spPr>
            <a:xfrm>
              <a:off x="382320" y="4540320"/>
              <a:ext cx="1204920" cy="507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gt; 200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mg/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5"/>
            <p:cNvSpPr/>
            <p:nvPr/>
          </p:nvSpPr>
          <p:spPr>
            <a:xfrm>
              <a:off x="1801800" y="4537080"/>
              <a:ext cx="1204920" cy="507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≤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0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mg/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6"/>
            <p:cNvSpPr/>
            <p:nvPr/>
          </p:nvSpPr>
          <p:spPr>
            <a:xfrm>
              <a:off x="6216840" y="4543560"/>
              <a:ext cx="1204920" cy="50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≤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g/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7"/>
            <p:cNvSpPr/>
            <p:nvPr/>
          </p:nvSpPr>
          <p:spPr>
            <a:xfrm>
              <a:off x="7574040" y="4538880"/>
              <a:ext cx="1204920" cy="50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3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g/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8"/>
            <p:cNvSpPr/>
            <p:nvPr/>
          </p:nvSpPr>
          <p:spPr>
            <a:xfrm>
              <a:off x="2728800" y="5419800"/>
              <a:ext cx="3745080" cy="420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поновити за годину д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"/>
            <p:cNvSpPr/>
            <p:nvPr/>
          </p:nvSpPr>
          <p:spPr>
            <a:xfrm>
              <a:off x="2104920" y="5999400"/>
              <a:ext cx="4948200" cy="436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ffffff"/>
                  </a:solidFill>
                  <a:latin typeface="Arial"/>
                </a:rPr>
                <a:t>КОМПЛЕТНА ДИЈАГНОСТИ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3632040" y="3470400"/>
              <a:ext cx="0" cy="18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2"/>
            <p:cNvSpPr/>
            <p:nvPr/>
          </p:nvSpPr>
          <p:spPr>
            <a:xfrm>
              <a:off x="5526360" y="3441960"/>
              <a:ext cx="0" cy="18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3"/>
            <p:cNvSpPr/>
            <p:nvPr/>
          </p:nvSpPr>
          <p:spPr>
            <a:xfrm>
              <a:off x="2357280" y="5067360"/>
              <a:ext cx="0" cy="55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4"/>
            <p:cNvSpPr/>
            <p:nvPr/>
          </p:nvSpPr>
          <p:spPr>
            <a:xfrm>
              <a:off x="2357280" y="5618160"/>
              <a:ext cx="347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5"/>
            <p:cNvSpPr/>
            <p:nvPr/>
          </p:nvSpPr>
          <p:spPr>
            <a:xfrm>
              <a:off x="6820200" y="5050080"/>
              <a:ext cx="0" cy="57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6"/>
            <p:cNvSpPr/>
            <p:nvPr/>
          </p:nvSpPr>
          <p:spPr>
            <a:xfrm>
              <a:off x="6489720" y="5627880"/>
              <a:ext cx="32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7"/>
            <p:cNvSpPr/>
            <p:nvPr/>
          </p:nvSpPr>
          <p:spPr>
            <a:xfrm>
              <a:off x="1665000" y="4143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8"/>
            <p:cNvSpPr/>
            <p:nvPr/>
          </p:nvSpPr>
          <p:spPr>
            <a:xfrm>
              <a:off x="988920" y="4300560"/>
              <a:ext cx="1357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9"/>
            <p:cNvSpPr/>
            <p:nvPr/>
          </p:nvSpPr>
          <p:spPr>
            <a:xfrm>
              <a:off x="988920" y="4300560"/>
              <a:ext cx="0" cy="22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0"/>
            <p:cNvSpPr/>
            <p:nvPr/>
          </p:nvSpPr>
          <p:spPr>
            <a:xfrm>
              <a:off x="2347920" y="4300560"/>
              <a:ext cx="0" cy="22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41"/>
            <p:cNvSpPr/>
            <p:nvPr/>
          </p:nvSpPr>
          <p:spPr>
            <a:xfrm>
              <a:off x="982440" y="5048280"/>
              <a:ext cx="0" cy="116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42"/>
            <p:cNvSpPr/>
            <p:nvPr/>
          </p:nvSpPr>
          <p:spPr>
            <a:xfrm>
              <a:off x="982440" y="6212160"/>
              <a:ext cx="110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3"/>
            <p:cNvSpPr/>
            <p:nvPr/>
          </p:nvSpPr>
          <p:spPr>
            <a:xfrm>
              <a:off x="7494840" y="4152960"/>
              <a:ext cx="0" cy="14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4"/>
            <p:cNvSpPr/>
            <p:nvPr/>
          </p:nvSpPr>
          <p:spPr>
            <a:xfrm>
              <a:off x="6823440" y="4300560"/>
              <a:ext cx="1357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5"/>
            <p:cNvSpPr/>
            <p:nvPr/>
          </p:nvSpPr>
          <p:spPr>
            <a:xfrm>
              <a:off x="6823440" y="4300560"/>
              <a:ext cx="0" cy="22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6"/>
            <p:cNvSpPr/>
            <p:nvPr/>
          </p:nvSpPr>
          <p:spPr>
            <a:xfrm>
              <a:off x="8190360" y="4300560"/>
              <a:ext cx="0" cy="22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7"/>
            <p:cNvSpPr/>
            <p:nvPr/>
          </p:nvSpPr>
          <p:spPr>
            <a:xfrm>
              <a:off x="8179200" y="5048280"/>
              <a:ext cx="0" cy="116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8"/>
            <p:cNvSpPr/>
            <p:nvPr/>
          </p:nvSpPr>
          <p:spPr>
            <a:xfrm>
              <a:off x="7064640" y="6212160"/>
              <a:ext cx="1110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9"/>
            <p:cNvSpPr/>
            <p:nvPr/>
          </p:nvSpPr>
          <p:spPr>
            <a:xfrm>
              <a:off x="6500880" y="2830680"/>
              <a:ext cx="0" cy="11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524560" y="2954520"/>
              <a:ext cx="19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5524560" y="2954520"/>
              <a:ext cx="0" cy="18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491600" y="2954520"/>
              <a:ext cx="0" cy="18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3"/>
            <p:cNvSpPr/>
            <p:nvPr/>
          </p:nvSpPr>
          <p:spPr>
            <a:xfrm>
              <a:off x="2638440" y="2830680"/>
              <a:ext cx="0" cy="11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>
              <a:off x="1662120" y="2954520"/>
              <a:ext cx="1966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>
              <a:off x="1662120" y="2954520"/>
              <a:ext cx="0" cy="18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>
              <a:off x="3629160" y="2954520"/>
              <a:ext cx="0" cy="18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7"/>
            <p:cNvSpPr/>
            <p:nvPr/>
          </p:nvSpPr>
          <p:spPr>
            <a:xfrm>
              <a:off x="288720" y="3497400"/>
              <a:ext cx="2801880" cy="172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0"/>
            <p:cNvSpPr/>
            <p:nvPr/>
          </p:nvSpPr>
          <p:spPr>
            <a:xfrm>
              <a:off x="174600" y="1122480"/>
              <a:ext cx="8766360" cy="5495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7"/>
          <p:cNvGrpSpPr/>
          <p:nvPr/>
        </p:nvGrpSpPr>
        <p:grpSpPr>
          <a:xfrm>
            <a:off x="174600" y="1147680"/>
            <a:ext cx="8780400" cy="5456160"/>
            <a:chOff x="174600" y="1147680"/>
            <a:chExt cx="8780400" cy="5456160"/>
          </a:xfrm>
        </p:grpSpPr>
        <p:grpSp>
          <p:nvGrpSpPr>
            <p:cNvPr id="404" name="Group 25"/>
            <p:cNvGrpSpPr/>
            <p:nvPr/>
          </p:nvGrpSpPr>
          <p:grpSpPr>
            <a:xfrm>
              <a:off x="174600" y="1147680"/>
              <a:ext cx="8780400" cy="5456160"/>
              <a:chOff x="174600" y="1147680"/>
              <a:chExt cx="8780400" cy="5456160"/>
            </a:xfrm>
          </p:grpSpPr>
          <p:sp>
            <p:nvSpPr>
              <p:cNvPr id="405" name="Rectangle 4"/>
              <p:cNvSpPr/>
              <p:nvPr/>
            </p:nvSpPr>
            <p:spPr>
              <a:xfrm>
                <a:off x="233280" y="1147680"/>
                <a:ext cx="863028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00"/>
                    </a:solidFill>
                    <a:latin typeface="Arial"/>
                  </a:rPr>
                  <a:t>ДЕФИНИЦИЈА МИКРОАЛБУМИНУРИЈЕ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5"/>
              <p:cNvSpPr/>
              <p:nvPr/>
            </p:nvSpPr>
            <p:spPr>
              <a:xfrm>
                <a:off x="174600" y="1657080"/>
                <a:ext cx="8774640" cy="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7" name="Group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4760" y="1785960"/>
                <a:ext cx="8760240" cy="403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9"/>
              <p:cNvSpPr/>
              <p:nvPr/>
            </p:nvSpPr>
            <p:spPr>
              <a:xfrm>
                <a:off x="186840" y="6270120"/>
                <a:ext cx="264600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р - креатини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30"/>
              <p:cNvSpPr/>
              <p:nvPr/>
            </p:nvSpPr>
            <p:spPr>
              <a:xfrm>
                <a:off x="174600" y="1717200"/>
                <a:ext cx="8760240" cy="4886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Rectangle 26"/>
            <p:cNvSpPr/>
            <p:nvPr/>
          </p:nvSpPr>
          <p:spPr>
            <a:xfrm>
              <a:off x="233280" y="2468520"/>
              <a:ext cx="8632800" cy="661680"/>
            </a:xfrm>
            <a:prstGeom prst="rect">
              <a:avLst/>
            </a:prstGeom>
            <a:noFill/>
            <a:ln w="3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7"/>
          <p:cNvGrpSpPr/>
          <p:nvPr/>
        </p:nvGrpSpPr>
        <p:grpSpPr>
          <a:xfrm>
            <a:off x="174600" y="1131840"/>
            <a:ext cx="8780400" cy="5472000"/>
            <a:chOff x="174600" y="1131840"/>
            <a:chExt cx="8780400" cy="5472000"/>
          </a:xfrm>
        </p:grpSpPr>
        <p:sp>
          <p:nvSpPr>
            <p:cNvPr id="412" name="Rectangle 3"/>
            <p:cNvSpPr/>
            <p:nvPr/>
          </p:nvSpPr>
          <p:spPr>
            <a:xfrm>
              <a:off x="233280" y="1131840"/>
              <a:ext cx="8636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СТАДИЈУМИ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ДИЈАБЕТЕСНЕ НЕФРОПАТИЈ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4"/>
            <p:cNvSpPr/>
            <p:nvPr/>
          </p:nvSpPr>
          <p:spPr>
            <a:xfrm>
              <a:off x="174600" y="161208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"/>
            <p:cNvGrpSpPr/>
            <p:nvPr/>
          </p:nvGrpSpPr>
          <p:grpSpPr>
            <a:xfrm>
              <a:off x="274320" y="1789560"/>
              <a:ext cx="8577360" cy="2282760"/>
              <a:chOff x="274320" y="1789560"/>
              <a:chExt cx="8577360" cy="2282760"/>
            </a:xfrm>
          </p:grpSpPr>
          <p:sp>
            <p:nvSpPr>
              <p:cNvPr id="415" name="Rectangle 7"/>
              <p:cNvSpPr/>
              <p:nvPr/>
            </p:nvSpPr>
            <p:spPr>
              <a:xfrm>
                <a:off x="274320" y="1791000"/>
                <a:ext cx="2859120" cy="5018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700" spc="-1" strike="noStrike">
                    <a:solidFill>
                      <a:srgbClr val="ffffff"/>
                    </a:solidFill>
                    <a:latin typeface="Arial"/>
                  </a:rPr>
                  <a:t>СТЕПЕН АЛБУМИНУРИЈЕ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8"/>
              <p:cNvSpPr/>
              <p:nvPr/>
            </p:nvSpPr>
            <p:spPr>
              <a:xfrm>
                <a:off x="3133440" y="1789560"/>
                <a:ext cx="3063960" cy="5000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оштећење бубрег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9"/>
              <p:cNvSpPr/>
              <p:nvPr/>
            </p:nvSpPr>
            <p:spPr>
              <a:xfrm>
                <a:off x="6197400" y="1789560"/>
                <a:ext cx="2654280" cy="501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лбумин/</a:t>
                </a: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24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0"/>
              <p:cNvSpPr/>
              <p:nvPr/>
            </p:nvSpPr>
            <p:spPr>
              <a:xfrm>
                <a:off x="274320" y="2291040"/>
                <a:ext cx="2859120" cy="5968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700" spc="-1" strike="noStrike">
                    <a:solidFill>
                      <a:srgbClr val="ffffff"/>
                    </a:solidFill>
                    <a:latin typeface="Arial"/>
                  </a:rPr>
                  <a:t>НОРМОАЛБУМИНУРИЈ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1"/>
              <p:cNvSpPr/>
              <p:nvPr/>
            </p:nvSpPr>
            <p:spPr>
              <a:xfrm>
                <a:off x="3133440" y="2289600"/>
                <a:ext cx="3295440" cy="5983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нема оштећењ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"/>
              <p:cNvSpPr/>
              <p:nvPr/>
            </p:nvSpPr>
            <p:spPr>
              <a:xfrm>
                <a:off x="6197400" y="2289600"/>
                <a:ext cx="2654280" cy="5983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g/24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3"/>
              <p:cNvSpPr/>
              <p:nvPr/>
            </p:nvSpPr>
            <p:spPr>
              <a:xfrm>
                <a:off x="274320" y="2887920"/>
                <a:ext cx="2859120" cy="59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700" spc="-1" strike="noStrike">
                    <a:solidFill>
                      <a:srgbClr val="ffffff"/>
                    </a:solidFill>
                    <a:latin typeface="Arial"/>
                  </a:rPr>
                  <a:t>МИКРОАЛБУМИНУРИЈ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4"/>
              <p:cNvSpPr/>
              <p:nvPr/>
            </p:nvSpPr>
            <p:spPr>
              <a:xfrm>
                <a:off x="3133440" y="2887920"/>
                <a:ext cx="3295440" cy="5907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инципијентна нефропатиј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5"/>
              <p:cNvSpPr/>
              <p:nvPr/>
            </p:nvSpPr>
            <p:spPr>
              <a:xfrm>
                <a:off x="6197400" y="2887920"/>
                <a:ext cx="2654280" cy="5907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-30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g/24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6"/>
              <p:cNvSpPr/>
              <p:nvPr/>
            </p:nvSpPr>
            <p:spPr>
              <a:xfrm>
                <a:off x="274320" y="3478680"/>
                <a:ext cx="2859120" cy="5936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700" spc="-1" strike="noStrike">
                    <a:solidFill>
                      <a:srgbClr val="ffffff"/>
                    </a:solidFill>
                    <a:latin typeface="Arial"/>
                  </a:rPr>
                  <a:t>МАКРОА</a:t>
                </a:r>
                <a:r>
                  <a:rPr b="1" lang="en-US" sz="1700" spc="-1" strike="noStrike">
                    <a:solidFill>
                      <a:srgbClr val="ffffff"/>
                    </a:solidFill>
                    <a:latin typeface="Arial"/>
                  </a:rPr>
                  <a:t>Л</a:t>
                </a:r>
                <a:r>
                  <a:rPr b="1" lang="sr-Latn-CS" sz="1700" spc="-1" strike="noStrike">
                    <a:solidFill>
                      <a:srgbClr val="ffffff"/>
                    </a:solidFill>
                    <a:latin typeface="Arial"/>
                  </a:rPr>
                  <a:t>БУМИНУРИЈ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7"/>
              <p:cNvSpPr/>
              <p:nvPr/>
            </p:nvSpPr>
            <p:spPr>
              <a:xfrm>
                <a:off x="3133440" y="3478680"/>
                <a:ext cx="3295440" cy="5936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клиничка нефропатиј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8"/>
              <p:cNvSpPr/>
              <p:nvPr/>
            </p:nvSpPr>
            <p:spPr>
              <a:xfrm>
                <a:off x="6197400" y="3478680"/>
                <a:ext cx="2654280" cy="5936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0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g/24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30"/>
            <p:cNvSpPr/>
            <p:nvPr/>
          </p:nvSpPr>
          <p:spPr>
            <a:xfrm>
              <a:off x="174600" y="1666080"/>
              <a:ext cx="8766360" cy="4937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3"/>
          <p:cNvGrpSpPr/>
          <p:nvPr/>
        </p:nvGrpSpPr>
        <p:grpSpPr>
          <a:xfrm>
            <a:off x="719280" y="1117440"/>
            <a:ext cx="7684920" cy="5602320"/>
            <a:chOff x="719280" y="1117440"/>
            <a:chExt cx="7684920" cy="5602320"/>
          </a:xfrm>
        </p:grpSpPr>
        <p:sp>
          <p:nvSpPr>
            <p:cNvPr id="429" name="Rectangle 64"/>
            <p:cNvSpPr/>
            <p:nvPr/>
          </p:nvSpPr>
          <p:spPr>
            <a:xfrm>
              <a:off x="2826360" y="1117440"/>
              <a:ext cx="3033360" cy="4129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300" spc="-1" strike="noStrike">
                  <a:solidFill>
                    <a:srgbClr val="ffffff"/>
                  </a:solidFill>
                  <a:latin typeface="Arial"/>
                </a:rPr>
                <a:t>МИКРОСКОПСКА ХЕМАТУРИЈ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&gt;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 5 еритроцита (400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68"/>
            <p:cNvSpPr/>
            <p:nvPr/>
          </p:nvSpPr>
          <p:spPr>
            <a:xfrm>
              <a:off x="2826360" y="1755720"/>
              <a:ext cx="3033360" cy="78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анамнеза, физикални преглед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лабораторијска испитивања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ехо уротракта, нативни снима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уротра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70"/>
            <p:cNvSpPr/>
            <p:nvPr/>
          </p:nvSpPr>
          <p:spPr>
            <a:xfrm>
              <a:off x="4340520" y="1540080"/>
              <a:ext cx="0" cy="20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71"/>
            <p:cNvSpPr/>
            <p:nvPr/>
          </p:nvSpPr>
          <p:spPr>
            <a:xfrm>
              <a:off x="2826360" y="2770200"/>
              <a:ext cx="3033360" cy="612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фазно-контраст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72"/>
            <p:cNvSpPr/>
            <p:nvPr/>
          </p:nvSpPr>
          <p:spPr>
            <a:xfrm>
              <a:off x="4350240" y="2549520"/>
              <a:ext cx="0" cy="20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73"/>
            <p:cNvSpPr/>
            <p:nvPr/>
          </p:nvSpPr>
          <p:spPr>
            <a:xfrm>
              <a:off x="4345560" y="3386160"/>
              <a:ext cx="0" cy="198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4"/>
            <p:cNvSpPr/>
            <p:nvPr/>
          </p:nvSpPr>
          <p:spPr>
            <a:xfrm>
              <a:off x="2613600" y="3586320"/>
              <a:ext cx="343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75"/>
            <p:cNvSpPr/>
            <p:nvPr/>
          </p:nvSpPr>
          <p:spPr>
            <a:xfrm>
              <a:off x="2612880" y="3586320"/>
              <a:ext cx="0" cy="20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>
              <a:off x="6054120" y="3585600"/>
              <a:ext cx="0" cy="20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77"/>
            <p:cNvSpPr/>
            <p:nvPr/>
          </p:nvSpPr>
          <p:spPr>
            <a:xfrm>
              <a:off x="1100160" y="3794400"/>
              <a:ext cx="3033360" cy="961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ГЛОМЕРУЛСКА ХЕМАТУР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 80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%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р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њеног обл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 5%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антоцита у мокраћ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еритроцитни цилинд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9"/>
            <p:cNvSpPr/>
            <p:nvPr/>
          </p:nvSpPr>
          <p:spPr>
            <a:xfrm flipH="1">
              <a:off x="2613600" y="2151360"/>
              <a:ext cx="203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0"/>
            <p:cNvSpPr/>
            <p:nvPr/>
          </p:nvSpPr>
          <p:spPr>
            <a:xfrm flipH="1">
              <a:off x="5864400" y="2151360"/>
              <a:ext cx="203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1"/>
            <p:cNvSpPr/>
            <p:nvPr/>
          </p:nvSpPr>
          <p:spPr>
            <a:xfrm>
              <a:off x="719280" y="1643040"/>
              <a:ext cx="1894320" cy="1022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Поремећај коагулациј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900" spc="-1" strike="noStrike">
                  <a:solidFill>
                    <a:srgbClr val="000000"/>
                  </a:solidFill>
                  <a:latin typeface="Arial"/>
                </a:rPr>
                <a:t>тромбоцити, време крварењ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PTT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анемија српастих ћел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електрофореза хемоглоби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HbS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3"/>
            <p:cNvSpPr/>
            <p:nvPr/>
          </p:nvSpPr>
          <p:spPr>
            <a:xfrm flipH="1">
              <a:off x="1718280" y="3484800"/>
              <a:ext cx="2622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84"/>
            <p:cNvSpPr/>
            <p:nvPr/>
          </p:nvSpPr>
          <p:spPr>
            <a:xfrm flipV="1">
              <a:off x="1699200" y="2671560"/>
              <a:ext cx="0" cy="81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87"/>
            <p:cNvSpPr/>
            <p:nvPr/>
          </p:nvSpPr>
          <p:spPr>
            <a:xfrm>
              <a:off x="6099480" y="1859040"/>
              <a:ext cx="1809360" cy="583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Уролош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поремећај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9"/>
            <p:cNvSpPr/>
            <p:nvPr/>
          </p:nvSpPr>
          <p:spPr>
            <a:xfrm>
              <a:off x="4534200" y="3794400"/>
              <a:ext cx="3033360" cy="358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НЕГЛОМЕРУЛСКА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ХЕМАТУР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0"/>
            <p:cNvSpPr/>
            <p:nvPr/>
          </p:nvSpPr>
          <p:spPr>
            <a:xfrm>
              <a:off x="4534200" y="4397400"/>
              <a:ext cx="3033360" cy="358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уролошка испитивањ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92"/>
            <p:cNvSpPr/>
            <p:nvPr/>
          </p:nvSpPr>
          <p:spPr>
            <a:xfrm>
              <a:off x="6056640" y="4165920"/>
              <a:ext cx="0" cy="20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93"/>
            <p:cNvSpPr/>
            <p:nvPr/>
          </p:nvSpPr>
          <p:spPr>
            <a:xfrm>
              <a:off x="8099640" y="2151360"/>
              <a:ext cx="0" cy="243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94"/>
            <p:cNvSpPr/>
            <p:nvPr/>
          </p:nvSpPr>
          <p:spPr>
            <a:xfrm flipH="1">
              <a:off x="7565760" y="4583160"/>
              <a:ext cx="533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95"/>
            <p:cNvSpPr/>
            <p:nvPr/>
          </p:nvSpPr>
          <p:spPr>
            <a:xfrm>
              <a:off x="1102320" y="4864320"/>
              <a:ext cx="3033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96"/>
            <p:cNvSpPr/>
            <p:nvPr/>
          </p:nvSpPr>
          <p:spPr>
            <a:xfrm>
              <a:off x="2614320" y="4772160"/>
              <a:ext cx="0" cy="20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97"/>
            <p:cNvSpPr/>
            <p:nvPr/>
          </p:nvSpPr>
          <p:spPr>
            <a:xfrm>
              <a:off x="6053400" y="4754880"/>
              <a:ext cx="0" cy="17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8"/>
            <p:cNvSpPr/>
            <p:nvPr/>
          </p:nvSpPr>
          <p:spPr>
            <a:xfrm>
              <a:off x="5110560" y="4937400"/>
              <a:ext cx="1914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9"/>
            <p:cNvSpPr/>
            <p:nvPr/>
          </p:nvSpPr>
          <p:spPr>
            <a:xfrm>
              <a:off x="5109120" y="4939560"/>
              <a:ext cx="0" cy="13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01"/>
            <p:cNvSpPr/>
            <p:nvPr/>
          </p:nvSpPr>
          <p:spPr>
            <a:xfrm>
              <a:off x="4490640" y="5091480"/>
              <a:ext cx="1240200" cy="38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одрасли стар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45 год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03"/>
            <p:cNvSpPr/>
            <p:nvPr/>
          </p:nvSpPr>
          <p:spPr>
            <a:xfrm>
              <a:off x="6426360" y="5091480"/>
              <a:ext cx="1203840" cy="38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одрасли стар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45 год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04"/>
            <p:cNvSpPr/>
            <p:nvPr/>
          </p:nvSpPr>
          <p:spPr>
            <a:xfrm>
              <a:off x="5109120" y="5475600"/>
              <a:ext cx="0" cy="13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05"/>
            <p:cNvSpPr/>
            <p:nvPr/>
          </p:nvSpPr>
          <p:spPr>
            <a:xfrm>
              <a:off x="4537440" y="5599440"/>
              <a:ext cx="11365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калциур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урикозур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07"/>
            <p:cNvSpPr/>
            <p:nvPr/>
          </p:nvSpPr>
          <p:spPr>
            <a:xfrm>
              <a:off x="5864400" y="5637600"/>
              <a:ext cx="2539800" cy="10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алциуриј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урикозур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цистоскоп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пијелограф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RPG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по 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Schewas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бубрег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ангиограф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09"/>
            <p:cNvSpPr/>
            <p:nvPr/>
          </p:nvSpPr>
          <p:spPr>
            <a:xfrm>
              <a:off x="7027200" y="5475600"/>
              <a:ext cx="0" cy="13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10"/>
            <p:cNvSpPr/>
            <p:nvPr/>
          </p:nvSpPr>
          <p:spPr>
            <a:xfrm>
              <a:off x="7025040" y="4937400"/>
              <a:ext cx="0" cy="13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11"/>
            <p:cNvSpPr/>
            <p:nvPr/>
          </p:nvSpPr>
          <p:spPr>
            <a:xfrm>
              <a:off x="7909200" y="2149560"/>
              <a:ext cx="190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15"/>
            <p:cNvSpPr/>
            <p:nvPr/>
          </p:nvSpPr>
          <p:spPr>
            <a:xfrm>
              <a:off x="1199160" y="3295080"/>
              <a:ext cx="1002960" cy="37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ffffff"/>
                  </a:solidFill>
                  <a:latin typeface="Arial"/>
                </a:rPr>
                <a:t>дрепаноцити 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ffffff"/>
                  </a:solidFill>
                  <a:latin typeface="Arial"/>
                </a:rPr>
                <a:t>мокраћ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57"/>
          <p:cNvGrpSpPr/>
          <p:nvPr/>
        </p:nvGrpSpPr>
        <p:grpSpPr>
          <a:xfrm>
            <a:off x="174600" y="996840"/>
            <a:ext cx="8788320" cy="5666040"/>
            <a:chOff x="174600" y="996840"/>
            <a:chExt cx="8788320" cy="5666040"/>
          </a:xfrm>
        </p:grpSpPr>
        <p:sp>
          <p:nvSpPr>
            <p:cNvPr id="465" name="Rectangle 2"/>
            <p:cNvSpPr/>
            <p:nvPr/>
          </p:nvSpPr>
          <p:spPr>
            <a:xfrm>
              <a:off x="285480" y="996840"/>
              <a:ext cx="8570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КРИТЕРИЈУМИ ЗА ГЛОМЕРУЛСКУ ХЕМАТУРИ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"/>
            <p:cNvSpPr/>
            <p:nvPr/>
          </p:nvSpPr>
          <p:spPr>
            <a:xfrm>
              <a:off x="174600" y="152532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"/>
            <p:cNvSpPr/>
            <p:nvPr/>
          </p:nvSpPr>
          <p:spPr>
            <a:xfrm>
              <a:off x="177480" y="1625400"/>
              <a:ext cx="8785440" cy="5037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42"/>
            <p:cNvGrpSpPr/>
            <p:nvPr/>
          </p:nvGrpSpPr>
          <p:grpSpPr>
            <a:xfrm>
              <a:off x="285480" y="1829520"/>
              <a:ext cx="8570880" cy="2512440"/>
              <a:chOff x="285480" y="1829520"/>
              <a:chExt cx="8570880" cy="2512440"/>
            </a:xfrm>
          </p:grpSpPr>
          <p:grpSp>
            <p:nvGrpSpPr>
              <p:cNvPr id="469" name="Group 7"/>
              <p:cNvGrpSpPr/>
              <p:nvPr/>
            </p:nvGrpSpPr>
            <p:grpSpPr>
              <a:xfrm>
                <a:off x="285480" y="1829520"/>
                <a:ext cx="8570880" cy="520200"/>
                <a:chOff x="285480" y="1829520"/>
                <a:chExt cx="8570880" cy="520200"/>
              </a:xfrm>
            </p:grpSpPr>
            <p:sp>
              <p:nvSpPr>
                <p:cNvPr id="470" name="Rectangle 8"/>
                <p:cNvSpPr/>
                <p:nvPr/>
              </p:nvSpPr>
              <p:spPr>
                <a:xfrm>
                  <a:off x="285480" y="1829520"/>
                  <a:ext cx="4302000" cy="52020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ffffff"/>
                      </a:solidFill>
                      <a:latin typeface="Arial"/>
                    </a:rPr>
                    <a:t>ГЛОМЕРУЛСКА МИКРОХЕМАТУР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"/>
                <p:cNvSpPr/>
                <p:nvPr/>
              </p:nvSpPr>
              <p:spPr>
                <a:xfrm>
                  <a:off x="4588920" y="1829520"/>
                  <a:ext cx="4267440" cy="52020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ffffff"/>
                      </a:solidFill>
                      <a:latin typeface="Arial"/>
                    </a:rPr>
                    <a:t>НЕГЛОМЕРУЛСКА МИКРОХЕМАТУР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Rectangle 11"/>
              <p:cNvSpPr/>
              <p:nvPr/>
            </p:nvSpPr>
            <p:spPr>
              <a:xfrm>
                <a:off x="697320" y="2349360"/>
                <a:ext cx="389052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еритроцитни цилиндри присутн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2"/>
              <p:cNvSpPr/>
              <p:nvPr/>
            </p:nvSpPr>
            <p:spPr>
              <a:xfrm>
                <a:off x="4587840" y="2349360"/>
                <a:ext cx="389160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еритроцитни цилиндри одсутн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0"/>
              <p:cNvSpPr/>
              <p:nvPr/>
            </p:nvSpPr>
            <p:spPr>
              <a:xfrm>
                <a:off x="697320" y="2682000"/>
                <a:ext cx="389016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еритроцити измењеног облика (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80%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1"/>
              <p:cNvSpPr/>
              <p:nvPr/>
            </p:nvSpPr>
            <p:spPr>
              <a:xfrm>
                <a:off x="4589280" y="2682000"/>
                <a:ext cx="388908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еритроцити нормалног обл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32"/>
              <p:cNvSpPr/>
              <p:nvPr/>
            </p:nvSpPr>
            <p:spPr>
              <a:xfrm>
                <a:off x="697320" y="3016080"/>
                <a:ext cx="389160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кантоцитурија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33"/>
              <p:cNvSpPr/>
              <p:nvPr/>
            </p:nvSpPr>
            <p:spPr>
              <a:xfrm>
                <a:off x="4589280" y="3016080"/>
                <a:ext cx="388944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акантоцитурија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697320" y="3349080"/>
                <a:ext cx="389088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</a:t>
                </a:r>
                <a:r>
                  <a:rPr b="1" i="1" lang="sr-Latn-C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MCV</a:t>
                </a:r>
                <a:r>
                  <a:rPr b="1" lang="sr-Latn-C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72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36"/>
              <p:cNvSpPr/>
              <p:nvPr/>
            </p:nvSpPr>
            <p:spPr>
              <a:xfrm>
                <a:off x="4588560" y="3349080"/>
                <a:ext cx="389088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1" i="1" lang="sr-Latn-CS" sz="1600" spc="-1" strike="noStrike" baseline="-25000">
                    <a:solidFill>
                      <a:srgbClr val="000000"/>
                    </a:solidFill>
                    <a:latin typeface="Arial"/>
                  </a:rPr>
                  <a:t>MCV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72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f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38"/>
              <p:cNvSpPr/>
              <p:nvPr/>
            </p:nvSpPr>
            <p:spPr>
              <a:xfrm>
                <a:off x="697320" y="3682440"/>
                <a:ext cx="389088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</a:t>
                </a:r>
                <a:r>
                  <a:rPr b="1" i="1" lang="sr-Latn-C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MCV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B</a:t>
                </a:r>
                <a:r>
                  <a:rPr b="1" i="1" lang="sr-Latn-C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MCV</a:t>
                </a:r>
                <a:r>
                  <a:rPr b="1" lang="sr-Latn-CS" sz="16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39"/>
              <p:cNvSpPr/>
              <p:nvPr/>
            </p:nvSpPr>
            <p:spPr>
              <a:xfrm>
                <a:off x="4588560" y="3682440"/>
                <a:ext cx="3890880" cy="3333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1" i="1" lang="sr-Latn-CS" sz="1600" spc="-1" strike="noStrike" baseline="-25000">
                    <a:solidFill>
                      <a:srgbClr val="000000"/>
                    </a:solidFill>
                    <a:latin typeface="Arial"/>
                  </a:rPr>
                  <a:t>MCV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/B</a:t>
                </a:r>
                <a:r>
                  <a:rPr b="1" i="1" lang="sr-Latn-CS" sz="1600" spc="-1" strike="noStrike" baseline="-25000">
                    <a:solidFill>
                      <a:srgbClr val="000000"/>
                    </a:solidFill>
                    <a:latin typeface="Arial"/>
                  </a:rPr>
                  <a:t>MCV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47"/>
              <p:cNvSpPr/>
              <p:nvPr/>
            </p:nvSpPr>
            <p:spPr>
              <a:xfrm>
                <a:off x="610920" y="4035600"/>
                <a:ext cx="777888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ЕРИТРОЦИТНИ ИНДЕКСИ: </a:t>
                </a:r>
                <a:r>
                  <a:rPr b="1" i="1" lang="sr-Latn-C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1" i="1" lang="sr-Latn-CS" sz="1000" spc="-1" strike="noStrike" baseline="-25000">
                    <a:solidFill>
                      <a:srgbClr val="000000"/>
                    </a:solidFill>
                    <a:latin typeface="Arial"/>
                  </a:rPr>
                  <a:t>MCV</a:t>
                </a: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 - просечна запремина еритроцита из урина, </a:t>
                </a:r>
                <a:r>
                  <a:rPr b="1" i="1" lang="sr-Latn-C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i="1" lang="sr-Latn-CS" sz="1000" spc="-1" strike="noStrike" baseline="-25000">
                    <a:solidFill>
                      <a:srgbClr val="000000"/>
                    </a:solidFill>
                    <a:latin typeface="Arial"/>
                  </a:rPr>
                  <a:t>MCV</a:t>
                </a: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 - просечна запремина еритроцита из крв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3"/>
          <p:cNvGrpSpPr/>
          <p:nvPr/>
        </p:nvGrpSpPr>
        <p:grpSpPr>
          <a:xfrm>
            <a:off x="385920" y="996840"/>
            <a:ext cx="8448480" cy="5693040"/>
            <a:chOff x="385920" y="996840"/>
            <a:chExt cx="8448480" cy="5693040"/>
          </a:xfrm>
        </p:grpSpPr>
        <p:sp>
          <p:nvSpPr>
            <p:cNvPr id="484" name="Rectangle 17"/>
            <p:cNvSpPr/>
            <p:nvPr/>
          </p:nvSpPr>
          <p:spPr>
            <a:xfrm>
              <a:off x="385920" y="996840"/>
              <a:ext cx="84484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ФАКТОРИ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РИЗИК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З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ПРОГРЕСИЈУ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Х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8"/>
            <p:cNvSpPr/>
            <p:nvPr/>
          </p:nvSpPr>
          <p:spPr>
            <a:xfrm>
              <a:off x="424800" y="1538280"/>
              <a:ext cx="8332920" cy="0"/>
            </a:xfrm>
            <a:prstGeom prst="line">
              <a:avLst/>
            </a:prstGeom>
            <a:ln w="38160">
              <a:solidFill>
                <a:srgbClr val="ff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3"/>
            <p:cNvSpPr/>
            <p:nvPr/>
          </p:nvSpPr>
          <p:spPr>
            <a:xfrm>
              <a:off x="424800" y="1596600"/>
              <a:ext cx="8326440" cy="4924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20"/>
            <p:cNvGrpSpPr/>
            <p:nvPr/>
          </p:nvGrpSpPr>
          <p:grpSpPr>
            <a:xfrm>
              <a:off x="454680" y="1631160"/>
              <a:ext cx="8265240" cy="4843440"/>
              <a:chOff x="454680" y="1631160"/>
              <a:chExt cx="8265240" cy="4843440"/>
            </a:xfrm>
          </p:grpSpPr>
          <p:sp>
            <p:nvSpPr>
              <p:cNvPr id="488" name="Rectangle 3"/>
              <p:cNvSpPr/>
              <p:nvPr/>
            </p:nvSpPr>
            <p:spPr>
              <a:xfrm>
                <a:off x="454680" y="1631160"/>
                <a:ext cx="4274640" cy="51048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ffff"/>
                    </a:solidFill>
                    <a:latin typeface="Arial"/>
                  </a:rPr>
                  <a:t>МОГУ СЕ МЕЊАТ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4"/>
              <p:cNvSpPr/>
              <p:nvPr/>
            </p:nvSpPr>
            <p:spPr>
              <a:xfrm>
                <a:off x="4686480" y="1631160"/>
                <a:ext cx="4033440" cy="51048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ffff"/>
                    </a:solidFill>
                    <a:latin typeface="Arial"/>
                  </a:rPr>
                  <a:t>НЕ МОГУ СЕ МЕЊАТ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5"/>
              <p:cNvSpPr/>
              <p:nvPr/>
            </p:nvSpPr>
            <p:spPr>
              <a:xfrm>
                <a:off x="635760" y="2147040"/>
                <a:ext cx="405036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ХИПЕРГЛИКЕМ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6"/>
              <p:cNvSpPr/>
              <p:nvPr/>
            </p:nvSpPr>
            <p:spPr>
              <a:xfrm>
                <a:off x="635760" y="2765160"/>
                <a:ext cx="405036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ХИПЕРТЕНЗ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7"/>
              <p:cNvSpPr/>
              <p:nvPr/>
            </p:nvSpPr>
            <p:spPr>
              <a:xfrm>
                <a:off x="635760" y="3441240"/>
                <a:ext cx="405036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АЛБУМИНУРИЈ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ПРОТЕИНУР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8"/>
              <p:cNvSpPr/>
              <p:nvPr/>
            </p:nvSpPr>
            <p:spPr>
              <a:xfrm>
                <a:off x="635760" y="4087440"/>
                <a:ext cx="405036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ХИПЕРЛИПИДЕМ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9"/>
              <p:cNvSpPr/>
              <p:nvPr/>
            </p:nvSpPr>
            <p:spPr>
              <a:xfrm>
                <a:off x="635760" y="4691520"/>
                <a:ext cx="405036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АНЕМИЈ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0"/>
              <p:cNvSpPr/>
              <p:nvPr/>
            </p:nvSpPr>
            <p:spPr>
              <a:xfrm>
                <a:off x="635760" y="5224680"/>
                <a:ext cx="405036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СЕКУНДАРНИ ХПТ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1"/>
              <p:cNvSpPr/>
              <p:nvPr/>
            </p:nvSpPr>
            <p:spPr>
              <a:xfrm>
                <a:off x="635760" y="5828400"/>
                <a:ext cx="405036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Arial"/>
                  </a:rPr>
                  <a:t>ОКСИДАТИВНИ СТРЕ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2"/>
              <p:cNvSpPr/>
              <p:nvPr/>
            </p:nvSpPr>
            <p:spPr>
              <a:xfrm>
                <a:off x="4700520" y="2149200"/>
                <a:ext cx="3876480" cy="43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2400" spc="-1" strike="noStrike">
                    <a:solidFill>
                      <a:srgbClr val="000000"/>
                    </a:solidFill>
                    <a:latin typeface="Arial"/>
                  </a:rPr>
                  <a:t>ПО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2400" spc="-1" strike="noStrike">
                    <a:solidFill>
                      <a:srgbClr val="000000"/>
                    </a:solidFill>
                    <a:latin typeface="Arial"/>
                  </a:rPr>
                  <a:t>РА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RS" sz="2400" spc="-1" strike="noStrike">
                    <a:solidFill>
                      <a:srgbClr val="000000"/>
                    </a:solidFill>
                    <a:latin typeface="Arial"/>
                  </a:rPr>
                  <a:t>СТАРОС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5"/>
              <p:cNvSpPr/>
              <p:nvPr/>
            </p:nvSpPr>
            <p:spPr>
              <a:xfrm>
                <a:off x="608760" y="2158200"/>
                <a:ext cx="4120200" cy="43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6"/>
              <p:cNvSpPr/>
              <p:nvPr/>
            </p:nvSpPr>
            <p:spPr>
              <a:xfrm>
                <a:off x="4749840" y="2383200"/>
                <a:ext cx="3837600" cy="40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Rectangle 21"/>
            <p:cNvSpPr/>
            <p:nvPr/>
          </p:nvSpPr>
          <p:spPr>
            <a:xfrm>
              <a:off x="426240" y="6531120"/>
              <a:ext cx="3021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ХБ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- хронична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бубрежна инсуфицијенц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73"/>
          <p:cNvGrpSpPr/>
          <p:nvPr/>
        </p:nvGrpSpPr>
        <p:grpSpPr>
          <a:xfrm>
            <a:off x="174600" y="1092240"/>
            <a:ext cx="8780400" cy="5584680"/>
            <a:chOff x="174600" y="1092240"/>
            <a:chExt cx="8780400" cy="5584680"/>
          </a:xfrm>
        </p:grpSpPr>
        <p:sp>
          <p:nvSpPr>
            <p:cNvPr id="502" name="Rectangle 3"/>
            <p:cNvSpPr/>
            <p:nvPr/>
          </p:nvSpPr>
          <p:spPr>
            <a:xfrm>
              <a:off x="233280" y="1092240"/>
              <a:ext cx="87105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2800" spc="-1" strike="noStrike">
                  <a:solidFill>
                    <a:srgbClr val="000000"/>
                  </a:solidFill>
                  <a:latin typeface="Arial"/>
                </a:rPr>
                <a:t>ЦИЉНЕ ВРЕДНОСТИ ФАКТОРА РИЗИ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4"/>
            <p:cNvSpPr/>
            <p:nvPr/>
          </p:nvSpPr>
          <p:spPr>
            <a:xfrm>
              <a:off x="174600" y="1542600"/>
              <a:ext cx="8775720" cy="0"/>
            </a:xfrm>
            <a:prstGeom prst="line">
              <a:avLst/>
            </a:prstGeom>
            <a:ln w="38160">
              <a:solidFill>
                <a:srgbClr val="f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5"/>
            <p:cNvSpPr/>
            <p:nvPr/>
          </p:nvSpPr>
          <p:spPr>
            <a:xfrm>
              <a:off x="174600" y="1663920"/>
              <a:ext cx="8780400" cy="50130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35"/>
            <p:cNvGrpSpPr/>
            <p:nvPr/>
          </p:nvGrpSpPr>
          <p:grpSpPr>
            <a:xfrm>
              <a:off x="420480" y="1722600"/>
              <a:ext cx="8346240" cy="4584960"/>
              <a:chOff x="420480" y="1722600"/>
              <a:chExt cx="8346240" cy="4584960"/>
            </a:xfrm>
          </p:grpSpPr>
          <p:sp>
            <p:nvSpPr>
              <p:cNvPr id="506" name="Rectangle 6"/>
              <p:cNvSpPr/>
              <p:nvPr/>
            </p:nvSpPr>
            <p:spPr>
              <a:xfrm>
                <a:off x="420840" y="1722600"/>
                <a:ext cx="4117680" cy="449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ФАКТОРИ РИЗИ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7"/>
              <p:cNvSpPr/>
              <p:nvPr/>
            </p:nvSpPr>
            <p:spPr>
              <a:xfrm>
                <a:off x="4538520" y="1722600"/>
                <a:ext cx="4228200" cy="449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ЦИЉНЕ ВРЕД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8"/>
              <p:cNvGrpSpPr/>
              <p:nvPr/>
            </p:nvGrpSpPr>
            <p:grpSpPr>
              <a:xfrm>
                <a:off x="420480" y="2172600"/>
                <a:ext cx="8345520" cy="372960"/>
                <a:chOff x="420480" y="2172600"/>
                <a:chExt cx="8345520" cy="372960"/>
              </a:xfrm>
            </p:grpSpPr>
            <p:sp>
              <p:nvSpPr>
                <p:cNvPr id="509" name="Rectangle 9"/>
                <p:cNvSpPr/>
                <p:nvPr/>
              </p:nvSpPr>
              <p:spPr>
                <a:xfrm>
                  <a:off x="420480" y="2172600"/>
                  <a:ext cx="411804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гојазнос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10"/>
                <p:cNvSpPr/>
                <p:nvPr/>
              </p:nvSpPr>
              <p:spPr>
                <a:xfrm>
                  <a:off x="4538520" y="2172600"/>
                  <a:ext cx="422748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MI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≤ 25.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g/m</a:t>
                  </a:r>
                  <a:r>
                    <a:rPr b="1" i="1" lang="sr-Latn-CS" sz="16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11"/>
              <p:cNvGrpSpPr/>
              <p:nvPr/>
            </p:nvGrpSpPr>
            <p:grpSpPr>
              <a:xfrm>
                <a:off x="420480" y="2545560"/>
                <a:ext cx="8345520" cy="372960"/>
                <a:chOff x="420480" y="2545560"/>
                <a:chExt cx="8345520" cy="372960"/>
              </a:xfrm>
            </p:grpSpPr>
            <p:sp>
              <p:nvSpPr>
                <p:cNvPr id="512" name="Rectangle 12"/>
                <p:cNvSpPr/>
                <p:nvPr/>
              </p:nvSpPr>
              <p:spPr>
                <a:xfrm>
                  <a:off x="420480" y="2545560"/>
                  <a:ext cx="411804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хиперлипидем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13"/>
                <p:cNvSpPr/>
                <p:nvPr/>
              </p:nvSpPr>
              <p:spPr>
                <a:xfrm>
                  <a:off x="4538520" y="2545560"/>
                  <a:ext cx="422748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DL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mol/l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(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g/dl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14"/>
              <p:cNvGrpSpPr/>
              <p:nvPr/>
            </p:nvGrpSpPr>
            <p:grpSpPr>
              <a:xfrm>
                <a:off x="420480" y="2917080"/>
                <a:ext cx="8345520" cy="372960"/>
                <a:chOff x="420480" y="2917080"/>
                <a:chExt cx="8345520" cy="372960"/>
              </a:xfrm>
            </p:grpSpPr>
            <p:sp>
              <p:nvSpPr>
                <p:cNvPr id="515" name="Rectangle 15"/>
                <p:cNvSpPr/>
                <p:nvPr/>
              </p:nvSpPr>
              <p:spPr>
                <a:xfrm>
                  <a:off x="420480" y="2917080"/>
                  <a:ext cx="411804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хипертенз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16"/>
                <p:cNvSpPr/>
                <p:nvPr/>
              </p:nvSpPr>
              <p:spPr>
                <a:xfrm>
                  <a:off x="4538520" y="2917080"/>
                  <a:ext cx="422748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≤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0/8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mH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(≤ 125/75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mH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17"/>
              <p:cNvGrpSpPr/>
              <p:nvPr/>
            </p:nvGrpSpPr>
            <p:grpSpPr>
              <a:xfrm>
                <a:off x="420480" y="3663360"/>
                <a:ext cx="8345520" cy="575640"/>
                <a:chOff x="420480" y="3663360"/>
                <a:chExt cx="8345520" cy="575640"/>
              </a:xfrm>
            </p:grpSpPr>
            <p:sp>
              <p:nvSpPr>
                <p:cNvPr id="518" name="Rectangle 18"/>
                <p:cNvSpPr/>
                <p:nvPr/>
              </p:nvSpPr>
              <p:spPr>
                <a:xfrm>
                  <a:off x="420480" y="3663360"/>
                  <a:ext cx="4118040" cy="5756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хипергликемија/дијабетес мелиту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19"/>
                <p:cNvSpPr/>
                <p:nvPr/>
              </p:nvSpPr>
              <p:spPr>
                <a:xfrm>
                  <a:off x="4538520" y="3663360"/>
                  <a:ext cx="4227480" cy="5756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P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= 90-13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g/d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bA1c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≤ 7.0% (≤ 6.5%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20"/>
              <p:cNvGrpSpPr/>
              <p:nvPr/>
            </p:nvGrpSpPr>
            <p:grpSpPr>
              <a:xfrm>
                <a:off x="420480" y="4211640"/>
                <a:ext cx="8345520" cy="387360"/>
                <a:chOff x="420480" y="4211640"/>
                <a:chExt cx="8345520" cy="387360"/>
              </a:xfrm>
            </p:grpSpPr>
            <p:sp>
              <p:nvSpPr>
                <p:cNvPr id="521" name="Rectangle 21"/>
                <p:cNvSpPr/>
                <p:nvPr/>
              </p:nvSpPr>
              <p:spPr>
                <a:xfrm>
                  <a:off x="420480" y="4211640"/>
                  <a:ext cx="411804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анем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22"/>
                <p:cNvSpPr/>
                <p:nvPr/>
              </p:nvSpPr>
              <p:spPr>
                <a:xfrm>
                  <a:off x="4538520" y="4225680"/>
                  <a:ext cx="4227480" cy="37332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хемоглобин = 110-12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/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Group 23"/>
              <p:cNvGrpSpPr/>
              <p:nvPr/>
            </p:nvGrpSpPr>
            <p:grpSpPr>
              <a:xfrm>
                <a:off x="420480" y="4611960"/>
                <a:ext cx="8345520" cy="372960"/>
                <a:chOff x="420480" y="4611960"/>
                <a:chExt cx="8345520" cy="372960"/>
              </a:xfrm>
            </p:grpSpPr>
            <p:sp>
              <p:nvSpPr>
                <p:cNvPr id="524" name="Rectangle 24"/>
                <p:cNvSpPr/>
                <p:nvPr/>
              </p:nvSpPr>
              <p:spPr>
                <a:xfrm>
                  <a:off x="420480" y="4611960"/>
                  <a:ext cx="411804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хиперхомоцистеинем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25"/>
                <p:cNvSpPr/>
                <p:nvPr/>
              </p:nvSpPr>
              <p:spPr>
                <a:xfrm>
                  <a:off x="4538520" y="4611960"/>
                  <a:ext cx="422748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cy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≤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12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l/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27"/>
              <p:cNvSpPr/>
              <p:nvPr/>
            </p:nvSpPr>
            <p:spPr>
              <a:xfrm>
                <a:off x="420840" y="4986000"/>
                <a:ext cx="4117680" cy="383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микроинфлама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8"/>
              <p:cNvSpPr/>
              <p:nvPr/>
            </p:nvSpPr>
            <p:spPr>
              <a:xfrm>
                <a:off x="4538520" y="4986000"/>
                <a:ext cx="4228200" cy="383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P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≤ 5.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l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(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sCRP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≤ 1.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l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" name="Group 29"/>
              <p:cNvGrpSpPr/>
              <p:nvPr/>
            </p:nvGrpSpPr>
            <p:grpSpPr>
              <a:xfrm>
                <a:off x="420480" y="5368320"/>
                <a:ext cx="8345520" cy="372960"/>
                <a:chOff x="420480" y="5368320"/>
                <a:chExt cx="8345520" cy="372960"/>
              </a:xfrm>
            </p:grpSpPr>
            <p:sp>
              <p:nvSpPr>
                <p:cNvPr id="529" name="Rectangle 30"/>
                <p:cNvSpPr/>
                <p:nvPr/>
              </p:nvSpPr>
              <p:spPr>
                <a:xfrm>
                  <a:off x="420480" y="5368320"/>
                  <a:ext cx="411804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секундарни хиперпаратиреоидизам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31"/>
                <p:cNvSpPr/>
                <p:nvPr/>
              </p:nvSpPr>
              <p:spPr>
                <a:xfrm>
                  <a:off x="4538520" y="5368320"/>
                  <a:ext cx="422748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PTH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≤ 65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g/m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Rectangle 32"/>
              <p:cNvSpPr/>
              <p:nvPr/>
            </p:nvSpPr>
            <p:spPr>
              <a:xfrm>
                <a:off x="885600" y="5960160"/>
                <a:ext cx="72597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FPG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 - јутарња глукоза у плазми,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BMI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 - индекс телесне масе,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HbA1c 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- гликозилирани хемоглобин,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tHcy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 - тотални хомоцистеин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у плазми,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CRP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 -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-реактивни протеин,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hsCRP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 - високо-осетљиви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-реактивни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протеин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sr-Latn-CS" sz="900" spc="-1" strike="noStrike">
                    <a:solidFill>
                      <a:srgbClr val="000000"/>
                    </a:solidFill>
                    <a:latin typeface="Arial"/>
                  </a:rPr>
                  <a:t>iPTH</a:t>
                </a:r>
                <a:r>
                  <a:rPr b="1" lang="sr-Latn-CS" sz="900" spc="-1" strike="noStrike">
                    <a:solidFill>
                      <a:srgbClr val="000000"/>
                    </a:solidFill>
                    <a:latin typeface="Arial"/>
                  </a:rPr>
                  <a:t> - интактни паратхормон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" name="Group 14"/>
              <p:cNvGrpSpPr/>
              <p:nvPr/>
            </p:nvGrpSpPr>
            <p:grpSpPr>
              <a:xfrm>
                <a:off x="420480" y="3291120"/>
                <a:ext cx="8345520" cy="372960"/>
                <a:chOff x="420480" y="3291120"/>
                <a:chExt cx="8345520" cy="372960"/>
              </a:xfrm>
            </p:grpSpPr>
            <p:sp>
              <p:nvSpPr>
                <p:cNvPr id="533" name="Rectangle 15"/>
                <p:cNvSpPr/>
                <p:nvPr/>
              </p:nvSpPr>
              <p:spPr>
                <a:xfrm>
                  <a:off x="420480" y="3291120"/>
                  <a:ext cx="411804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протеинурија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16"/>
                <p:cNvSpPr/>
                <p:nvPr/>
              </p:nvSpPr>
              <p:spPr>
                <a:xfrm>
                  <a:off x="4538520" y="3291120"/>
                  <a:ext cx="4227480" cy="372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≤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g/24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Rectangle 4"/>
            <p:cNvSpPr/>
            <p:nvPr/>
          </p:nvSpPr>
          <p:spPr>
            <a:xfrm>
              <a:off x="174600" y="1625760"/>
              <a:ext cx="8773560" cy="5036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3"/>
          <p:cNvGrpSpPr/>
          <p:nvPr/>
        </p:nvGrpSpPr>
        <p:grpSpPr>
          <a:xfrm>
            <a:off x="189000" y="1146240"/>
            <a:ext cx="8780400" cy="5551560"/>
            <a:chOff x="189000" y="1146240"/>
            <a:chExt cx="8780400" cy="5551560"/>
          </a:xfrm>
        </p:grpSpPr>
        <p:sp>
          <p:nvSpPr>
            <p:cNvPr id="537" name="Line 4"/>
            <p:cNvSpPr/>
            <p:nvPr/>
          </p:nvSpPr>
          <p:spPr>
            <a:xfrm>
              <a:off x="189000" y="1146240"/>
              <a:ext cx="878040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189000" y="1188360"/>
              <a:ext cx="8780400" cy="550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"/>
            <p:cNvSpPr/>
            <p:nvPr/>
          </p:nvSpPr>
          <p:spPr>
            <a:xfrm>
              <a:off x="189000" y="1247040"/>
              <a:ext cx="8780400" cy="53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пораст броја болесника са хроничним болестима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издвојити особе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повећаним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ризиком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оболе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од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применити скрининг за рано откривање болести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правовремено упутити болесника нефролог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рано дијагностиковати примарну болест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утврдити факторе ризика за прогресију хроничне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убрежне инсуфицијен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правовремено применити одговарајуће лечење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(основна болест + фактори ризик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успорити прогресију хроничне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убрежне инсуфицијен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мањити кардиоваскуларни морбидитет и морталит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мањити трошкове лечења болес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побољшати квалитет живота болесник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7"/>
          <p:cNvGrpSpPr/>
          <p:nvPr/>
        </p:nvGrpSpPr>
        <p:grpSpPr>
          <a:xfrm>
            <a:off x="276120" y="1049400"/>
            <a:ext cx="8562960" cy="5572080"/>
            <a:chOff x="276120" y="1049400"/>
            <a:chExt cx="8562960" cy="5572080"/>
          </a:xfrm>
        </p:grpSpPr>
        <p:sp>
          <p:nvSpPr>
            <p:cNvPr id="68" name="Rectangle 3"/>
            <p:cNvSpPr/>
            <p:nvPr/>
          </p:nvSpPr>
          <p:spPr>
            <a:xfrm>
              <a:off x="290160" y="1049400"/>
              <a:ext cx="849168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ДЕФИНИЦИЈА ХРОНИЧНЕ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БУБРЕЖНЕ ИНСУФИЦИЈЕНЦИЈ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"/>
            <p:cNvSpPr/>
            <p:nvPr/>
          </p:nvSpPr>
          <p:spPr>
            <a:xfrm>
              <a:off x="276480" y="1573920"/>
              <a:ext cx="856260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340920" y="1694160"/>
              <a:ext cx="2242080" cy="456840"/>
            </a:xfrm>
            <a:prstGeom prst="rect">
              <a:avLst/>
            </a:prstGeom>
            <a:solidFill>
              <a:srgbClr val="c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Arial"/>
                </a:rPr>
                <a:t>ДЕФИНИ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304560" y="2063520"/>
              <a:ext cx="853452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97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хронично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прогресивно и неповратно оштећење бубрежног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паренхима праћено опадањем бубрежне функ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97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када се ЈГФ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смањи на трећину нормалне вредности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30-40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l/m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а концентрација креатинина у серуму порасте изнад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220 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хронична болест бубрега убрзано напредује доводећи до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неповратних промена бубрежног паренхима и трајног отк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RS" sz="2000" spc="-1" strike="noStrike">
                  <a:solidFill>
                    <a:srgbClr val="000000"/>
                  </a:solidFill>
                  <a:latin typeface="Arial"/>
                </a:rPr>
                <a:t>бубрежних функ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>
              <a:off x="276120" y="1644120"/>
              <a:ext cx="8562960" cy="4977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3"/>
          <p:cNvGrpSpPr/>
          <p:nvPr/>
        </p:nvGrpSpPr>
        <p:grpSpPr>
          <a:xfrm>
            <a:off x="179280" y="990720"/>
            <a:ext cx="8790120" cy="5613120"/>
            <a:chOff x="179280" y="990720"/>
            <a:chExt cx="8790120" cy="5613120"/>
          </a:xfrm>
        </p:grpSpPr>
        <p:sp>
          <p:nvSpPr>
            <p:cNvPr id="74" name="Rectangle 3"/>
            <p:cNvSpPr/>
            <p:nvPr/>
          </p:nvSpPr>
          <p:spPr>
            <a:xfrm>
              <a:off x="217080" y="990720"/>
              <a:ext cx="87523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КЛАСИФИКАЦИЈА </a:t>
              </a:r>
              <a:r>
                <a:rPr b="1" lang="sr-RS" sz="2100" spc="-1" strike="noStrike">
                  <a:solidFill>
                    <a:srgbClr val="000000"/>
                  </a:solidFill>
                  <a:latin typeface="Arial"/>
                </a:rPr>
                <a:t>ХРОНИЧНЕ БУБРЕЖНЕ ИНСУФИЦИЈЕНЦИЈЕ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"/>
            <p:cNvSpPr/>
            <p:nvPr/>
          </p:nvSpPr>
          <p:spPr>
            <a:xfrm>
              <a:off x="179280" y="1411560"/>
              <a:ext cx="8761680" cy="144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Group 30" descr=""/>
            <p:cNvPicPr/>
            <p:nvPr/>
          </p:nvPicPr>
          <p:blipFill>
            <a:blip r:embed="rId1"/>
            <a:stretch/>
          </p:blipFill>
          <p:spPr>
            <a:xfrm>
              <a:off x="292320" y="1530000"/>
              <a:ext cx="85896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30"/>
            <p:cNvSpPr/>
            <p:nvPr/>
          </p:nvSpPr>
          <p:spPr>
            <a:xfrm>
              <a:off x="179280" y="1483920"/>
              <a:ext cx="8761680" cy="5119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31"/>
          <p:cNvGrpSpPr/>
          <p:nvPr/>
        </p:nvGrpSpPr>
        <p:grpSpPr>
          <a:xfrm>
            <a:off x="233280" y="988920"/>
            <a:ext cx="8621640" cy="5614920"/>
            <a:chOff x="233280" y="988920"/>
            <a:chExt cx="8621640" cy="5614920"/>
          </a:xfrm>
        </p:grpSpPr>
        <p:sp>
          <p:nvSpPr>
            <p:cNvPr id="79" name="Rectangle 4"/>
            <p:cNvSpPr/>
            <p:nvPr/>
          </p:nvSpPr>
          <p:spPr>
            <a:xfrm>
              <a:off x="233280" y="988920"/>
              <a:ext cx="8621640" cy="7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ХРОНИЧНА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БУБРЕЖНА ИНСУФИЦИЈЕНЦИЈА</a:t>
              </a: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-ЕТИОЛОГИЈ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402120" y="1740240"/>
              <a:ext cx="8263440" cy="32670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ГЛОМЕРУЛСКЕ БОЛЕСТИ БУБРЕ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ХИПЕРТЕНЗИЈА/ХИПЕРТЕНЗИВНА НЕФРОПАТ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ДИЈАБЕТЕС МЕЛИТУС/ДИЈАБЕТЕСНА НЕФРОПАТ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ТУБУЛОИНТЕРСТИЦИЈУМСКЕ БОЛ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НАСЛЕДНЕ ЦИСТИЧНЕ БОЛЕСТИ БУБРЕ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544320" y="1838880"/>
              <a:ext cx="2286360" cy="456840"/>
            </a:xfrm>
            <a:prstGeom prst="rect">
              <a:avLst/>
            </a:prstGeom>
            <a:solidFill>
              <a:srgbClr val="c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Arial"/>
                </a:rPr>
                <a:t>ЕТИОЛОГ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6"/>
            <p:cNvSpPr/>
            <p:nvPr/>
          </p:nvSpPr>
          <p:spPr>
            <a:xfrm>
              <a:off x="262080" y="1653120"/>
              <a:ext cx="8562960" cy="4950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"/>
            <p:cNvSpPr/>
            <p:nvPr/>
          </p:nvSpPr>
          <p:spPr>
            <a:xfrm>
              <a:off x="263880" y="1569600"/>
              <a:ext cx="857088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55"/>
          <p:cNvGrpSpPr/>
          <p:nvPr/>
        </p:nvGrpSpPr>
        <p:grpSpPr>
          <a:xfrm>
            <a:off x="247680" y="942840"/>
            <a:ext cx="8621640" cy="5704200"/>
            <a:chOff x="247680" y="942840"/>
            <a:chExt cx="8621640" cy="5704200"/>
          </a:xfrm>
        </p:grpSpPr>
        <p:sp>
          <p:nvSpPr>
            <p:cNvPr id="85" name="Rectangle 3"/>
            <p:cNvSpPr/>
            <p:nvPr/>
          </p:nvSpPr>
          <p:spPr>
            <a:xfrm>
              <a:off x="247680" y="942840"/>
              <a:ext cx="8621640" cy="7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ХРОНИЧНА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БУБРЕЖНА ИНСУФИЦИЈЕНЦИЈА</a:t>
              </a: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-ПАТОГЕНЕЗ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"/>
            <p:cNvSpPr/>
            <p:nvPr/>
          </p:nvSpPr>
          <p:spPr>
            <a:xfrm>
              <a:off x="247680" y="1504440"/>
              <a:ext cx="856296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299880" y="1578960"/>
              <a:ext cx="8477280" cy="50680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АДАПТАЦИЈА НЕФРОНА НА ГУБИТАК МАСЕ БУБРЕ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ТЕОРИЈА ИНТАКТНИХ НЕФРОНА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ФУНКЦИОНАЛНА АДАПТАЦИЈ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ГЛОМЕРУЛА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смањена резистенција аферентне артериол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ХИПЕРПЕРФУЗИЈА - повећана јачина бубрежног протока плазме - ЈБП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tabLst>
                  <a:tab algn="l" pos="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ХИПЕРФИЛТРАЦИЈА - повећана јачина гломерулске филтрације - ЈГ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"/>
            <p:cNvSpPr/>
            <p:nvPr/>
          </p:nvSpPr>
          <p:spPr>
            <a:xfrm>
              <a:off x="5572800" y="419004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FR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N x SNGFR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5682960" y="4457880"/>
              <a:ext cx="196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SNGFR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S x Jv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5637600" y="4692600"/>
              <a:ext cx="20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Jv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k x (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P -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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4915080" y="4942080"/>
              <a:ext cx="37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Jv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k x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(PGC - PT) - (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C -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T)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5339880" y="5511960"/>
              <a:ext cx="27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SNGFR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Kf x (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P -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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5598720" y="5785560"/>
              <a:ext cx="2131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SNGFR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Kf x P</a:t>
              </a:r>
              <a:r>
                <a:rPr b="1" i="1" lang="sr-Latn-CS" sz="1800" spc="-1" strike="noStrike" baseline="-25000">
                  <a:solidFill>
                    <a:srgbClr val="000000"/>
                  </a:solidFill>
                  <a:latin typeface="Arial"/>
                </a:rPr>
                <a:t>UF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379080" y="5708160"/>
              <a:ext cx="1730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sr-Latn-CS" sz="1400" spc="-1" strike="noStrike" baseline="-25000">
                  <a:solidFill>
                    <a:srgbClr val="000000"/>
                  </a:solidFill>
                  <a:latin typeface="Arial"/>
                </a:rPr>
                <a:t>UF</a:t>
              </a:r>
              <a:r>
                <a:rPr b="1" i="1" lang="sr-CS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20-25 mmHg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382320" y="5987880"/>
              <a:ext cx="287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Kf</a:t>
              </a:r>
              <a:r>
                <a:rPr b="1" i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i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10-16 nl/min/mmHg/1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73m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6"/>
            <p:cNvSpPr/>
            <p:nvPr/>
          </p:nvSpPr>
          <p:spPr>
            <a:xfrm>
              <a:off x="247680" y="1545120"/>
              <a:ext cx="8562960" cy="5058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80"/>
          <p:cNvGrpSpPr/>
          <p:nvPr/>
        </p:nvGrpSpPr>
        <p:grpSpPr>
          <a:xfrm>
            <a:off x="174600" y="1092240"/>
            <a:ext cx="8766360" cy="5570640"/>
            <a:chOff x="174600" y="1092240"/>
            <a:chExt cx="8766360" cy="5570640"/>
          </a:xfrm>
        </p:grpSpPr>
        <p:sp>
          <p:nvSpPr>
            <p:cNvPr id="98" name="Rectangle 3"/>
            <p:cNvSpPr/>
            <p:nvPr/>
          </p:nvSpPr>
          <p:spPr>
            <a:xfrm>
              <a:off x="771480" y="1092240"/>
              <a:ext cx="76345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ПАТОГЕНЕЗА ХРОНИЧНЕ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БУБРЕЖНЕ ИНСУФИЦИЈЕНЦИЈ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"/>
            <p:cNvSpPr/>
            <p:nvPr/>
          </p:nvSpPr>
          <p:spPr>
            <a:xfrm>
              <a:off x="174600" y="1523520"/>
              <a:ext cx="8766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55"/>
            <p:cNvGrpSpPr/>
            <p:nvPr/>
          </p:nvGrpSpPr>
          <p:grpSpPr>
            <a:xfrm>
              <a:off x="1009440" y="1541880"/>
              <a:ext cx="7410600" cy="4882320"/>
              <a:chOff x="1009440" y="1541880"/>
              <a:chExt cx="7410600" cy="4882320"/>
            </a:xfrm>
          </p:grpSpPr>
          <p:sp>
            <p:nvSpPr>
              <p:cNvPr id="101" name="Rectangle 5"/>
              <p:cNvSpPr/>
              <p:nvPr/>
            </p:nvSpPr>
            <p:spPr>
              <a:xfrm>
                <a:off x="1033200" y="1541880"/>
                <a:ext cx="2031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Иницијални догађа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6"/>
              <p:cNvSpPr/>
              <p:nvPr/>
            </p:nvSpPr>
            <p:spPr>
              <a:xfrm>
                <a:off x="2599920" y="2049120"/>
                <a:ext cx="203184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бубрежн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инсуфицијен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7"/>
              <p:cNvSpPr/>
              <p:nvPr/>
            </p:nvSpPr>
            <p:spPr>
              <a:xfrm>
                <a:off x="2163600" y="2015640"/>
                <a:ext cx="0" cy="23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8"/>
              <p:cNvSpPr/>
              <p:nvPr/>
            </p:nvSpPr>
            <p:spPr>
              <a:xfrm>
                <a:off x="2163600" y="2253960"/>
                <a:ext cx="55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9"/>
              <p:cNvSpPr/>
              <p:nvPr/>
            </p:nvSpPr>
            <p:spPr>
              <a:xfrm>
                <a:off x="5117040" y="1779840"/>
                <a:ext cx="203184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функционалн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адаптац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0"/>
              <p:cNvSpPr/>
              <p:nvPr/>
            </p:nvSpPr>
            <p:spPr>
              <a:xfrm>
                <a:off x="4433760" y="2287080"/>
                <a:ext cx="392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2047680" y="2015640"/>
                <a:ext cx="0" cy="898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2"/>
              <p:cNvSpPr/>
              <p:nvPr/>
            </p:nvSpPr>
            <p:spPr>
              <a:xfrm>
                <a:off x="1139400" y="2933280"/>
                <a:ext cx="1800000" cy="522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протеин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3"/>
              <p:cNvSpPr/>
              <p:nvPr/>
            </p:nvSpPr>
            <p:spPr>
              <a:xfrm>
                <a:off x="1149120" y="3743280"/>
                <a:ext cx="1800000" cy="522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хиперлипидем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4"/>
              <p:cNvSpPr/>
              <p:nvPr/>
            </p:nvSpPr>
            <p:spPr>
              <a:xfrm>
                <a:off x="2025360" y="3468600"/>
                <a:ext cx="0" cy="27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5"/>
              <p:cNvSpPr/>
              <p:nvPr/>
            </p:nvSpPr>
            <p:spPr>
              <a:xfrm>
                <a:off x="6139440" y="2379240"/>
                <a:ext cx="0" cy="67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6"/>
              <p:cNvSpPr/>
              <p:nvPr/>
            </p:nvSpPr>
            <p:spPr>
              <a:xfrm>
                <a:off x="5235480" y="2928600"/>
                <a:ext cx="1800000" cy="5223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хипертенз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7"/>
              <p:cNvSpPr/>
              <p:nvPr/>
            </p:nvSpPr>
            <p:spPr>
              <a:xfrm>
                <a:off x="5252760" y="3738240"/>
                <a:ext cx="1800000" cy="52236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ffffff"/>
                    </a:solidFill>
                    <a:latin typeface="Arial"/>
                  </a:rPr>
                  <a:t>гломерулс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ffffff"/>
                    </a:solidFill>
                    <a:latin typeface="Arial"/>
                  </a:rPr>
                  <a:t>хипертензиј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8"/>
              <p:cNvSpPr/>
              <p:nvPr/>
            </p:nvSpPr>
            <p:spPr>
              <a:xfrm>
                <a:off x="6149880" y="3394440"/>
                <a:ext cx="0" cy="27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9"/>
              <p:cNvSpPr/>
              <p:nvPr/>
            </p:nvSpPr>
            <p:spPr>
              <a:xfrm>
                <a:off x="5449680" y="2480760"/>
                <a:ext cx="1365120" cy="2617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ретенција </a:t>
                </a:r>
                <a:r>
                  <a:rPr b="1" i="1" lang="sr-Latn-CS" sz="1200" spc="-1" strike="noStrike">
                    <a:solidFill>
                      <a:srgbClr val="ffffff"/>
                    </a:solidFill>
                    <a:latin typeface="Arial"/>
                  </a:rPr>
                  <a:t>Na</a:t>
                </a:r>
                <a:r>
                  <a:rPr b="1" i="1" lang="sr-Latn-CS" sz="1200" spc="-1" strike="noStrike" baseline="30000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0"/>
              <p:cNvSpPr/>
              <p:nvPr/>
            </p:nvSpPr>
            <p:spPr>
              <a:xfrm>
                <a:off x="2836440" y="4732200"/>
                <a:ext cx="2395440" cy="5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ГЛОМЕРУЛОСКЛЕРОЗ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1"/>
              <p:cNvSpPr/>
              <p:nvPr/>
            </p:nvSpPr>
            <p:spPr>
              <a:xfrm>
                <a:off x="2009520" y="4309920"/>
                <a:ext cx="0" cy="71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2"/>
              <p:cNvSpPr/>
              <p:nvPr/>
            </p:nvSpPr>
            <p:spPr>
              <a:xfrm>
                <a:off x="2009520" y="5021280"/>
                <a:ext cx="857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3"/>
              <p:cNvSpPr/>
              <p:nvPr/>
            </p:nvSpPr>
            <p:spPr>
              <a:xfrm>
                <a:off x="6148440" y="4319640"/>
                <a:ext cx="0" cy="711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5176800" y="5030640"/>
                <a:ext cx="973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041720" y="5312160"/>
                <a:ext cx="0" cy="493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6"/>
              <p:cNvSpPr/>
              <p:nvPr/>
            </p:nvSpPr>
            <p:spPr>
              <a:xfrm>
                <a:off x="2831760" y="5857560"/>
                <a:ext cx="2395440" cy="5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прогресивно опадањ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функције бубрег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7"/>
              <p:cNvSpPr/>
              <p:nvPr/>
            </p:nvSpPr>
            <p:spPr>
              <a:xfrm flipH="1">
                <a:off x="1009440" y="6153480"/>
                <a:ext cx="1828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8"/>
              <p:cNvSpPr/>
              <p:nvPr/>
            </p:nvSpPr>
            <p:spPr>
              <a:xfrm flipV="1">
                <a:off x="1009440" y="2350800"/>
                <a:ext cx="0" cy="380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9"/>
              <p:cNvSpPr/>
              <p:nvPr/>
            </p:nvSpPr>
            <p:spPr>
              <a:xfrm>
                <a:off x="1009440" y="2350800"/>
                <a:ext cx="1711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0"/>
              <p:cNvSpPr/>
              <p:nvPr/>
            </p:nvSpPr>
            <p:spPr>
              <a:xfrm flipH="1">
                <a:off x="3431520" y="4062240"/>
                <a:ext cx="1787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31"/>
              <p:cNvSpPr/>
              <p:nvPr/>
            </p:nvSpPr>
            <p:spPr>
              <a:xfrm flipV="1">
                <a:off x="3431880" y="3204720"/>
                <a:ext cx="0" cy="858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32"/>
              <p:cNvSpPr/>
              <p:nvPr/>
            </p:nvSpPr>
            <p:spPr>
              <a:xfrm flipH="1">
                <a:off x="2959920" y="3204720"/>
                <a:ext cx="463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3"/>
              <p:cNvSpPr/>
              <p:nvPr/>
            </p:nvSpPr>
            <p:spPr>
              <a:xfrm>
                <a:off x="3844800" y="2744280"/>
                <a:ext cx="1365120" cy="2617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простагландин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34"/>
              <p:cNvSpPr/>
              <p:nvPr/>
            </p:nvSpPr>
            <p:spPr>
              <a:xfrm>
                <a:off x="7054920" y="2739600"/>
                <a:ext cx="1365120" cy="2617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ангиотензин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5"/>
              <p:cNvSpPr/>
              <p:nvPr/>
            </p:nvSpPr>
            <p:spPr>
              <a:xfrm>
                <a:off x="3840120" y="3384360"/>
                <a:ext cx="1365120" cy="422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аферентна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вазодилатац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6"/>
              <p:cNvSpPr/>
              <p:nvPr/>
            </p:nvSpPr>
            <p:spPr>
              <a:xfrm>
                <a:off x="7050240" y="3379680"/>
                <a:ext cx="1365120" cy="449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еферентна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вазоконстрикц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7"/>
              <p:cNvSpPr/>
              <p:nvPr/>
            </p:nvSpPr>
            <p:spPr>
              <a:xfrm>
                <a:off x="6219720" y="2374560"/>
                <a:ext cx="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>
                <a:off x="6219720" y="2423520"/>
                <a:ext cx="1520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>
                <a:off x="7739280" y="2430000"/>
                <a:ext cx="0" cy="266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>
                <a:off x="6056280" y="2379240"/>
                <a:ext cx="0" cy="4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1"/>
              <p:cNvSpPr/>
              <p:nvPr/>
            </p:nvSpPr>
            <p:spPr>
              <a:xfrm flipH="1">
                <a:off x="4519440" y="2423520"/>
                <a:ext cx="1536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>
                <a:off x="4519440" y="2423520"/>
                <a:ext cx="0" cy="28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3"/>
              <p:cNvSpPr/>
              <p:nvPr/>
            </p:nvSpPr>
            <p:spPr>
              <a:xfrm>
                <a:off x="7739280" y="3014280"/>
                <a:ext cx="0" cy="349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4"/>
              <p:cNvSpPr/>
              <p:nvPr/>
            </p:nvSpPr>
            <p:spPr>
              <a:xfrm>
                <a:off x="7745400" y="3833640"/>
                <a:ext cx="0" cy="158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5"/>
              <p:cNvSpPr/>
              <p:nvPr/>
            </p:nvSpPr>
            <p:spPr>
              <a:xfrm flipH="1">
                <a:off x="7065720" y="3992400"/>
                <a:ext cx="679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6"/>
              <p:cNvSpPr/>
              <p:nvPr/>
            </p:nvSpPr>
            <p:spPr>
              <a:xfrm>
                <a:off x="7682040" y="3014280"/>
                <a:ext cx="0" cy="16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7"/>
              <p:cNvSpPr/>
              <p:nvPr/>
            </p:nvSpPr>
            <p:spPr>
              <a:xfrm flipH="1">
                <a:off x="7065720" y="3179520"/>
                <a:ext cx="615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7682040" y="2563560"/>
                <a:ext cx="0" cy="16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9"/>
              <p:cNvSpPr/>
              <p:nvPr/>
            </p:nvSpPr>
            <p:spPr>
              <a:xfrm flipH="1">
                <a:off x="7065720" y="2563560"/>
                <a:ext cx="615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0"/>
              <p:cNvSpPr/>
              <p:nvPr/>
            </p:nvSpPr>
            <p:spPr>
              <a:xfrm>
                <a:off x="4512960" y="3008160"/>
                <a:ext cx="0" cy="36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1"/>
              <p:cNvSpPr/>
              <p:nvPr/>
            </p:nvSpPr>
            <p:spPr>
              <a:xfrm>
                <a:off x="4525920" y="3833640"/>
                <a:ext cx="0" cy="158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2"/>
              <p:cNvSpPr/>
              <p:nvPr/>
            </p:nvSpPr>
            <p:spPr>
              <a:xfrm flipH="1">
                <a:off x="4532040" y="3992400"/>
                <a:ext cx="698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Rectangle 53"/>
            <p:cNvSpPr/>
            <p:nvPr/>
          </p:nvSpPr>
          <p:spPr>
            <a:xfrm>
              <a:off x="174600" y="1598040"/>
              <a:ext cx="8766360" cy="506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57"/>
          <p:cNvGrpSpPr/>
          <p:nvPr/>
        </p:nvGrpSpPr>
        <p:grpSpPr>
          <a:xfrm>
            <a:off x="182520" y="1038240"/>
            <a:ext cx="8786880" cy="5643720"/>
            <a:chOff x="182520" y="1038240"/>
            <a:chExt cx="8786880" cy="5643720"/>
          </a:xfrm>
        </p:grpSpPr>
        <p:sp>
          <p:nvSpPr>
            <p:cNvPr id="151" name="Rectangle 3"/>
            <p:cNvSpPr/>
            <p:nvPr/>
          </p:nvSpPr>
          <p:spPr>
            <a:xfrm>
              <a:off x="276120" y="1038240"/>
              <a:ext cx="862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ХРОНИЧНА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БУБРЕЖНА ИНСУФИЦИЈЕНЦИЈА-</a:t>
              </a: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182520" y="1587960"/>
              <a:ext cx="8784000" cy="509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АДАПТАЦИЈА ТУБУЛА НА ГУБИТАК МАСЕ БУБРЕ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ФУНКЦИОНАЛНА АДАПТАЦИЈА ТУБУ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повећана фракциона екскреција супстанција -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FE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tabLst>
                  <a:tab algn="l" pos="0"/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бубрежна регулација екстерне равнотеже супстанције 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Ux x Vu = Px x JGF 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 T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Ux -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концентрација одређене супстанције у узорку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24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мокраћ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Vu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- запремина мокраће за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24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JGF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- јачина гломерулске филтра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- концентрација дате супстанције у плаз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Ux x Vu -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јачина бубрежне екскре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Px x JGF -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јачина филтровањ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36360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- количина супстанција која се транспортује у тубулим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36360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испред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је знак плус уколико се супстанција екскрету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36360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испред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је знак минус уколико се супстанција реапсорбу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36360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188640" y="1531800"/>
              <a:ext cx="8780760" cy="0"/>
            </a:xfrm>
            <a:prstGeom prst="line">
              <a:avLst/>
            </a:prstGeom>
            <a:ln w="38160">
              <a:solidFill>
                <a:srgbClr val="ff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57"/>
          <p:cNvGrpSpPr/>
          <p:nvPr/>
        </p:nvGrpSpPr>
        <p:grpSpPr>
          <a:xfrm>
            <a:off x="182520" y="958680"/>
            <a:ext cx="8786880" cy="5699160"/>
            <a:chOff x="182520" y="958680"/>
            <a:chExt cx="8786880" cy="5699160"/>
          </a:xfrm>
        </p:grpSpPr>
        <p:sp>
          <p:nvSpPr>
            <p:cNvPr id="155" name="Rectangle 6"/>
            <p:cNvSpPr/>
            <p:nvPr/>
          </p:nvSpPr>
          <p:spPr>
            <a:xfrm>
              <a:off x="182520" y="1507320"/>
              <a:ext cx="8784000" cy="515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АДАПТАЦИЈА ТУБУЛА НА ГУБИТАК МАСЕ БУБРЕ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ТЕПЕН ФУНКЦИОНАЛНЕ АДАПТАЦИЈЕ ТУБУЛА - три групе супстанц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"/>
                <a:tabLst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ГРУПА А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УПСТАНЦИЈЕ ЗА КОЈЕ НЕ ПОСТОЈИ РЕГУЛА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уреја, креатини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ове азотне супстанције се скоро у целости одстрањују процесом гломерулске филтрациј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tabLst>
                  <a:tab algn="l" pos="0"/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"/>
                <a:tabLst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ГРУПА Б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УПСТАНЦИЈЕ ЗА КОЈЕ ПОСТОЈИ ДЕЛИМИЧНА РЕГУЛА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фосфат, сулфат, урат, калцијум, калијум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sr-Latn-C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i="1" lang="sr-Latn-C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i="1" lang="sr-Latn-C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концентрација ових супстанција у серуму се повећава када ЈГФ падне испод 30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ml/m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tabLst>
                  <a:tab algn="l" pos="0"/>
                  <a:tab algn="l" pos="26208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"/>
                <a:tabLst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ГРУПА Ц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УПСТАНЦИЈЕ ЗА КОЈЕ ПОСТОЈИ ПОТПУНА РЕГУЛА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i="1" lang="sr-Latn-C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sr-Latn-C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равнотежа ових супстанција се одржава све док ЈГФ не падне испод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15-10 ml/m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tabLst>
                  <a:tab algn="l" pos="0"/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tabLst>
                  <a:tab algn="l" pos="0"/>
                  <a:tab algn="l" pos="2620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276120" y="958680"/>
              <a:ext cx="862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ХРОНИЧНА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БУБРЕЖНА ИНСУФИЦИЈЕНЦИЈА-</a:t>
              </a:r>
              <a:r>
                <a:rPr b="1" lang="sr-Latn-CS" sz="23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>
              <a:off x="188640" y="1451880"/>
              <a:ext cx="8780760" cy="0"/>
            </a:xfrm>
            <a:prstGeom prst="line">
              <a:avLst/>
            </a:prstGeom>
            <a:ln w="38160">
              <a:solidFill>
                <a:srgbClr val="ff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ina</cp:lastModifiedBy>
  <dcterms:modified xsi:type="dcterms:W3CDTF">2020-10-01T19:10:39Z</dcterms:modified>
  <cp:revision>142</cp:revision>
  <dc:subject/>
  <dc:title>Slide 1</dc:title>
</cp:coreProperties>
</file>