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277920" y="1052640"/>
            <a:ext cx="8601120" cy="4155840"/>
            <a:chOff x="277920" y="1052640"/>
            <a:chExt cx="8601120" cy="4155840"/>
          </a:xfrm>
        </p:grpSpPr>
        <p:grpSp>
          <p:nvGrpSpPr>
            <p:cNvPr id="40" name="Group 8"/>
            <p:cNvGrpSpPr/>
            <p:nvPr/>
          </p:nvGrpSpPr>
          <p:grpSpPr>
            <a:xfrm>
              <a:off x="277920" y="1052640"/>
              <a:ext cx="8601120" cy="4155840"/>
              <a:chOff x="277920" y="1052640"/>
              <a:chExt cx="8601120" cy="4155840"/>
            </a:xfrm>
          </p:grpSpPr>
          <p:sp>
            <p:nvSpPr>
              <p:cNvPr id="41" name="Rectangle 3"/>
              <p:cNvSpPr/>
              <p:nvPr/>
            </p:nvSpPr>
            <p:spPr>
              <a:xfrm>
                <a:off x="380880" y="1052640"/>
                <a:ext cx="849816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АКУТНА БУБРЕ</a:t>
                </a:r>
                <a:r>
                  <a:rPr b="1" lang="sr-Latn-CS" sz="3000" spc="-1" strike="noStrike">
                    <a:solidFill>
                      <a:srgbClr val="000000"/>
                    </a:solidFill>
                    <a:latin typeface="Arial"/>
                  </a:rPr>
                  <a:t>Ж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НА </a:t>
                </a:r>
                <a:r>
                  <a:rPr b="1" lang="sr-Latn-CS" sz="3000" spc="-1" strike="noStrike">
                    <a:solidFill>
                      <a:srgbClr val="000000"/>
                    </a:solidFill>
                    <a:latin typeface="Arial"/>
                  </a:rPr>
                  <a:t>ИНСУФИЦИЈЕ</a:t>
                </a:r>
                <a:r>
                  <a:rPr b="1" lang="sr-CS" sz="3000" spc="-1" strike="noStrike">
                    <a:solidFill>
                      <a:srgbClr val="000000"/>
                    </a:solidFill>
                    <a:latin typeface="Arial"/>
                  </a:rPr>
                  <a:t>НЦИЈА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Line 4"/>
              <p:cNvSpPr/>
              <p:nvPr/>
            </p:nvSpPr>
            <p:spPr>
              <a:xfrm>
                <a:off x="277920" y="1772640"/>
                <a:ext cx="8571240" cy="0"/>
              </a:xfrm>
              <a:prstGeom prst="line">
                <a:avLst/>
              </a:prstGeom>
              <a:ln w="38160">
                <a:solidFill>
                  <a:srgbClr val="ff79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Rectangle 12"/>
              <p:cNvSpPr/>
              <p:nvPr/>
            </p:nvSpPr>
            <p:spPr>
              <a:xfrm>
                <a:off x="446040" y="4467240"/>
                <a:ext cx="812808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ПРОФ.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ДР ДЕЈАН ПЕТРОВИЋ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" name="Rectangle 12"/>
            <p:cNvSpPr/>
            <p:nvPr/>
          </p:nvSpPr>
          <p:spPr>
            <a:xfrm>
              <a:off x="438840" y="1847520"/>
              <a:ext cx="81280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ОСМА НЕДЕЉ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8"/>
          <p:cNvGrpSpPr/>
          <p:nvPr/>
        </p:nvGrpSpPr>
        <p:grpSpPr>
          <a:xfrm>
            <a:off x="333360" y="1189080"/>
            <a:ext cx="8469360" cy="5342040"/>
            <a:chOff x="333360" y="1189080"/>
            <a:chExt cx="8469360" cy="5342040"/>
          </a:xfrm>
        </p:grpSpPr>
        <p:sp>
          <p:nvSpPr>
            <p:cNvPr id="136" name="Line 43"/>
            <p:cNvSpPr/>
            <p:nvPr/>
          </p:nvSpPr>
          <p:spPr>
            <a:xfrm>
              <a:off x="1555560" y="1427040"/>
              <a:ext cx="0" cy="129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"/>
            <p:cNvSpPr/>
            <p:nvPr/>
          </p:nvSpPr>
          <p:spPr>
            <a:xfrm>
              <a:off x="378000" y="1189080"/>
              <a:ext cx="84164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200" spc="-1" strike="noStrike">
                  <a:solidFill>
                    <a:srgbClr val="000000"/>
                  </a:solidFill>
                  <a:latin typeface="Arial"/>
                </a:rPr>
                <a:t>РЕНАЛНИ ТИП АКУТНЕ БУБРЕЖНЕ ИНСУФИЦИЈЕНЦИЈЕ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"/>
            <p:cNvSpPr/>
            <p:nvPr/>
          </p:nvSpPr>
          <p:spPr>
            <a:xfrm>
              <a:off x="333360" y="1638720"/>
              <a:ext cx="841968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3"/>
            <p:cNvSpPr/>
            <p:nvPr/>
          </p:nvSpPr>
          <p:spPr>
            <a:xfrm>
              <a:off x="369360" y="1707120"/>
              <a:ext cx="842472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ЛЕЗИЈА ТУБУЛОИНТЕРСТИЦИЈУ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3"/>
            <p:cNvSpPr/>
            <p:nvPr/>
          </p:nvSpPr>
          <p:spPr>
            <a:xfrm>
              <a:off x="377640" y="1681200"/>
              <a:ext cx="8425080" cy="48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АКУТНА ТУБУЛСКА НЕКРО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898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ИСХЕМИЈСКА  (5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8989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хипоперфузија/исхемија бубре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8989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сепса/шок/акутни панкреатит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898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ТОКСИЧНА (35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8989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радиоконтрастна средств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8989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нефротоксични антибиотиц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8989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хемотерапијски агенс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8989"/>
                </a:buClr>
                <a:buFont typeface="Wingdings" charset="2"/>
                <a:buChar char="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МЕШОВИТА (15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8989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исхемија + токси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8989"/>
                </a:buClr>
                <a:buFont typeface="Wingdings 2" charset="2"/>
                <a:buChar char="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АКУТНИ ИНТЕРСТИЦИЈУМСКИ НЕФРИТ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719280" indent="-262080">
                <a:lnSpc>
                  <a:spcPct val="100000"/>
                </a:lnSpc>
                <a:buClr>
                  <a:srgbClr val="ff898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антибиотици, диуретици, алопурином, </a:t>
              </a:r>
              <a:r>
                <a:rPr b="1" i="1" lang="sr-Latn-RS" sz="1800" spc="-1" strike="noStrike">
                  <a:solidFill>
                    <a:srgbClr val="000000"/>
                  </a:solidFill>
                  <a:latin typeface="Arial"/>
                </a:rPr>
                <a:t>NSA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5"/>
          <p:cNvGrpSpPr/>
          <p:nvPr/>
        </p:nvGrpSpPr>
        <p:grpSpPr>
          <a:xfrm>
            <a:off x="228600" y="1174680"/>
            <a:ext cx="8655120" cy="3278160"/>
            <a:chOff x="228600" y="1174680"/>
            <a:chExt cx="8655120" cy="3278160"/>
          </a:xfrm>
        </p:grpSpPr>
        <p:grpSp>
          <p:nvGrpSpPr>
            <p:cNvPr id="142" name="Group 4"/>
            <p:cNvGrpSpPr/>
            <p:nvPr/>
          </p:nvGrpSpPr>
          <p:grpSpPr>
            <a:xfrm>
              <a:off x="228600" y="1508040"/>
              <a:ext cx="8655120" cy="2944800"/>
              <a:chOff x="228600" y="1508040"/>
              <a:chExt cx="8655120" cy="2944800"/>
            </a:xfrm>
          </p:grpSpPr>
          <p:sp>
            <p:nvSpPr>
              <p:cNvPr id="143" name="Line 5"/>
              <p:cNvSpPr/>
              <p:nvPr/>
            </p:nvSpPr>
            <p:spPr>
              <a:xfrm flipV="1">
                <a:off x="306000" y="1607760"/>
                <a:ext cx="843336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6"/>
              <p:cNvSpPr/>
              <p:nvPr/>
            </p:nvSpPr>
            <p:spPr>
              <a:xfrm>
                <a:off x="228600" y="1508040"/>
                <a:ext cx="8655120" cy="29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ДЕФИНИЦИЈ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ОПСТРУКЦИЈА МОКРАЋНИХ ПУТЕВА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дефинише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се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као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поремећај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нормалног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протицања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мокраће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дуж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мокраћних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путева,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почев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од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тубула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до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уретре,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узрокован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структурним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или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функционалним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поремећај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свака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препрека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отицању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мокраће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доводи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до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њеног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задржавања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изнад препреке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повећања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притиска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мокраћним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путевима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бубрегу,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што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може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узроковати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поремећај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екскреторне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функције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бубрег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Rectangle 3"/>
            <p:cNvSpPr/>
            <p:nvPr/>
          </p:nvSpPr>
          <p:spPr>
            <a:xfrm>
              <a:off x="377640" y="1174680"/>
              <a:ext cx="8417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1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СТ</a:t>
              </a:r>
              <a:r>
                <a:rPr b="1" lang="sr-CS" sz="2100" spc="-1" strike="noStrike">
                  <a:solidFill>
                    <a:srgbClr val="000000"/>
                  </a:solidFill>
                  <a:latin typeface="Arial"/>
                </a:rPr>
                <a:t>РЕНАЛНИ ТИП АКУТНЕ БУБРЕЖНЕ ИНСУФИЦИЈЕНЦИЈЕ</a:t>
              </a:r>
              <a:r>
                <a:rPr b="1" lang="sr-Latn-C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7"/>
          <p:cNvGrpSpPr/>
          <p:nvPr/>
        </p:nvGrpSpPr>
        <p:grpSpPr>
          <a:xfrm>
            <a:off x="333360" y="1101600"/>
            <a:ext cx="8477280" cy="5372280"/>
            <a:chOff x="333360" y="1101600"/>
            <a:chExt cx="8477280" cy="5372280"/>
          </a:xfrm>
        </p:grpSpPr>
        <p:sp>
          <p:nvSpPr>
            <p:cNvPr id="147" name="Line 43"/>
            <p:cNvSpPr/>
            <p:nvPr/>
          </p:nvSpPr>
          <p:spPr>
            <a:xfrm>
              <a:off x="1555560" y="1409400"/>
              <a:ext cx="0" cy="120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"/>
            <p:cNvSpPr/>
            <p:nvPr/>
          </p:nvSpPr>
          <p:spPr>
            <a:xfrm>
              <a:off x="378000" y="1101600"/>
              <a:ext cx="84171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1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СТ</a:t>
              </a:r>
              <a:r>
                <a:rPr b="1" lang="sr-CS" sz="2100" spc="-1" strike="noStrike">
                  <a:solidFill>
                    <a:srgbClr val="000000"/>
                  </a:solidFill>
                  <a:latin typeface="Arial"/>
                </a:rPr>
                <a:t>РЕНАЛНИ ТИП АКУТНЕ БУБРЕЖНЕ ИНСУФИЦИЈЕНЦИЈЕ</a:t>
              </a:r>
              <a:r>
                <a:rPr b="1" lang="sr-Latn-C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"/>
            <p:cNvSpPr/>
            <p:nvPr/>
          </p:nvSpPr>
          <p:spPr>
            <a:xfrm>
              <a:off x="333360" y="1518480"/>
              <a:ext cx="842004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3"/>
            <p:cNvSpPr/>
            <p:nvPr/>
          </p:nvSpPr>
          <p:spPr>
            <a:xfrm>
              <a:off x="369360" y="1581480"/>
              <a:ext cx="84254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ОПСТРУКЦИЈА МОКРАЋНИХ ПУТЕ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3"/>
            <p:cNvSpPr/>
            <p:nvPr/>
          </p:nvSpPr>
          <p:spPr>
            <a:xfrm>
              <a:off x="378000" y="1922400"/>
              <a:ext cx="84254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ИНТРАУРЕТЕРАЛ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376560" y="2248560"/>
              <a:ext cx="8425440" cy="9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конкремен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коагулу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апиларна некро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3"/>
            <p:cNvSpPr/>
            <p:nvPr/>
          </p:nvSpPr>
          <p:spPr>
            <a:xfrm>
              <a:off x="370440" y="3120120"/>
              <a:ext cx="84254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ЕКСТРАУРЕТЕРАЛ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3"/>
            <p:cNvSpPr/>
            <p:nvPr/>
          </p:nvSpPr>
          <p:spPr>
            <a:xfrm>
              <a:off x="369360" y="3446280"/>
              <a:ext cx="842544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карцином мокраћне беши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карцином проста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карцином грлића материц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ретроперитонеумска фибро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3"/>
            <p:cNvSpPr/>
            <p:nvPr/>
          </p:nvSpPr>
          <p:spPr>
            <a:xfrm>
              <a:off x="376560" y="4651920"/>
              <a:ext cx="84254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ОПСТРУКЦИЈА ВРАТА МОКРАЋНЕ БЕШИ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3"/>
            <p:cNvSpPr/>
            <p:nvPr/>
          </p:nvSpPr>
          <p:spPr>
            <a:xfrm>
              <a:off x="385200" y="4992840"/>
              <a:ext cx="8425440" cy="14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хипертрофија проста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карцином проста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карцином м. беши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неурогена м. беш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стриктура уретр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4"/>
          <p:cNvGrpSpPr/>
          <p:nvPr/>
        </p:nvGrpSpPr>
        <p:grpSpPr>
          <a:xfrm>
            <a:off x="174600" y="1058760"/>
            <a:ext cx="8780400" cy="4775400"/>
            <a:chOff x="174600" y="1058760"/>
            <a:chExt cx="8780400" cy="4775400"/>
          </a:xfrm>
        </p:grpSpPr>
        <p:sp>
          <p:nvSpPr>
            <p:cNvPr id="158" name="Rectangle 3"/>
            <p:cNvSpPr/>
            <p:nvPr/>
          </p:nvSpPr>
          <p:spPr>
            <a:xfrm>
              <a:off x="378000" y="1058760"/>
              <a:ext cx="84168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УРИНАРНИ ИНДЕКСИ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РАЗЛИКОВАЊЕ ПРЕРЕНАЛНЕ И РЕНАЛНЕ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АБИ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43"/>
            <p:cNvGrpSpPr/>
            <p:nvPr/>
          </p:nvGrpSpPr>
          <p:grpSpPr>
            <a:xfrm>
              <a:off x="174600" y="1514160"/>
              <a:ext cx="8780400" cy="4320000"/>
              <a:chOff x="174600" y="1514160"/>
              <a:chExt cx="8780400" cy="4320000"/>
            </a:xfrm>
          </p:grpSpPr>
          <p:sp>
            <p:nvSpPr>
              <p:cNvPr id="160" name="Line 4"/>
              <p:cNvSpPr/>
              <p:nvPr/>
            </p:nvSpPr>
            <p:spPr>
              <a:xfrm>
                <a:off x="174600" y="1514160"/>
                <a:ext cx="8780400" cy="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35"/>
              <p:cNvSpPr/>
              <p:nvPr/>
            </p:nvSpPr>
            <p:spPr>
              <a:xfrm>
                <a:off x="174600" y="1616040"/>
                <a:ext cx="3247560" cy="51876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УРИНАРНИ ИНДИКАТОР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37"/>
              <p:cNvSpPr/>
              <p:nvPr/>
            </p:nvSpPr>
            <p:spPr>
              <a:xfrm>
                <a:off x="3420720" y="1616040"/>
                <a:ext cx="2587320" cy="51876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ПРЕРЕНАЛНА АБ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38"/>
              <p:cNvSpPr/>
              <p:nvPr/>
            </p:nvSpPr>
            <p:spPr>
              <a:xfrm>
                <a:off x="6008400" y="1616040"/>
                <a:ext cx="2946600" cy="51876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РЕНАЛНА АБ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40"/>
              <p:cNvSpPr/>
              <p:nvPr/>
            </p:nvSpPr>
            <p:spPr>
              <a:xfrm>
                <a:off x="174600" y="2134800"/>
                <a:ext cx="3245760" cy="4068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Специфична тежи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41"/>
              <p:cNvSpPr/>
              <p:nvPr/>
            </p:nvSpPr>
            <p:spPr>
              <a:xfrm>
                <a:off x="3422160" y="2134800"/>
                <a:ext cx="2585880" cy="4068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1.0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42"/>
              <p:cNvSpPr/>
              <p:nvPr/>
            </p:nvSpPr>
            <p:spPr>
              <a:xfrm>
                <a:off x="6008400" y="2134800"/>
                <a:ext cx="2946600" cy="4068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1.0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45"/>
              <p:cNvSpPr/>
              <p:nvPr/>
            </p:nvSpPr>
            <p:spPr>
              <a:xfrm>
                <a:off x="174600" y="2543400"/>
                <a:ext cx="3245760" cy="410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Осмолалност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1" i="1" lang="sr-Latn-CS" sz="1800" spc="-1" strike="noStrike">
                    <a:solidFill>
                      <a:srgbClr val="000000"/>
                    </a:solidFill>
                    <a:latin typeface="Arial"/>
                  </a:rPr>
                  <a:t>mOsm/kg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46"/>
              <p:cNvSpPr/>
              <p:nvPr/>
            </p:nvSpPr>
            <p:spPr>
              <a:xfrm>
                <a:off x="3420720" y="2541600"/>
                <a:ext cx="2585880" cy="4122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47"/>
              <p:cNvSpPr/>
              <p:nvPr/>
            </p:nvSpPr>
            <p:spPr>
              <a:xfrm>
                <a:off x="6006600" y="2543400"/>
                <a:ext cx="2948400" cy="410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300 (300 - 500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51"/>
              <p:cNvSpPr/>
              <p:nvPr/>
            </p:nvSpPr>
            <p:spPr>
              <a:xfrm>
                <a:off x="176400" y="2952360"/>
                <a:ext cx="3244320" cy="410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Натријум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1" i="1" lang="sr-Latn-CS" sz="1800" spc="-1" strike="noStrike">
                    <a:solidFill>
                      <a:srgbClr val="000000"/>
                    </a:solidFill>
                    <a:latin typeface="Arial"/>
                  </a:rPr>
                  <a:t>mmol/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52"/>
              <p:cNvSpPr/>
              <p:nvPr/>
            </p:nvSpPr>
            <p:spPr>
              <a:xfrm>
                <a:off x="3420720" y="2953800"/>
                <a:ext cx="2585880" cy="410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53"/>
              <p:cNvSpPr/>
              <p:nvPr/>
            </p:nvSpPr>
            <p:spPr>
              <a:xfrm>
                <a:off x="6008400" y="2953800"/>
                <a:ext cx="2946600" cy="410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55"/>
              <p:cNvSpPr/>
              <p:nvPr/>
            </p:nvSpPr>
            <p:spPr>
              <a:xfrm>
                <a:off x="176400" y="3362760"/>
                <a:ext cx="3244320" cy="4122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Фракциона екскреција </a:t>
                </a:r>
                <a:r>
                  <a:rPr b="1" i="1" lang="sr-Latn-CS" sz="1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1" i="1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r>
                  <a:rPr b="1" i="1" lang="sr-Latn-CS" sz="1200" spc="-1" strike="noStrike" baseline="30000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56"/>
              <p:cNvSpPr/>
              <p:nvPr/>
            </p:nvSpPr>
            <p:spPr>
              <a:xfrm>
                <a:off x="3420720" y="3362760"/>
                <a:ext cx="2587320" cy="4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57"/>
              <p:cNvSpPr/>
              <p:nvPr/>
            </p:nvSpPr>
            <p:spPr>
              <a:xfrm>
                <a:off x="6006600" y="3364560"/>
                <a:ext cx="2948400" cy="410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62"/>
              <p:cNvSpPr/>
              <p:nvPr/>
            </p:nvSpPr>
            <p:spPr>
              <a:xfrm>
                <a:off x="176400" y="3774960"/>
                <a:ext cx="3244320" cy="4068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Фракциона екскреција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уре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е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63"/>
              <p:cNvSpPr/>
              <p:nvPr/>
            </p:nvSpPr>
            <p:spPr>
              <a:xfrm>
                <a:off x="3422160" y="3774960"/>
                <a:ext cx="2585880" cy="40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64"/>
              <p:cNvSpPr/>
              <p:nvPr/>
            </p:nvSpPr>
            <p:spPr>
              <a:xfrm>
                <a:off x="6008400" y="3774960"/>
                <a:ext cx="2946600" cy="4068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66"/>
              <p:cNvSpPr/>
              <p:nvPr/>
            </p:nvSpPr>
            <p:spPr>
              <a:xfrm>
                <a:off x="176400" y="4181760"/>
                <a:ext cx="3244320" cy="4122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Фракциона екскреција урата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67"/>
              <p:cNvSpPr/>
              <p:nvPr/>
            </p:nvSpPr>
            <p:spPr>
              <a:xfrm>
                <a:off x="3422160" y="4181760"/>
                <a:ext cx="2585880" cy="4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68"/>
              <p:cNvSpPr/>
              <p:nvPr/>
            </p:nvSpPr>
            <p:spPr>
              <a:xfrm>
                <a:off x="6008400" y="4181760"/>
                <a:ext cx="2946600" cy="4140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1"/>
              <p:cNvSpPr/>
              <p:nvPr/>
            </p:nvSpPr>
            <p:spPr>
              <a:xfrm>
                <a:off x="176400" y="4592160"/>
                <a:ext cx="3244320" cy="410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Протеини мале М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2"/>
              <p:cNvSpPr/>
              <p:nvPr/>
            </p:nvSpPr>
            <p:spPr>
              <a:xfrm>
                <a:off x="3420720" y="4593960"/>
                <a:ext cx="2587320" cy="4086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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концентрациј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73"/>
              <p:cNvSpPr/>
              <p:nvPr/>
            </p:nvSpPr>
            <p:spPr>
              <a:xfrm>
                <a:off x="6008400" y="4595760"/>
                <a:ext cx="2946600" cy="4068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концентрациј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75"/>
              <p:cNvSpPr/>
              <p:nvPr/>
            </p:nvSpPr>
            <p:spPr>
              <a:xfrm>
                <a:off x="176400" y="5002920"/>
                <a:ext cx="3244320" cy="4122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Ензими четкастог покро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76"/>
              <p:cNvSpPr/>
              <p:nvPr/>
            </p:nvSpPr>
            <p:spPr>
              <a:xfrm>
                <a:off x="3420720" y="5002920"/>
                <a:ext cx="2585880" cy="4122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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концентрациј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77"/>
              <p:cNvSpPr/>
              <p:nvPr/>
            </p:nvSpPr>
            <p:spPr>
              <a:xfrm>
                <a:off x="6006600" y="5002920"/>
                <a:ext cx="2948400" cy="4122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концентрациј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176400" y="5415120"/>
                <a:ext cx="3244320" cy="4190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Седимент ури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81"/>
              <p:cNvSpPr/>
              <p:nvPr/>
            </p:nvSpPr>
            <p:spPr>
              <a:xfrm>
                <a:off x="3420720" y="5415120"/>
                <a:ext cx="2585880" cy="4190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нормал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82"/>
              <p:cNvSpPr/>
              <p:nvPr/>
            </p:nvSpPr>
            <p:spPr>
              <a:xfrm>
                <a:off x="6006600" y="5415120"/>
                <a:ext cx="2948400" cy="4190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гранулирани смеђи цилиндр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70"/>
          <p:cNvGrpSpPr/>
          <p:nvPr/>
        </p:nvGrpSpPr>
        <p:grpSpPr>
          <a:xfrm>
            <a:off x="304920" y="974880"/>
            <a:ext cx="8489880" cy="5776920"/>
            <a:chOff x="304920" y="974880"/>
            <a:chExt cx="8489880" cy="5776920"/>
          </a:xfrm>
        </p:grpSpPr>
        <p:sp>
          <p:nvSpPr>
            <p:cNvPr id="192" name="Rectangle 42"/>
            <p:cNvSpPr/>
            <p:nvPr/>
          </p:nvSpPr>
          <p:spPr>
            <a:xfrm>
              <a:off x="425520" y="1107720"/>
              <a:ext cx="8315280" cy="3207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Анамнеза</a:t>
              </a: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физикални преглед</a:t>
              </a: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лабораторија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, ултразвучни преглед бубре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44"/>
            <p:cNvSpPr/>
            <p:nvPr/>
          </p:nvSpPr>
          <p:spPr>
            <a:xfrm>
              <a:off x="4614840" y="974880"/>
              <a:ext cx="0" cy="144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6"/>
            <p:cNvSpPr/>
            <p:nvPr/>
          </p:nvSpPr>
          <p:spPr>
            <a:xfrm>
              <a:off x="1682640" y="1120680"/>
              <a:ext cx="5805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7"/>
            <p:cNvSpPr/>
            <p:nvPr/>
          </p:nvSpPr>
          <p:spPr>
            <a:xfrm>
              <a:off x="1684440" y="1122480"/>
              <a:ext cx="0" cy="18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8"/>
            <p:cNvSpPr/>
            <p:nvPr/>
          </p:nvSpPr>
          <p:spPr>
            <a:xfrm>
              <a:off x="4614840" y="1119240"/>
              <a:ext cx="0" cy="18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9"/>
            <p:cNvSpPr/>
            <p:nvPr/>
          </p:nvSpPr>
          <p:spPr>
            <a:xfrm>
              <a:off x="7491600" y="1122480"/>
              <a:ext cx="0" cy="18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0"/>
            <p:cNvSpPr/>
            <p:nvPr/>
          </p:nvSpPr>
          <p:spPr>
            <a:xfrm>
              <a:off x="396720" y="1388880"/>
              <a:ext cx="252720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анамнеза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физикални преглед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1" i="1" lang="sr-Latn-CS" sz="1200" spc="-1" strike="noStrike" baseline="-25000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</a:rPr>
                <a:t> 1%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</a:rPr>
                <a:t>Uosm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</a:t>
              </a: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500 mO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едимент урина нормал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2"/>
            <p:cNvSpPr/>
            <p:nvPr/>
          </p:nvSpPr>
          <p:spPr>
            <a:xfrm>
              <a:off x="3343320" y="1388880"/>
              <a:ext cx="252720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анамнеза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физикални преглед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1" i="1" lang="sr-Latn-CS" sz="1200" spc="-1" strike="noStrike" baseline="-25000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</a:t>
              </a: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</a:rPr>
                <a:t>Uosm &lt;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5</a:t>
              </a: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 mO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ктиван седимент ури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3"/>
            <p:cNvSpPr/>
            <p:nvPr/>
          </p:nvSpPr>
          <p:spPr>
            <a:xfrm>
              <a:off x="6213600" y="1388880"/>
              <a:ext cx="252720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анамнеза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физикални преглед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анурија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овећан резидуални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волумен урина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хидронефроз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4"/>
            <p:cNvSpPr/>
            <p:nvPr/>
          </p:nvSpPr>
          <p:spPr>
            <a:xfrm>
              <a:off x="1674720" y="2023920"/>
              <a:ext cx="0" cy="144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5"/>
            <p:cNvSpPr/>
            <p:nvPr/>
          </p:nvSpPr>
          <p:spPr>
            <a:xfrm>
              <a:off x="4605480" y="2023920"/>
              <a:ext cx="0" cy="13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6"/>
            <p:cNvSpPr/>
            <p:nvPr/>
          </p:nvSpPr>
          <p:spPr>
            <a:xfrm>
              <a:off x="7479720" y="2023920"/>
              <a:ext cx="0" cy="144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57"/>
            <p:cNvSpPr/>
            <p:nvPr/>
          </p:nvSpPr>
          <p:spPr>
            <a:xfrm>
              <a:off x="396720" y="2103480"/>
              <a:ext cx="2527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ренална АБ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8"/>
            <p:cNvSpPr/>
            <p:nvPr/>
          </p:nvSpPr>
          <p:spPr>
            <a:xfrm>
              <a:off x="3343320" y="2103480"/>
              <a:ext cx="2527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нална АБ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9"/>
            <p:cNvSpPr/>
            <p:nvPr/>
          </p:nvSpPr>
          <p:spPr>
            <a:xfrm>
              <a:off x="6216120" y="2103480"/>
              <a:ext cx="2527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стренална АБ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60"/>
            <p:cNvSpPr/>
            <p:nvPr/>
          </p:nvSpPr>
          <p:spPr>
            <a:xfrm>
              <a:off x="7479720" y="2433600"/>
              <a:ext cx="0" cy="18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1"/>
            <p:cNvSpPr/>
            <p:nvPr/>
          </p:nvSpPr>
          <p:spPr>
            <a:xfrm>
              <a:off x="6218280" y="2637000"/>
              <a:ext cx="2527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лтрасонографија уротрак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62"/>
            <p:cNvSpPr/>
            <p:nvPr/>
          </p:nvSpPr>
          <p:spPr>
            <a:xfrm>
              <a:off x="1668600" y="2421000"/>
              <a:ext cx="0" cy="17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63"/>
            <p:cNvSpPr/>
            <p:nvPr/>
          </p:nvSpPr>
          <p:spPr>
            <a:xfrm>
              <a:off x="955800" y="2602080"/>
              <a:ext cx="1434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4"/>
            <p:cNvSpPr/>
            <p:nvPr/>
          </p:nvSpPr>
          <p:spPr>
            <a:xfrm>
              <a:off x="954000" y="2603520"/>
              <a:ext cx="0" cy="18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65"/>
            <p:cNvSpPr/>
            <p:nvPr/>
          </p:nvSpPr>
          <p:spPr>
            <a:xfrm>
              <a:off x="2392200" y="2602080"/>
              <a:ext cx="0" cy="18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6"/>
            <p:cNvSpPr/>
            <p:nvPr/>
          </p:nvSpPr>
          <p:spPr>
            <a:xfrm>
              <a:off x="345960" y="2814840"/>
              <a:ext cx="11998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деплециј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интраваскуларно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волуме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68"/>
            <p:cNvSpPr/>
            <p:nvPr/>
          </p:nvSpPr>
          <p:spPr>
            <a:xfrm>
              <a:off x="1819440" y="2814840"/>
              <a:ext cx="1143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смањен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ренал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проток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крви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РБФ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72"/>
            <p:cNvSpPr/>
            <p:nvPr/>
          </p:nvSpPr>
          <p:spPr>
            <a:xfrm>
              <a:off x="345960" y="3310200"/>
              <a:ext cx="26161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процена степена волемиј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4"/>
            <p:cNvSpPr/>
            <p:nvPr/>
          </p:nvSpPr>
          <p:spPr>
            <a:xfrm>
              <a:off x="4600800" y="2436120"/>
              <a:ext cx="0" cy="1160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75"/>
            <p:cNvSpPr/>
            <p:nvPr/>
          </p:nvSpPr>
          <p:spPr>
            <a:xfrm>
              <a:off x="1423800" y="3602160"/>
              <a:ext cx="6386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76"/>
            <p:cNvSpPr/>
            <p:nvPr/>
          </p:nvSpPr>
          <p:spPr>
            <a:xfrm>
              <a:off x="1420920" y="3602160"/>
              <a:ext cx="0" cy="18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7"/>
            <p:cNvSpPr/>
            <p:nvPr/>
          </p:nvSpPr>
          <p:spPr>
            <a:xfrm>
              <a:off x="425520" y="3778560"/>
              <a:ext cx="19746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хипертензија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хемолитич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анемија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тромбоцитопен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атеросклероз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79"/>
            <p:cNvSpPr/>
            <p:nvPr/>
          </p:nvSpPr>
          <p:spPr>
            <a:xfrm>
              <a:off x="3543480" y="3602160"/>
              <a:ext cx="0" cy="18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80"/>
            <p:cNvSpPr/>
            <p:nvPr/>
          </p:nvSpPr>
          <p:spPr>
            <a:xfrm>
              <a:off x="2597040" y="3861360"/>
              <a:ext cx="19746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хипертензија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ротеинур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хематурија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еритроцит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цилиндри, еритроци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измењеног обл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1"/>
            <p:cNvSpPr/>
            <p:nvPr/>
          </p:nvSpPr>
          <p:spPr>
            <a:xfrm>
              <a:off x="5670720" y="3602160"/>
              <a:ext cx="0" cy="18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82"/>
            <p:cNvSpPr/>
            <p:nvPr/>
          </p:nvSpPr>
          <p:spPr>
            <a:xfrm>
              <a:off x="4680000" y="3778560"/>
              <a:ext cx="19746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токсини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 температу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раш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еозинофилија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еозинофили у урин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83"/>
            <p:cNvSpPr/>
            <p:nvPr/>
          </p:nvSpPr>
          <p:spPr>
            <a:xfrm>
              <a:off x="7810560" y="3602160"/>
              <a:ext cx="0" cy="18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84"/>
            <p:cNvSpPr/>
            <p:nvPr/>
          </p:nvSpPr>
          <p:spPr>
            <a:xfrm>
              <a:off x="6820200" y="3778560"/>
              <a:ext cx="19746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исхемија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токсини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смеђ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гранулирани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цилиндр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у урин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6"/>
            <p:cNvSpPr/>
            <p:nvPr/>
          </p:nvSpPr>
          <p:spPr>
            <a:xfrm>
              <a:off x="1415880" y="4516560"/>
              <a:ext cx="0" cy="18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7"/>
            <p:cNvSpPr/>
            <p:nvPr/>
          </p:nvSpPr>
          <p:spPr>
            <a:xfrm>
              <a:off x="425520" y="4631040"/>
              <a:ext cx="19746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васкуларна лезиј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88"/>
            <p:cNvSpPr/>
            <p:nvPr/>
          </p:nvSpPr>
          <p:spPr>
            <a:xfrm>
              <a:off x="3543480" y="4518360"/>
              <a:ext cx="0" cy="18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89"/>
            <p:cNvSpPr/>
            <p:nvPr/>
          </p:nvSpPr>
          <p:spPr>
            <a:xfrm>
              <a:off x="2552760" y="4631040"/>
              <a:ext cx="19746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гломерулска лезиј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91"/>
            <p:cNvSpPr/>
            <p:nvPr/>
          </p:nvSpPr>
          <p:spPr>
            <a:xfrm>
              <a:off x="5677200" y="4516560"/>
              <a:ext cx="0" cy="18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92"/>
            <p:cNvSpPr/>
            <p:nvPr/>
          </p:nvSpPr>
          <p:spPr>
            <a:xfrm>
              <a:off x="4686480" y="4631040"/>
              <a:ext cx="19746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интерстицијумск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ефрити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94"/>
            <p:cNvSpPr/>
            <p:nvPr/>
          </p:nvSpPr>
          <p:spPr>
            <a:xfrm>
              <a:off x="7810560" y="4516560"/>
              <a:ext cx="0" cy="18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95"/>
            <p:cNvSpPr/>
            <p:nvPr/>
          </p:nvSpPr>
          <p:spPr>
            <a:xfrm>
              <a:off x="6820200" y="4631040"/>
              <a:ext cx="19746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акутна тубулска некро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97"/>
            <p:cNvSpPr/>
            <p:nvPr/>
          </p:nvSpPr>
          <p:spPr>
            <a:xfrm>
              <a:off x="5677200" y="5085000"/>
              <a:ext cx="0" cy="1376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98"/>
            <p:cNvSpPr/>
            <p:nvPr/>
          </p:nvSpPr>
          <p:spPr>
            <a:xfrm>
              <a:off x="4686480" y="6485400"/>
              <a:ext cx="19746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биопсија бубре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99"/>
            <p:cNvSpPr/>
            <p:nvPr/>
          </p:nvSpPr>
          <p:spPr>
            <a:xfrm>
              <a:off x="7810560" y="4880160"/>
              <a:ext cx="0" cy="18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00"/>
            <p:cNvSpPr/>
            <p:nvPr/>
          </p:nvSpPr>
          <p:spPr>
            <a:xfrm>
              <a:off x="6820200" y="5085000"/>
              <a:ext cx="19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АТН се не поправљ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4-6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недеља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лечењ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дијализ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01"/>
            <p:cNvSpPr/>
            <p:nvPr/>
          </p:nvSpPr>
          <p:spPr>
            <a:xfrm>
              <a:off x="7810560" y="5680440"/>
              <a:ext cx="0" cy="78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02"/>
            <p:cNvSpPr/>
            <p:nvPr/>
          </p:nvSpPr>
          <p:spPr>
            <a:xfrm>
              <a:off x="6820200" y="6485400"/>
              <a:ext cx="19746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биопсија бубре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03"/>
            <p:cNvSpPr/>
            <p:nvPr/>
          </p:nvSpPr>
          <p:spPr>
            <a:xfrm>
              <a:off x="3543480" y="4873680"/>
              <a:ext cx="0" cy="18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04"/>
            <p:cNvSpPr/>
            <p:nvPr/>
          </p:nvSpPr>
          <p:spPr>
            <a:xfrm>
              <a:off x="2597040" y="5078520"/>
              <a:ext cx="197460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брзо-прогресивни Г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лупус нефрити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Wegeners granulomato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Polyarteritis nodo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Goodpastures syndro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Henoch-Sch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ö</a:t>
              </a: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lein </a:t>
              </a:r>
              <a:r>
                <a:rPr b="1" lang="sr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урпур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кутни пролиферативни Г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05"/>
            <p:cNvSpPr/>
            <p:nvPr/>
          </p:nvSpPr>
          <p:spPr>
            <a:xfrm>
              <a:off x="3543480" y="6296400"/>
              <a:ext cx="0" cy="17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06"/>
            <p:cNvSpPr/>
            <p:nvPr/>
          </p:nvSpPr>
          <p:spPr>
            <a:xfrm>
              <a:off x="2552760" y="6485400"/>
              <a:ext cx="19746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биопсија бубре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07"/>
            <p:cNvSpPr/>
            <p:nvPr/>
          </p:nvSpPr>
          <p:spPr>
            <a:xfrm>
              <a:off x="1413000" y="4873680"/>
              <a:ext cx="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08"/>
            <p:cNvSpPr/>
            <p:nvPr/>
          </p:nvSpPr>
          <p:spPr>
            <a:xfrm>
              <a:off x="853920" y="4937400"/>
              <a:ext cx="111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09"/>
            <p:cNvSpPr/>
            <p:nvPr/>
          </p:nvSpPr>
          <p:spPr>
            <a:xfrm>
              <a:off x="847800" y="4937400"/>
              <a:ext cx="0" cy="13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10"/>
            <p:cNvSpPr/>
            <p:nvPr/>
          </p:nvSpPr>
          <p:spPr>
            <a:xfrm>
              <a:off x="1971720" y="4937400"/>
              <a:ext cx="0" cy="13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11"/>
            <p:cNvSpPr/>
            <p:nvPr/>
          </p:nvSpPr>
          <p:spPr>
            <a:xfrm>
              <a:off x="333360" y="5077080"/>
              <a:ext cx="102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микроваскулар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13"/>
            <p:cNvSpPr/>
            <p:nvPr/>
          </p:nvSpPr>
          <p:spPr>
            <a:xfrm>
              <a:off x="1527120" y="5077080"/>
              <a:ext cx="102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макроваскулар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16"/>
            <p:cNvSpPr/>
            <p:nvPr/>
          </p:nvSpPr>
          <p:spPr>
            <a:xfrm>
              <a:off x="847800" y="5305680"/>
              <a:ext cx="0" cy="13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17"/>
            <p:cNvSpPr/>
            <p:nvPr/>
          </p:nvSpPr>
          <p:spPr>
            <a:xfrm>
              <a:off x="333360" y="5445360"/>
              <a:ext cx="10285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TTP, HU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HELLP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синдро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атероемболијск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боле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18"/>
            <p:cNvSpPr/>
            <p:nvPr/>
          </p:nvSpPr>
          <p:spPr>
            <a:xfrm>
              <a:off x="1971720" y="5305680"/>
              <a:ext cx="0" cy="13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1527120" y="5445360"/>
              <a:ext cx="1028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оклузија</a:t>
              </a: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Р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олест А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20"/>
            <p:cNvSpPr/>
            <p:nvPr/>
          </p:nvSpPr>
          <p:spPr>
            <a:xfrm>
              <a:off x="1971720" y="5858280"/>
              <a:ext cx="0" cy="13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21"/>
            <p:cNvSpPr/>
            <p:nvPr/>
          </p:nvSpPr>
          <p:spPr>
            <a:xfrm>
              <a:off x="1457280" y="5997960"/>
              <a:ext cx="1028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Color Doppl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000" spc="-1" strike="noStrike">
                  <a:solidFill>
                    <a:srgbClr val="000000"/>
                  </a:solidFill>
                  <a:latin typeface="Arial"/>
                </a:rPr>
                <a:t>ултрасонографиј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22"/>
            <p:cNvSpPr/>
            <p:nvPr/>
          </p:nvSpPr>
          <p:spPr>
            <a:xfrm>
              <a:off x="855720" y="6099480"/>
              <a:ext cx="0" cy="36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23"/>
            <p:cNvSpPr/>
            <p:nvPr/>
          </p:nvSpPr>
          <p:spPr>
            <a:xfrm>
              <a:off x="304920" y="6485400"/>
              <a:ext cx="1238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биопсија бубре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39"/>
          <p:cNvGrpSpPr/>
          <p:nvPr/>
        </p:nvGrpSpPr>
        <p:grpSpPr>
          <a:xfrm>
            <a:off x="168120" y="1077840"/>
            <a:ext cx="8801280" cy="5583240"/>
            <a:chOff x="168120" y="1077840"/>
            <a:chExt cx="8801280" cy="5583240"/>
          </a:xfrm>
        </p:grpSpPr>
        <p:sp>
          <p:nvSpPr>
            <p:cNvPr id="259" name="Rectangle 3"/>
            <p:cNvSpPr/>
            <p:nvPr/>
          </p:nvSpPr>
          <p:spPr>
            <a:xfrm>
              <a:off x="362880" y="1077840"/>
              <a:ext cx="84178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СПЕЦИФИЧНА ИСПИТИВАЊА КОД БОЛЕСНИКА СА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АБИ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"/>
            <p:cNvSpPr/>
            <p:nvPr/>
          </p:nvSpPr>
          <p:spPr>
            <a:xfrm>
              <a:off x="188280" y="1408680"/>
              <a:ext cx="878112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5"/>
            <p:cNvSpPr/>
            <p:nvPr/>
          </p:nvSpPr>
          <p:spPr>
            <a:xfrm>
              <a:off x="362880" y="1536840"/>
              <a:ext cx="4151520" cy="479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ffff"/>
                  </a:solidFill>
                  <a:latin typeface="Arial"/>
                </a:rPr>
                <a:t>ИСПИТИВАЊ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7"/>
            <p:cNvSpPr/>
            <p:nvPr/>
          </p:nvSpPr>
          <p:spPr>
            <a:xfrm>
              <a:off x="4517640" y="1536840"/>
              <a:ext cx="4263120" cy="479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ТИП АКУТНОГ ОШТЕЋЕЊА БУБРЕ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8"/>
            <p:cNvSpPr/>
            <p:nvPr/>
          </p:nvSpPr>
          <p:spPr>
            <a:xfrm>
              <a:off x="362520" y="2014560"/>
              <a:ext cx="415332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цидум урику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40"/>
            <p:cNvSpPr/>
            <p:nvPr/>
          </p:nvSpPr>
          <p:spPr>
            <a:xfrm>
              <a:off x="4515840" y="2014560"/>
              <a:ext cx="426636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ндром лизе тумор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(tumor lysis syndrom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3"/>
            <p:cNvSpPr/>
            <p:nvPr/>
          </p:nvSpPr>
          <p:spPr>
            <a:xfrm>
              <a:off x="362520" y="2306880"/>
              <a:ext cx="415332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реатинин киназа и миоглоб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44"/>
            <p:cNvSpPr/>
            <p:nvPr/>
          </p:nvSpPr>
          <p:spPr>
            <a:xfrm>
              <a:off x="4515840" y="2306880"/>
              <a:ext cx="426636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рабдомиоли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8"/>
            <p:cNvSpPr/>
            <p:nvPr/>
          </p:nvSpPr>
          <p:spPr>
            <a:xfrm>
              <a:off x="362520" y="2598840"/>
              <a:ext cx="415332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SA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(prostate specific antige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9"/>
            <p:cNvSpPr/>
            <p:nvPr/>
          </p:nvSpPr>
          <p:spPr>
            <a:xfrm>
              <a:off x="4515840" y="2598840"/>
              <a:ext cx="426636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арцином простат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51"/>
            <p:cNvSpPr/>
            <p:nvPr/>
          </p:nvSpPr>
          <p:spPr>
            <a:xfrm>
              <a:off x="362520" y="2891160"/>
              <a:ext cx="415332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M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мпонента у серу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52"/>
            <p:cNvSpPr/>
            <p:nvPr/>
          </p:nvSpPr>
          <p:spPr>
            <a:xfrm>
              <a:off x="4515840" y="2891160"/>
              <a:ext cx="426636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ултипли мијел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57"/>
            <p:cNvSpPr/>
            <p:nvPr/>
          </p:nvSpPr>
          <p:spPr>
            <a:xfrm>
              <a:off x="362520" y="3183480"/>
              <a:ext cx="415332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иво комплемен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58"/>
            <p:cNvSpPr/>
            <p:nvPr/>
          </p:nvSpPr>
          <p:spPr>
            <a:xfrm>
              <a:off x="4501440" y="3183480"/>
              <a:ext cx="426456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LE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стинфективни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GN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S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60"/>
            <p:cNvSpPr/>
            <p:nvPr/>
          </p:nvSpPr>
          <p:spPr>
            <a:xfrm>
              <a:off x="425160" y="3475440"/>
              <a:ext cx="79812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AN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61"/>
            <p:cNvSpPr/>
            <p:nvPr/>
          </p:nvSpPr>
          <p:spPr>
            <a:xfrm>
              <a:off x="4573800" y="3475440"/>
              <a:ext cx="121572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васкулит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4"/>
            <p:cNvSpPr/>
            <p:nvPr/>
          </p:nvSpPr>
          <p:spPr>
            <a:xfrm>
              <a:off x="362520" y="3767760"/>
              <a:ext cx="415332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ANA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нт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dsDNA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нтите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65"/>
            <p:cNvSpPr/>
            <p:nvPr/>
          </p:nvSpPr>
          <p:spPr>
            <a:xfrm>
              <a:off x="4515840" y="3767760"/>
              <a:ext cx="426312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LE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упус нефрит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67"/>
            <p:cNvSpPr/>
            <p:nvPr/>
          </p:nvSpPr>
          <p:spPr>
            <a:xfrm>
              <a:off x="362520" y="4059720"/>
              <a:ext cx="415332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нт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GBM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нтите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68"/>
            <p:cNvSpPr/>
            <p:nvPr/>
          </p:nvSpPr>
          <p:spPr>
            <a:xfrm>
              <a:off x="4515840" y="4059720"/>
              <a:ext cx="426636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Goodpasure</a:t>
              </a:r>
              <a:r>
                <a:rPr b="1" i="1" lang="sr-Latn-CS" sz="1600" spc="-1" strike="noStrike" baseline="30000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s syndro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69"/>
            <p:cNvSpPr/>
            <p:nvPr/>
          </p:nvSpPr>
          <p:spPr>
            <a:xfrm>
              <a:off x="1160640" y="3475440"/>
              <a:ext cx="33566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Antiproteinase 3 (PR3) antibodies - cAN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71"/>
            <p:cNvSpPr/>
            <p:nvPr/>
          </p:nvSpPr>
          <p:spPr>
            <a:xfrm>
              <a:off x="1160640" y="3623040"/>
              <a:ext cx="335664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Antimyeloperoxidase (MPO)antibodies - pAN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72"/>
            <p:cNvSpPr/>
            <p:nvPr/>
          </p:nvSpPr>
          <p:spPr>
            <a:xfrm>
              <a:off x="5627160" y="3475440"/>
              <a:ext cx="3047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Wegenere</a:t>
              </a:r>
              <a:r>
                <a:rPr b="1" i="1" lang="sr-Latn-CS" sz="1000" spc="-1" strike="noStrike" baseline="30000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s granulomatosis - cAN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3"/>
            <p:cNvSpPr/>
            <p:nvPr/>
          </p:nvSpPr>
          <p:spPr>
            <a:xfrm>
              <a:off x="5625720" y="3624840"/>
              <a:ext cx="304704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000" spc="-1" strike="noStrike">
                  <a:solidFill>
                    <a:srgbClr val="000000"/>
                  </a:solidFill>
                  <a:latin typeface="Arial"/>
                </a:rPr>
                <a:t>Polyarteritis nodosa - pAN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77"/>
            <p:cNvSpPr/>
            <p:nvPr/>
          </p:nvSpPr>
          <p:spPr>
            <a:xfrm>
              <a:off x="362520" y="4352040"/>
              <a:ext cx="4153320" cy="2905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ASTO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итар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нт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DNA B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ита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78"/>
            <p:cNvSpPr/>
            <p:nvPr/>
          </p:nvSpPr>
          <p:spPr>
            <a:xfrm>
              <a:off x="4515840" y="4352040"/>
              <a:ext cx="4266360" cy="2905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стстрептококни гломерулонефрит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0"/>
            <p:cNvSpPr/>
            <p:nvPr/>
          </p:nvSpPr>
          <p:spPr>
            <a:xfrm>
              <a:off x="362520" y="4642560"/>
              <a:ext cx="415332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хаптоглобин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LDH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илируб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81"/>
            <p:cNvSpPr/>
            <p:nvPr/>
          </p:nvSpPr>
          <p:spPr>
            <a:xfrm>
              <a:off x="4515840" y="4642560"/>
              <a:ext cx="426636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HUS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T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84"/>
            <p:cNvSpPr/>
            <p:nvPr/>
          </p:nvSpPr>
          <p:spPr>
            <a:xfrm>
              <a:off x="362520" y="4934520"/>
              <a:ext cx="415332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лбум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85"/>
            <p:cNvSpPr/>
            <p:nvPr/>
          </p:nvSpPr>
          <p:spPr>
            <a:xfrm>
              <a:off x="4515840" y="4934520"/>
              <a:ext cx="426636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фротски синдром, болести јетр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87"/>
            <p:cNvSpPr/>
            <p:nvPr/>
          </p:nvSpPr>
          <p:spPr>
            <a:xfrm>
              <a:off x="362520" y="5226840"/>
              <a:ext cx="415332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калцитон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88"/>
            <p:cNvSpPr/>
            <p:nvPr/>
          </p:nvSpPr>
          <p:spPr>
            <a:xfrm>
              <a:off x="4515840" y="5226840"/>
              <a:ext cx="426636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п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90"/>
            <p:cNvSpPr/>
            <p:nvPr/>
          </p:nvSpPr>
          <p:spPr>
            <a:xfrm>
              <a:off x="362520" y="5518800"/>
              <a:ext cx="415332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ромбоцит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aPTT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IN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91"/>
            <p:cNvSpPr/>
            <p:nvPr/>
          </p:nvSpPr>
          <p:spPr>
            <a:xfrm>
              <a:off x="4515840" y="5518800"/>
              <a:ext cx="4266360" cy="291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IC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повезан са сепс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95"/>
            <p:cNvSpPr/>
            <p:nvPr/>
          </p:nvSpPr>
          <p:spPr>
            <a:xfrm>
              <a:off x="168120" y="5995080"/>
              <a:ext cx="8801280" cy="6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ANCA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antineutrophyl cytoplasmatic antibody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ANA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antinuclear antibody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, Anti-GBM-At - </a:t>
              </a: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antiglomerular basement membran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antibody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SLE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systemic lupus erythematosus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, TTP - </a:t>
              </a: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thrombotic thrombocytopenic purpura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HUS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hemolytic-uremic syndro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LDH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lactat dehydrogenase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DIC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disseminated intravascular coagulation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INR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sr-Latn-CS" sz="1100" spc="-1" strike="noStrike">
                  <a:solidFill>
                    <a:srgbClr val="000000"/>
                  </a:solidFill>
                  <a:latin typeface="Arial"/>
                </a:rPr>
                <a:t>international normalized rat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202320" y="1460880"/>
              <a:ext cx="8767080" cy="5200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4"/>
          <p:cNvGrpSpPr/>
          <p:nvPr/>
        </p:nvGrpSpPr>
        <p:grpSpPr>
          <a:xfrm>
            <a:off x="320760" y="1000080"/>
            <a:ext cx="8474040" cy="5613480"/>
            <a:chOff x="320760" y="1000080"/>
            <a:chExt cx="8474040" cy="5613480"/>
          </a:xfrm>
        </p:grpSpPr>
        <p:sp>
          <p:nvSpPr>
            <p:cNvPr id="296" name="Line 4"/>
            <p:cNvSpPr/>
            <p:nvPr/>
          </p:nvSpPr>
          <p:spPr>
            <a:xfrm flipV="1">
              <a:off x="320760" y="140472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5"/>
            <p:cNvSpPr/>
            <p:nvPr/>
          </p:nvSpPr>
          <p:spPr>
            <a:xfrm>
              <a:off x="330120" y="1303200"/>
              <a:ext cx="8461440" cy="53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АНАМНЕЗА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: бол, анурија/олигур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ФИЗИКАЛНИ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РЕГЛЕД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ОЛЕС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це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запремин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кстраћелијск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еч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мање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запрем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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ув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лузниц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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ме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ртеријског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ити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улс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ме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ложа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ел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tabLst>
                  <a:tab algn="l" pos="0"/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ртостат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хипотенз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већа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запрем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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већан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југулар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венс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итиса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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јав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влажних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укот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лући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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ерифер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де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еглед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бдоме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већан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убрег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атерал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едел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бдоме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већа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окраћ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еши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упрапубич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едео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ОПУНСК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ИЈАГНО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АБОРАТОР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ЕГЛЕД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РВ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ре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реатинин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јоногра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рв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л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ЕГЛЕД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РИ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димен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ри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икрохематур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акрохематур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ФУНКЦ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УБУЛ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акутна тубулска некр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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i="1" lang="sr-Latn-CS" sz="1600" spc="-1" strike="noStrike" baseline="-25000">
                  <a:solidFill>
                    <a:srgbClr val="000000"/>
                  </a:solidFill>
                  <a:latin typeface="Arial"/>
                </a:rPr>
                <a:t>Na+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 20 mmol/l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1" i="1" lang="sr-Latn-CS" sz="1600" spc="-1" strike="noStrike" baseline="-25000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i="1" lang="sr-Latn-C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 2.0%,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Uosm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500 mOsm/kgH</a:t>
              </a:r>
              <a:r>
                <a:rPr b="1" i="1" lang="sr-Latn-C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377640" y="1000080"/>
              <a:ext cx="8417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1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СТ</a:t>
              </a:r>
              <a:r>
                <a:rPr b="1" lang="sr-CS" sz="2100" spc="-1" strike="noStrike">
                  <a:solidFill>
                    <a:srgbClr val="000000"/>
                  </a:solidFill>
                  <a:latin typeface="Arial"/>
                </a:rPr>
                <a:t>РЕНАЛНИ ТИП АКУТНЕ БУБРЕЖНЕ ИНСУФИЦИЈЕНЦИЈЕ</a:t>
              </a:r>
              <a:r>
                <a:rPr b="1" lang="sr-Latn-C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4"/>
          <p:cNvGrpSpPr/>
          <p:nvPr/>
        </p:nvGrpSpPr>
        <p:grpSpPr>
          <a:xfrm>
            <a:off x="320760" y="1014480"/>
            <a:ext cx="8474040" cy="5716440"/>
            <a:chOff x="320760" y="1014480"/>
            <a:chExt cx="8474040" cy="5716440"/>
          </a:xfrm>
        </p:grpSpPr>
        <p:sp>
          <p:nvSpPr>
            <p:cNvPr id="300" name="Line 4"/>
            <p:cNvSpPr/>
            <p:nvPr/>
          </p:nvSpPr>
          <p:spPr>
            <a:xfrm flipV="1">
              <a:off x="320760" y="141912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>
              <a:off x="330120" y="1522440"/>
              <a:ext cx="8461440" cy="52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ОПУНСК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ИЈАГНОСТИКА УРОТРАК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РАДИОЛОШ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СПИТИВАЊ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тив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нимак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ротрак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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нтур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величи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убре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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исуство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нкременат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убрезим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ретерим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ешиц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нтравен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рограф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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тврђивањ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окализаци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пструкци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>
                <a:lnSpc>
                  <a:spcPct val="100000"/>
                </a:lnSpc>
                <a:buClr>
                  <a:srgbClr val="ff7575"/>
                </a:buClr>
                <a:buFont typeface="Arial"/>
                <a:buChar char="•"/>
                <a:tabLst>
                  <a:tab algn="l" pos="262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ризик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д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нтрастн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фропат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"/>
                <a:tabLst>
                  <a:tab algn="l" pos="262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дијабетес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елитус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лиренс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реатини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6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l/m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нтероград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ијелограф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ретроград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ијелограф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Schewassu</a:t>
              </a:r>
              <a:r>
                <a:rPr b="1" i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(дистални део уретер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НДОСКОП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ДИЈАГНОСТ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цистоскопија (м. бешик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ХОСОНОГРАФИЈА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УЛТРАЗВУК УРОТРАК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МПЈУТЕРИЗОВА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ОМОГРАФИЈА УРОТРАК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УКЛЕАР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АГНЕТ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РЕЗОНАНЦА УРОТРАК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3"/>
            <p:cNvSpPr/>
            <p:nvPr/>
          </p:nvSpPr>
          <p:spPr>
            <a:xfrm>
              <a:off x="377640" y="1014480"/>
              <a:ext cx="8417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1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СТ</a:t>
              </a:r>
              <a:r>
                <a:rPr b="1" lang="sr-CS" sz="2100" spc="-1" strike="noStrike">
                  <a:solidFill>
                    <a:srgbClr val="000000"/>
                  </a:solidFill>
                  <a:latin typeface="Arial"/>
                </a:rPr>
                <a:t>РЕНАЛНИ ТИП АКУТНЕ БУБРЕЖНЕ ИНСУФИЦИЈЕНЦИЈЕ</a:t>
              </a:r>
              <a:r>
                <a:rPr b="1" lang="sr-Latn-C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35"/>
          <p:cNvGrpSpPr/>
          <p:nvPr/>
        </p:nvGrpSpPr>
        <p:grpSpPr>
          <a:xfrm>
            <a:off x="174600" y="1063800"/>
            <a:ext cx="8790120" cy="5424480"/>
            <a:chOff x="174600" y="1063800"/>
            <a:chExt cx="8790120" cy="5424480"/>
          </a:xfrm>
        </p:grpSpPr>
        <p:sp>
          <p:nvSpPr>
            <p:cNvPr id="304" name="Rectangle 4"/>
            <p:cNvSpPr/>
            <p:nvPr/>
          </p:nvSpPr>
          <p:spPr>
            <a:xfrm>
              <a:off x="349200" y="1063800"/>
              <a:ext cx="84168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300" spc="-1" strike="noStrike">
                  <a:solidFill>
                    <a:srgbClr val="000000"/>
                  </a:solidFill>
                  <a:latin typeface="Arial"/>
                </a:rPr>
                <a:t>КОМПЛИКАЦИЈЕ АКУТНЕ БУБРЕЖНЕ ИНСУФИЦИЈЕНЦИЈ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5"/>
            <p:cNvSpPr/>
            <p:nvPr/>
          </p:nvSpPr>
          <p:spPr>
            <a:xfrm>
              <a:off x="174600" y="1508760"/>
              <a:ext cx="878040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>
              <a:off x="188640" y="1607760"/>
              <a:ext cx="8766000" cy="488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43"/>
            <p:cNvSpPr/>
            <p:nvPr/>
          </p:nvSpPr>
          <p:spPr>
            <a:xfrm>
              <a:off x="349200" y="1632240"/>
              <a:ext cx="86058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МЕТАБОЛИЧ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43"/>
            <p:cNvSpPr/>
            <p:nvPr/>
          </p:nvSpPr>
          <p:spPr>
            <a:xfrm>
              <a:off x="349200" y="1936800"/>
              <a:ext cx="86058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КАРДИОВАСКУЛАР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43"/>
            <p:cNvSpPr/>
            <p:nvPr/>
          </p:nvSpPr>
          <p:spPr>
            <a:xfrm>
              <a:off x="358920" y="2274120"/>
              <a:ext cx="86058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ГАСТРОИНТЕСТИНАЛ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43"/>
            <p:cNvSpPr/>
            <p:nvPr/>
          </p:nvSpPr>
          <p:spPr>
            <a:xfrm>
              <a:off x="349200" y="2595960"/>
              <a:ext cx="86058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НЕУРОЛОШ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43"/>
            <p:cNvSpPr/>
            <p:nvPr/>
          </p:nvSpPr>
          <p:spPr>
            <a:xfrm>
              <a:off x="349200" y="2914920"/>
              <a:ext cx="86058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ХЕМАТОЛОШ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43"/>
            <p:cNvSpPr/>
            <p:nvPr/>
          </p:nvSpPr>
          <p:spPr>
            <a:xfrm>
              <a:off x="334800" y="3291840"/>
              <a:ext cx="86058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ИНФЕКТИВ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70"/>
          <p:cNvGrpSpPr/>
          <p:nvPr/>
        </p:nvGrpSpPr>
        <p:grpSpPr>
          <a:xfrm>
            <a:off x="174600" y="1006560"/>
            <a:ext cx="8790120" cy="5618160"/>
            <a:chOff x="174600" y="1006560"/>
            <a:chExt cx="8790120" cy="5618160"/>
          </a:xfrm>
        </p:grpSpPr>
        <p:sp>
          <p:nvSpPr>
            <p:cNvPr id="314" name="Rectangle 4"/>
            <p:cNvSpPr/>
            <p:nvPr/>
          </p:nvSpPr>
          <p:spPr>
            <a:xfrm>
              <a:off x="349200" y="1006560"/>
              <a:ext cx="84168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300" spc="-1" strike="noStrike">
                  <a:solidFill>
                    <a:srgbClr val="000000"/>
                  </a:solidFill>
                  <a:latin typeface="Arial"/>
                </a:rPr>
                <a:t>КОМПЛИКАЦИЈЕ АКУТНЕ БУБРЕЖНЕ ИНСУФИЦИЈЕНЦИЈ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"/>
            <p:cNvSpPr/>
            <p:nvPr/>
          </p:nvSpPr>
          <p:spPr>
            <a:xfrm>
              <a:off x="174600" y="1451520"/>
              <a:ext cx="878040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6"/>
            <p:cNvSpPr/>
            <p:nvPr/>
          </p:nvSpPr>
          <p:spPr>
            <a:xfrm>
              <a:off x="188640" y="1524600"/>
              <a:ext cx="8766000" cy="5100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43"/>
            <p:cNvSpPr/>
            <p:nvPr/>
          </p:nvSpPr>
          <p:spPr>
            <a:xfrm>
              <a:off x="188640" y="1524600"/>
              <a:ext cx="87660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МЕТАБОЛИЧКЕ КОМПЛИКАЦИ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43"/>
            <p:cNvSpPr/>
            <p:nvPr/>
          </p:nvSpPr>
          <p:spPr>
            <a:xfrm>
              <a:off x="188640" y="1778040"/>
              <a:ext cx="87660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метаболичка ацидо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3"/>
            <p:cNvSpPr/>
            <p:nvPr/>
          </p:nvSpPr>
          <p:spPr>
            <a:xfrm>
              <a:off x="188640" y="2082600"/>
              <a:ext cx="87660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хиперкалием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3"/>
            <p:cNvSpPr/>
            <p:nvPr/>
          </p:nvSpPr>
          <p:spPr>
            <a:xfrm>
              <a:off x="198720" y="2419920"/>
              <a:ext cx="87660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хипокалцем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3"/>
            <p:cNvSpPr/>
            <p:nvPr/>
          </p:nvSpPr>
          <p:spPr>
            <a:xfrm>
              <a:off x="189000" y="2741760"/>
              <a:ext cx="87660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хиперфосфатем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3"/>
            <p:cNvSpPr/>
            <p:nvPr/>
          </p:nvSpPr>
          <p:spPr>
            <a:xfrm>
              <a:off x="188640" y="3060720"/>
              <a:ext cx="87660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хипонатрием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3"/>
            <p:cNvSpPr/>
            <p:nvPr/>
          </p:nvSpPr>
          <p:spPr>
            <a:xfrm>
              <a:off x="174600" y="3437640"/>
              <a:ext cx="87660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хиперурикем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62"/>
            <p:cNvSpPr/>
            <p:nvPr/>
          </p:nvSpPr>
          <p:spPr>
            <a:xfrm>
              <a:off x="285840" y="4011480"/>
              <a:ext cx="3161880" cy="47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нцентрација К+ у серу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62"/>
            <p:cNvSpPr/>
            <p:nvPr/>
          </p:nvSpPr>
          <p:spPr>
            <a:xfrm>
              <a:off x="3447720" y="4011480"/>
              <a:ext cx="5405040" cy="47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ЕКГ проме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2"/>
            <p:cNvSpPr/>
            <p:nvPr/>
          </p:nvSpPr>
          <p:spPr>
            <a:xfrm>
              <a:off x="285840" y="4489560"/>
              <a:ext cx="3161880" cy="572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лага хиперкалием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(5.5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6.5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mol/l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64"/>
            <p:cNvSpPr/>
            <p:nvPr/>
          </p:nvSpPr>
          <p:spPr>
            <a:xfrm>
              <a:off x="3447720" y="4489560"/>
              <a:ext cx="5405040" cy="572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висок зашиљен </a:t>
              </a:r>
              <a:r>
                <a:rPr b="1" i="1" lang="sr-CS" sz="16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талас са узаном баз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(прекордијални одводи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2"/>
            <p:cNvSpPr/>
            <p:nvPr/>
          </p:nvSpPr>
          <p:spPr>
            <a:xfrm>
              <a:off x="285840" y="5062320"/>
              <a:ext cx="3161880" cy="572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мерена хиперкалием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(6.5 - 8.0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mol/l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66"/>
            <p:cNvSpPr/>
            <p:nvPr/>
          </p:nvSpPr>
          <p:spPr>
            <a:xfrm>
              <a:off x="3447720" y="5062320"/>
              <a:ext cx="5405040" cy="572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шиљени </a:t>
              </a:r>
              <a:r>
                <a:rPr b="1" i="1" lang="sr-CS" sz="16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таласи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мањена амплитуда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таласа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ширен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R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комплек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62"/>
            <p:cNvSpPr/>
            <p:nvPr/>
          </p:nvSpPr>
          <p:spPr>
            <a:xfrm>
              <a:off x="285840" y="5635440"/>
              <a:ext cx="3161880" cy="781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ешка хиперкалием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sr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8.0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mol/l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68"/>
            <p:cNvSpPr/>
            <p:nvPr/>
          </p:nvSpPr>
          <p:spPr>
            <a:xfrm>
              <a:off x="3447720" y="5635440"/>
              <a:ext cx="5405040" cy="781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дсуство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таласа, прогресивно ширење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R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мплекса, комрска тахикардија, фибрилациј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мора, асистолиј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2"/>
          <p:cNvGrpSpPr/>
          <p:nvPr/>
        </p:nvGrpSpPr>
        <p:grpSpPr>
          <a:xfrm>
            <a:off x="174600" y="987480"/>
            <a:ext cx="8780400" cy="4948200"/>
            <a:chOff x="174600" y="987480"/>
            <a:chExt cx="8780400" cy="4948200"/>
          </a:xfrm>
        </p:grpSpPr>
        <p:sp>
          <p:nvSpPr>
            <p:cNvPr id="46" name="Rectangle 4"/>
            <p:cNvSpPr/>
            <p:nvPr/>
          </p:nvSpPr>
          <p:spPr>
            <a:xfrm>
              <a:off x="285480" y="987480"/>
              <a:ext cx="8570880" cy="6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ДЕФИНИЦИЈА АКУТНЕ БУБРЕ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НЕ ИНСУФИЦИЈЕНЦИЈ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5"/>
            <p:cNvSpPr/>
            <p:nvPr/>
          </p:nvSpPr>
          <p:spPr>
            <a:xfrm>
              <a:off x="174600" y="1596960"/>
              <a:ext cx="8780400" cy="0"/>
            </a:xfrm>
            <a:prstGeom prst="line">
              <a:avLst/>
            </a:prstGeom>
            <a:ln w="2844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174600" y="1760400"/>
              <a:ext cx="8780400" cy="19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ЕФИНИЦИЈ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кутна бубрежна инсуфицијенција се дефинише као нагло (унутар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48h)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мањењe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функциje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убрега праћено апсолутним порастом концентрације креатинина 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руму за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26.5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ol/l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0.3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g/dl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/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ли као смањење излучивања мокраће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је се дефинише као диуреза </a:t>
              </a:r>
              <a:r>
                <a:rPr b="1" lang="sr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0.5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l/kg/h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з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≥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4"/>
            <p:cNvSpPr/>
            <p:nvPr/>
          </p:nvSpPr>
          <p:spPr>
            <a:xfrm>
              <a:off x="174600" y="3574080"/>
              <a:ext cx="8780400" cy="23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62080" indent="-262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ПИДЕМИОЛОГ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 algn="just">
                <a:buClr>
                  <a:srgbClr val="ff6363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циденц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кутне бубрежне инсуфицијенци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д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олесника у јединицам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нзивног лечењ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знос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0-25%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циденција тешке акутне бубрежн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суфицијенци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ја захтева лечење дијализом износи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-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 algn="just">
                <a:buClr>
                  <a:srgbClr val="ff6363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опа морталитета болесника са акутном бубрежном инсуфицијенцијом 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јединицама интензивног лечења је висока и износ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50-80%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7"/>
          <p:cNvGrpSpPr/>
          <p:nvPr/>
        </p:nvGrpSpPr>
        <p:grpSpPr>
          <a:xfrm>
            <a:off x="318960" y="1006560"/>
            <a:ext cx="8622000" cy="5618160"/>
            <a:chOff x="318960" y="1006560"/>
            <a:chExt cx="8622000" cy="5618160"/>
          </a:xfrm>
        </p:grpSpPr>
        <p:sp>
          <p:nvSpPr>
            <p:cNvPr id="333" name="Rectangle 4"/>
            <p:cNvSpPr/>
            <p:nvPr/>
          </p:nvSpPr>
          <p:spPr>
            <a:xfrm>
              <a:off x="333720" y="1006560"/>
              <a:ext cx="841752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300" spc="-1" strike="noStrike">
                  <a:solidFill>
                    <a:srgbClr val="000000"/>
                  </a:solidFill>
                  <a:latin typeface="Arial"/>
                </a:rPr>
                <a:t>КОМПЛИКАЦИЈЕ АКУТНЕ БУБРЕЖНЕ ИНСУФИЦИЈЕНЦИЈ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5"/>
            <p:cNvSpPr/>
            <p:nvPr/>
          </p:nvSpPr>
          <p:spPr>
            <a:xfrm>
              <a:off x="318960" y="1437120"/>
              <a:ext cx="845208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6"/>
            <p:cNvSpPr/>
            <p:nvPr/>
          </p:nvSpPr>
          <p:spPr>
            <a:xfrm>
              <a:off x="333720" y="1522080"/>
              <a:ext cx="8417520" cy="5102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43"/>
            <p:cNvSpPr/>
            <p:nvPr/>
          </p:nvSpPr>
          <p:spPr>
            <a:xfrm>
              <a:off x="492840" y="1582560"/>
              <a:ext cx="84380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АРДИОВАСКУЛАРНЕ КОМПЛИКАЦИ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3"/>
            <p:cNvSpPr/>
            <p:nvPr/>
          </p:nvSpPr>
          <p:spPr>
            <a:xfrm>
              <a:off x="492840" y="1908720"/>
              <a:ext cx="84380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хипертенз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3"/>
            <p:cNvSpPr/>
            <p:nvPr/>
          </p:nvSpPr>
          <p:spPr>
            <a:xfrm>
              <a:off x="492840" y="2213280"/>
              <a:ext cx="84380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едем плућ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3"/>
            <p:cNvSpPr/>
            <p:nvPr/>
          </p:nvSpPr>
          <p:spPr>
            <a:xfrm>
              <a:off x="502560" y="2550600"/>
              <a:ext cx="84380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инфаркт миокар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3"/>
            <p:cNvSpPr/>
            <p:nvPr/>
          </p:nvSpPr>
          <p:spPr>
            <a:xfrm>
              <a:off x="492840" y="2872440"/>
              <a:ext cx="84380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ерикардни изли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3"/>
            <p:cNvSpPr/>
            <p:nvPr/>
          </p:nvSpPr>
          <p:spPr>
            <a:xfrm>
              <a:off x="492840" y="3191400"/>
              <a:ext cx="84380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емболија плућ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3"/>
            <p:cNvSpPr/>
            <p:nvPr/>
          </p:nvSpPr>
          <p:spPr>
            <a:xfrm>
              <a:off x="478440" y="3568320"/>
              <a:ext cx="84380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срчане аритмиј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43"/>
            <p:cNvSpPr/>
            <p:nvPr/>
          </p:nvSpPr>
          <p:spPr>
            <a:xfrm>
              <a:off x="3052080" y="4235040"/>
              <a:ext cx="58885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АСТРОИНТЕСТИНАЛНЕ КОМПЛИКАЦИ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3"/>
            <p:cNvSpPr/>
            <p:nvPr/>
          </p:nvSpPr>
          <p:spPr>
            <a:xfrm>
              <a:off x="3052080" y="4561200"/>
              <a:ext cx="58885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му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43"/>
            <p:cNvSpPr/>
            <p:nvPr/>
          </p:nvSpPr>
          <p:spPr>
            <a:xfrm>
              <a:off x="3052080" y="4865400"/>
              <a:ext cx="58885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гађењ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3"/>
            <p:cNvSpPr/>
            <p:nvPr/>
          </p:nvSpPr>
          <p:spPr>
            <a:xfrm>
              <a:off x="3062160" y="5202720"/>
              <a:ext cx="58712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овраћањ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43"/>
            <p:cNvSpPr/>
            <p:nvPr/>
          </p:nvSpPr>
          <p:spPr>
            <a:xfrm>
              <a:off x="3052440" y="5524560"/>
              <a:ext cx="58885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гастроинтестинално крварењ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38"/>
          <p:cNvGrpSpPr/>
          <p:nvPr/>
        </p:nvGrpSpPr>
        <p:grpSpPr>
          <a:xfrm>
            <a:off x="333360" y="1006560"/>
            <a:ext cx="8451720" cy="5618160"/>
            <a:chOff x="333360" y="1006560"/>
            <a:chExt cx="8451720" cy="5618160"/>
          </a:xfrm>
        </p:grpSpPr>
        <p:sp>
          <p:nvSpPr>
            <p:cNvPr id="349" name="Rectangle 4"/>
            <p:cNvSpPr/>
            <p:nvPr/>
          </p:nvSpPr>
          <p:spPr>
            <a:xfrm>
              <a:off x="348120" y="1006560"/>
              <a:ext cx="841752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300" spc="-1" strike="noStrike">
                  <a:solidFill>
                    <a:srgbClr val="000000"/>
                  </a:solidFill>
                  <a:latin typeface="Arial"/>
                </a:rPr>
                <a:t>КОМПЛИКАЦИЈЕ АКУТНЕ БУБРЕЖНЕ ИНСУФИЦИЈЕНЦИЈ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5"/>
            <p:cNvSpPr/>
            <p:nvPr/>
          </p:nvSpPr>
          <p:spPr>
            <a:xfrm>
              <a:off x="333360" y="1437120"/>
              <a:ext cx="845172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"/>
            <p:cNvSpPr/>
            <p:nvPr/>
          </p:nvSpPr>
          <p:spPr>
            <a:xfrm>
              <a:off x="348120" y="1522080"/>
              <a:ext cx="8417520" cy="5102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43"/>
            <p:cNvSpPr/>
            <p:nvPr/>
          </p:nvSpPr>
          <p:spPr>
            <a:xfrm>
              <a:off x="507240" y="1582560"/>
              <a:ext cx="826596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НЕУРОЛОШКЕ КОМПЛИКАЦИ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43"/>
            <p:cNvSpPr/>
            <p:nvPr/>
          </p:nvSpPr>
          <p:spPr>
            <a:xfrm>
              <a:off x="507240" y="1908720"/>
              <a:ext cx="826596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неуромускуларна раздражљиво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43"/>
            <p:cNvSpPr/>
            <p:nvPr/>
          </p:nvSpPr>
          <p:spPr>
            <a:xfrm>
              <a:off x="507240" y="2213280"/>
              <a:ext cx="826596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sterix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43"/>
            <p:cNvSpPr/>
            <p:nvPr/>
          </p:nvSpPr>
          <p:spPr>
            <a:xfrm>
              <a:off x="516960" y="2550600"/>
              <a:ext cx="826596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змењен ментални стату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43"/>
            <p:cNvSpPr/>
            <p:nvPr/>
          </p:nvSpPr>
          <p:spPr>
            <a:xfrm>
              <a:off x="500040" y="3070080"/>
              <a:ext cx="826596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ХЕМАТОЛОШКЕ КОМПЛИКАЦИ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43"/>
            <p:cNvSpPr/>
            <p:nvPr/>
          </p:nvSpPr>
          <p:spPr>
            <a:xfrm>
              <a:off x="500040" y="3396240"/>
              <a:ext cx="826596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анем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43"/>
            <p:cNvSpPr/>
            <p:nvPr/>
          </p:nvSpPr>
          <p:spPr>
            <a:xfrm>
              <a:off x="500040" y="3700800"/>
              <a:ext cx="826596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крварењ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489960" y="4236840"/>
              <a:ext cx="826596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ФЕКТИВНЕ КОМПЛИКАЦИ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43"/>
            <p:cNvSpPr/>
            <p:nvPr/>
          </p:nvSpPr>
          <p:spPr>
            <a:xfrm>
              <a:off x="489960" y="4563000"/>
              <a:ext cx="826596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запаљење плућ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43"/>
            <p:cNvSpPr/>
            <p:nvPr/>
          </p:nvSpPr>
          <p:spPr>
            <a:xfrm>
              <a:off x="489960" y="4867560"/>
              <a:ext cx="826596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септикем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500040" y="5204880"/>
              <a:ext cx="826596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инфекција уринарног трак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39"/>
          <p:cNvGrpSpPr/>
          <p:nvPr/>
        </p:nvGrpSpPr>
        <p:grpSpPr>
          <a:xfrm>
            <a:off x="0" y="1033560"/>
            <a:ext cx="9144000" cy="5532120"/>
            <a:chOff x="0" y="1033560"/>
            <a:chExt cx="9144000" cy="5532120"/>
          </a:xfrm>
        </p:grpSpPr>
        <p:sp>
          <p:nvSpPr>
            <p:cNvPr id="364" name="Rectangle 5"/>
            <p:cNvSpPr/>
            <p:nvPr/>
          </p:nvSpPr>
          <p:spPr>
            <a:xfrm>
              <a:off x="0" y="1033560"/>
              <a:ext cx="9144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200" spc="-1" strike="noStrike">
                  <a:solidFill>
                    <a:srgbClr val="000000"/>
                  </a:solidFill>
                  <a:latin typeface="Arial"/>
                </a:rPr>
                <a:t>ПРОЦЕНА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200" spc="-1" strike="noStrike">
                  <a:solidFill>
                    <a:srgbClr val="000000"/>
                  </a:solidFill>
                  <a:latin typeface="Arial"/>
                </a:rPr>
                <a:t>РИЗИКА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200" spc="-1" strike="noStrike">
                  <a:solidFill>
                    <a:srgbClr val="000000"/>
                  </a:solidFill>
                  <a:latin typeface="Arial"/>
                </a:rPr>
                <a:t>РАЗВОЈА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200" spc="-1" strike="noStrike">
                  <a:solidFill>
                    <a:srgbClr val="000000"/>
                  </a:solidFill>
                  <a:latin typeface="Arial"/>
                </a:rPr>
                <a:t>КОНТРАСТНЕ НЕФРОПАТИЈ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6"/>
            <p:cNvSpPr/>
            <p:nvPr/>
          </p:nvSpPr>
          <p:spPr>
            <a:xfrm>
              <a:off x="525960" y="1443240"/>
              <a:ext cx="810108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54"/>
            <p:cNvGrpSpPr/>
            <p:nvPr/>
          </p:nvGrpSpPr>
          <p:grpSpPr>
            <a:xfrm>
              <a:off x="624960" y="1523160"/>
              <a:ext cx="7921800" cy="5042520"/>
              <a:chOff x="624960" y="1523160"/>
              <a:chExt cx="7921800" cy="5042520"/>
            </a:xfrm>
          </p:grpSpPr>
          <p:sp>
            <p:nvSpPr>
              <p:cNvPr id="367" name="Rectangle 8"/>
              <p:cNvSpPr/>
              <p:nvPr/>
            </p:nvSpPr>
            <p:spPr>
              <a:xfrm>
                <a:off x="653400" y="1523160"/>
                <a:ext cx="4730760" cy="5662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ФАКТОРИ РИЗИ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9"/>
              <p:cNvSpPr/>
              <p:nvPr/>
            </p:nvSpPr>
            <p:spPr>
              <a:xfrm>
                <a:off x="5382720" y="1523160"/>
                <a:ext cx="3164040" cy="568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СК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1"/>
              <p:cNvSpPr/>
              <p:nvPr/>
            </p:nvSpPr>
            <p:spPr>
              <a:xfrm>
                <a:off x="653400" y="2089440"/>
                <a:ext cx="4730760" cy="2602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хипотензиј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систолни притисак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&lt;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80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mHg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2"/>
              <p:cNvSpPr/>
              <p:nvPr/>
            </p:nvSpPr>
            <p:spPr>
              <a:xfrm>
                <a:off x="5382720" y="2089440"/>
                <a:ext cx="3162240" cy="2602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4"/>
              <p:cNvSpPr/>
              <p:nvPr/>
            </p:nvSpPr>
            <p:spPr>
              <a:xfrm>
                <a:off x="653400" y="2350080"/>
                <a:ext cx="4730760" cy="2599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употреба интра-аортне балон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умп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5"/>
              <p:cNvSpPr/>
              <p:nvPr/>
            </p:nvSpPr>
            <p:spPr>
              <a:xfrm>
                <a:off x="5382720" y="2350080"/>
                <a:ext cx="3162240" cy="2599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7"/>
              <p:cNvSpPr/>
              <p:nvPr/>
            </p:nvSpPr>
            <p:spPr>
              <a:xfrm>
                <a:off x="653400" y="2610360"/>
                <a:ext cx="4730760" cy="2599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рчана слабост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(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YHA III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или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V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8"/>
              <p:cNvSpPr/>
              <p:nvPr/>
            </p:nvSpPr>
            <p:spPr>
              <a:xfrm>
                <a:off x="5382720" y="2610360"/>
                <a:ext cx="3162240" cy="2599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20"/>
              <p:cNvSpPr/>
              <p:nvPr/>
            </p:nvSpPr>
            <p:spPr>
              <a:xfrm>
                <a:off x="653400" y="2870640"/>
                <a:ext cx="4730760" cy="2599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године старости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gt;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7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21"/>
              <p:cNvSpPr/>
              <p:nvPr/>
            </p:nvSpPr>
            <p:spPr>
              <a:xfrm>
                <a:off x="5382720" y="2870640"/>
                <a:ext cx="3162240" cy="2599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23"/>
              <p:cNvSpPr/>
              <p:nvPr/>
            </p:nvSpPr>
            <p:spPr>
              <a:xfrm>
                <a:off x="653400" y="3130920"/>
                <a:ext cx="4730760" cy="2599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анем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24"/>
              <p:cNvSpPr/>
              <p:nvPr/>
            </p:nvSpPr>
            <p:spPr>
              <a:xfrm>
                <a:off x="5382720" y="3130920"/>
                <a:ext cx="3162240" cy="2599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26"/>
              <p:cNvSpPr/>
              <p:nvPr/>
            </p:nvSpPr>
            <p:spPr>
              <a:xfrm>
                <a:off x="653400" y="3391200"/>
                <a:ext cx="4730760" cy="2602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abetes mellitu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27"/>
              <p:cNvSpPr/>
              <p:nvPr/>
            </p:nvSpPr>
            <p:spPr>
              <a:xfrm>
                <a:off x="5382720" y="3391200"/>
                <a:ext cx="3162240" cy="2602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29"/>
              <p:cNvSpPr/>
              <p:nvPr/>
            </p:nvSpPr>
            <p:spPr>
              <a:xfrm>
                <a:off x="653400" y="3651840"/>
                <a:ext cx="4730760" cy="2599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волумен контраст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30"/>
              <p:cNvSpPr/>
              <p:nvPr/>
            </p:nvSpPr>
            <p:spPr>
              <a:xfrm>
                <a:off x="5382720" y="3651840"/>
                <a:ext cx="3162240" cy="2599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за сваких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100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m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31"/>
              <p:cNvSpPr/>
              <p:nvPr/>
            </p:nvSpPr>
            <p:spPr>
              <a:xfrm>
                <a:off x="653400" y="3912120"/>
                <a:ext cx="4730760" cy="9392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креатинин у серуму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gt;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1.5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/dl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(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gt;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133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l/l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ил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израчунат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ЈГФ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&lt;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60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l/min/1.73m</a:t>
                </a:r>
                <a:r>
                  <a:rPr b="1" i="1" lang="sr-Latn-CS" sz="16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32"/>
              <p:cNvSpPr/>
              <p:nvPr/>
            </p:nvSpPr>
            <p:spPr>
              <a:xfrm>
                <a:off x="5382720" y="3912120"/>
                <a:ext cx="3162240" cy="2599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33"/>
              <p:cNvSpPr/>
              <p:nvPr/>
            </p:nvSpPr>
            <p:spPr>
              <a:xfrm>
                <a:off x="5382720" y="4172040"/>
                <a:ext cx="3162240" cy="6789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2 (40-59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ml/min/1.73m</a:t>
                </a:r>
                <a:r>
                  <a:rPr b="1" i="1" lang="sr-Latn-CS" sz="16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4 (20-39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ml/min/1.73m</a:t>
                </a:r>
                <a:r>
                  <a:rPr b="1" i="1" lang="sr-Latn-CS" sz="16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6 (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&lt;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20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l/min/1.73m</a:t>
                </a:r>
                <a:r>
                  <a:rPr b="1" i="1" lang="sr-Latn-CS" sz="16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2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34"/>
              <p:cNvSpPr/>
              <p:nvPr/>
            </p:nvSpPr>
            <p:spPr>
              <a:xfrm>
                <a:off x="624960" y="5011920"/>
                <a:ext cx="1916280" cy="4867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укупни скор риз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35"/>
              <p:cNvSpPr/>
              <p:nvPr/>
            </p:nvSpPr>
            <p:spPr>
              <a:xfrm>
                <a:off x="2742840" y="5011920"/>
                <a:ext cx="2814480" cy="4867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ризик повећања креатинина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серуму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за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gt;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.5 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dl (44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l/l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36"/>
              <p:cNvSpPr/>
              <p:nvPr/>
            </p:nvSpPr>
            <p:spPr>
              <a:xfrm>
                <a:off x="5354280" y="5011920"/>
                <a:ext cx="3162240" cy="48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ризик од дијализ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38"/>
              <p:cNvSpPr/>
              <p:nvPr/>
            </p:nvSpPr>
            <p:spPr>
              <a:xfrm>
                <a:off x="624960" y="5499000"/>
                <a:ext cx="1916280" cy="266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39"/>
              <p:cNvSpPr/>
              <p:nvPr/>
            </p:nvSpPr>
            <p:spPr>
              <a:xfrm>
                <a:off x="624960" y="5765760"/>
                <a:ext cx="1916280" cy="266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6 - 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40"/>
              <p:cNvSpPr/>
              <p:nvPr/>
            </p:nvSpPr>
            <p:spPr>
              <a:xfrm>
                <a:off x="2744280" y="5499000"/>
                <a:ext cx="2813040" cy="266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7.5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41"/>
              <p:cNvSpPr/>
              <p:nvPr/>
            </p:nvSpPr>
            <p:spPr>
              <a:xfrm>
                <a:off x="5354280" y="5499000"/>
                <a:ext cx="3162240" cy="266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0.04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42"/>
              <p:cNvSpPr/>
              <p:nvPr/>
            </p:nvSpPr>
            <p:spPr>
              <a:xfrm>
                <a:off x="2744280" y="5765760"/>
                <a:ext cx="2813040" cy="266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14.0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43"/>
              <p:cNvSpPr/>
              <p:nvPr/>
            </p:nvSpPr>
            <p:spPr>
              <a:xfrm>
                <a:off x="5354280" y="5765760"/>
                <a:ext cx="3162240" cy="266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0.12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45"/>
              <p:cNvSpPr/>
              <p:nvPr/>
            </p:nvSpPr>
            <p:spPr>
              <a:xfrm>
                <a:off x="624960" y="6032520"/>
                <a:ext cx="1916280" cy="266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11 - 1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46"/>
              <p:cNvSpPr/>
              <p:nvPr/>
            </p:nvSpPr>
            <p:spPr>
              <a:xfrm>
                <a:off x="624960" y="6299280"/>
                <a:ext cx="1916280" cy="266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47"/>
              <p:cNvSpPr/>
              <p:nvPr/>
            </p:nvSpPr>
            <p:spPr>
              <a:xfrm>
                <a:off x="2744280" y="6032520"/>
                <a:ext cx="2813040" cy="266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26.1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ectangle 48"/>
              <p:cNvSpPr/>
              <p:nvPr/>
            </p:nvSpPr>
            <p:spPr>
              <a:xfrm>
                <a:off x="5354280" y="6032520"/>
                <a:ext cx="3162240" cy="266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1.09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49"/>
              <p:cNvSpPr/>
              <p:nvPr/>
            </p:nvSpPr>
            <p:spPr>
              <a:xfrm>
                <a:off x="2744280" y="6299280"/>
                <a:ext cx="2813040" cy="266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57.3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50"/>
              <p:cNvSpPr/>
              <p:nvPr/>
            </p:nvSpPr>
            <p:spPr>
              <a:xfrm>
                <a:off x="5354280" y="6299280"/>
                <a:ext cx="3162240" cy="2664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12.6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1"/>
          <p:cNvGrpSpPr/>
          <p:nvPr/>
        </p:nvGrpSpPr>
        <p:grpSpPr>
          <a:xfrm>
            <a:off x="369720" y="1139760"/>
            <a:ext cx="8350560" cy="5465880"/>
            <a:chOff x="369720" y="1139760"/>
            <a:chExt cx="8350560" cy="5465880"/>
          </a:xfrm>
        </p:grpSpPr>
        <p:sp>
          <p:nvSpPr>
            <p:cNvPr id="402" name="Rectangle 7"/>
            <p:cNvSpPr/>
            <p:nvPr/>
          </p:nvSpPr>
          <p:spPr>
            <a:xfrm>
              <a:off x="2569320" y="1139760"/>
              <a:ext cx="4136040" cy="65088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Израчунавање </a:t>
              </a:r>
              <a:r>
                <a:rPr b="1" i="1" lang="sr-Latn-CS" sz="1600" spc="-1" strike="noStrike">
                  <a:solidFill>
                    <a:srgbClr val="ffffff"/>
                  </a:solidFill>
                  <a:latin typeface="Arial"/>
                </a:rPr>
                <a:t>eGFR</a:t>
              </a: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 ил</a:t>
              </a: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ffffff"/>
                  </a:solidFill>
                  <a:latin typeface="Arial"/>
                </a:rPr>
                <a:t>CC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ffff"/>
                  </a:solidFill>
                  <a:latin typeface="Arial"/>
                </a:rPr>
                <a:t>Процена </a:t>
              </a:r>
              <a:r>
                <a:rPr b="1" lang="sr-CS" sz="1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1" lang="sr-Latn-CS" sz="1200" spc="-1" strike="noStrike">
                  <a:solidFill>
                    <a:srgbClr val="ffffff"/>
                  </a:solidFill>
                  <a:latin typeface="Arial"/>
                </a:rPr>
                <a:t>из</a:t>
              </a:r>
              <a:r>
                <a:rPr b="1" lang="sr-CS" sz="12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r>
                <a:rPr b="1" lang="sr-Latn-CS" sz="1200" spc="-1" strike="noStrike">
                  <a:solidFill>
                    <a:srgbClr val="ffffff"/>
                  </a:solidFill>
                  <a:latin typeface="Arial"/>
                </a:rPr>
                <a:t>кa </a:t>
              </a:r>
              <a:r>
                <a:rPr b="1" lang="sr-CS" sz="1200" spc="-1" strike="noStrike">
                  <a:solidFill>
                    <a:srgbClr val="ffffff"/>
                  </a:solidFill>
                  <a:latin typeface="Arial"/>
                </a:rPr>
                <a:t>за</a:t>
              </a:r>
              <a:r>
                <a:rPr b="1" lang="sr-Latn-C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ffffff"/>
                  </a:solidFill>
                  <a:latin typeface="Arial"/>
                </a:rPr>
                <a:t>развој</a:t>
              </a:r>
              <a:r>
                <a:rPr b="1" lang="sr-Latn-C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ffffff"/>
                  </a:solidFill>
                  <a:latin typeface="Arial"/>
                </a:rPr>
                <a:t>контрастне нефропатиј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8"/>
            <p:cNvSpPr/>
            <p:nvPr/>
          </p:nvSpPr>
          <p:spPr>
            <a:xfrm>
              <a:off x="4640040" y="1790640"/>
              <a:ext cx="0" cy="18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9"/>
            <p:cNvSpPr/>
            <p:nvPr/>
          </p:nvSpPr>
          <p:spPr>
            <a:xfrm>
              <a:off x="1726200" y="1931040"/>
              <a:ext cx="5877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0"/>
            <p:cNvSpPr/>
            <p:nvPr/>
          </p:nvSpPr>
          <p:spPr>
            <a:xfrm>
              <a:off x="1726200" y="1931040"/>
              <a:ext cx="0" cy="19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1"/>
            <p:cNvSpPr/>
            <p:nvPr/>
          </p:nvSpPr>
          <p:spPr>
            <a:xfrm>
              <a:off x="4638960" y="1934640"/>
              <a:ext cx="0" cy="19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2"/>
            <p:cNvSpPr/>
            <p:nvPr/>
          </p:nvSpPr>
          <p:spPr>
            <a:xfrm>
              <a:off x="7607520" y="1931040"/>
              <a:ext cx="0" cy="20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3"/>
            <p:cNvSpPr/>
            <p:nvPr/>
          </p:nvSpPr>
          <p:spPr>
            <a:xfrm>
              <a:off x="611640" y="2071440"/>
              <a:ext cx="222264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eGFR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 30 ml/m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искључ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NSAIDs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стале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нeфрo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oк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ич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oвe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етформ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4"/>
            <p:cNvSpPr/>
            <p:nvPr/>
          </p:nvSpPr>
          <p:spPr>
            <a:xfrm>
              <a:off x="3533040" y="2071440"/>
              <a:ext cx="222264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eGFR 30 - 59 ml/m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искључ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NSAIDs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оs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ал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нeфрoтoксич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еков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етформ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5"/>
            <p:cNvSpPr/>
            <p:nvPr/>
          </p:nvSpPr>
          <p:spPr>
            <a:xfrm>
              <a:off x="6497640" y="2041200"/>
              <a:ext cx="222264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eGFR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 60 ml/m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искључ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етформ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6"/>
            <p:cNvSpPr/>
            <p:nvPr/>
          </p:nvSpPr>
          <p:spPr>
            <a:xfrm>
              <a:off x="4640040" y="3108960"/>
              <a:ext cx="0" cy="18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7"/>
            <p:cNvSpPr/>
            <p:nvPr/>
          </p:nvSpPr>
          <p:spPr>
            <a:xfrm>
              <a:off x="3031560" y="3316320"/>
              <a:ext cx="3226320" cy="32832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i.v.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зотони (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NaCl/NaHCO</a:t>
              </a:r>
              <a:r>
                <a:rPr b="1" i="1" lang="sr-Latn-C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1.0-1.5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ml/kg/h 3-12h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пре и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6-24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после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п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рoцeду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р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oтoк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урин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50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l/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изоoсмoларн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К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ACS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, други факто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ри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риз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М ниске о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мoла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рн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одсу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твo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додатних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фaк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oрa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ри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волумен кo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трас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тног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медију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30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ml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дијагност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к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ml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дијагност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кa+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интервенциј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употреба лeкoвa/aн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иo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ксидан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NAC 1200 mg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2x1 пре и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осл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роцедуре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итамин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3.0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g p.p.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пре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р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оцeдуre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622760"/>
                  <a:tab algn="l" pos="4978440"/>
                  <a:tab algn="l" pos="5334120"/>
                  <a:tab algn="l" pos="5689440"/>
                  <a:tab algn="l" pos="6045120"/>
                  <a:tab algn="l" pos="6400800"/>
                  <a:tab algn="l" pos="6756480"/>
                  <a:tab algn="l" pos="71121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2.0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2x1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.o.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осле процеду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8"/>
            <p:cNvSpPr/>
            <p:nvPr/>
          </p:nvSpPr>
          <p:spPr>
            <a:xfrm>
              <a:off x="7607520" y="3128760"/>
              <a:ext cx="0" cy="18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9"/>
            <p:cNvSpPr/>
            <p:nvPr/>
          </p:nvSpPr>
          <p:spPr>
            <a:xfrm>
              <a:off x="6492960" y="3185640"/>
              <a:ext cx="22226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обра клиничка прак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0"/>
            <p:cNvSpPr/>
            <p:nvPr/>
          </p:nvSpPr>
          <p:spPr>
            <a:xfrm>
              <a:off x="1686600" y="3094200"/>
              <a:ext cx="0" cy="18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1"/>
            <p:cNvSpPr/>
            <p:nvPr/>
          </p:nvSpPr>
          <p:spPr>
            <a:xfrm>
              <a:off x="369720" y="3256560"/>
              <a:ext cx="2666520" cy="136440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8892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хоспитализација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бол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есн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8892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стратегија као и з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892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GFR 30 - 59 </a:t>
              </a:r>
              <a:r>
                <a:rPr b="1" i="1" lang="sr-Latn-CS" sz="1400" spc="-1" strike="noStrike">
                  <a:solidFill>
                    <a:srgbClr val="ffffff"/>
                  </a:solidFill>
                  <a:latin typeface="Arial"/>
                </a:rPr>
                <a:t>ml/m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8892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консултацијa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нефроло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8892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азмотрити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хемодијализ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892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п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e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после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процеду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2"/>
            <p:cNvSpPr/>
            <p:nvPr/>
          </p:nvSpPr>
          <p:spPr>
            <a:xfrm>
              <a:off x="1701000" y="4680720"/>
              <a:ext cx="0" cy="74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681480" y="5335560"/>
              <a:ext cx="20386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8892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креатинин у серум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892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ре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и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24-96h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осл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8920"/>
                  <a:tab algn="l" pos="266760"/>
                  <a:tab algn="l" pos="533520"/>
                  <a:tab algn="l" pos="800280"/>
                  <a:tab algn="l" pos="1066680"/>
                  <a:tab algn="l" pos="1333440"/>
                  <a:tab algn="l" pos="1600200"/>
                  <a:tab algn="l" pos="1866960"/>
                  <a:tab algn="l" pos="2133720"/>
                  <a:tab algn="l" pos="2400480"/>
                  <a:tab algn="l" pos="2666880"/>
                  <a:tab algn="l" pos="2933640"/>
                  <a:tab algn="l" pos="3200400"/>
                  <a:tab algn="l" pos="3467160"/>
                  <a:tab algn="l" pos="3733920"/>
                  <a:tab algn="l" pos="4000680"/>
                  <a:tab algn="l" pos="4267080"/>
                  <a:tab algn="l" pos="4533840"/>
                  <a:tab algn="l" pos="4800600"/>
                  <a:tab algn="l" pos="5067360"/>
                  <a:tab algn="l" pos="533412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роцеду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4"/>
            <p:cNvSpPr/>
            <p:nvPr/>
          </p:nvSpPr>
          <p:spPr>
            <a:xfrm flipH="1">
              <a:off x="2700000" y="5977080"/>
              <a:ext cx="268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4"/>
          <p:cNvGrpSpPr/>
          <p:nvPr/>
        </p:nvGrpSpPr>
        <p:grpSpPr>
          <a:xfrm>
            <a:off x="174600" y="966960"/>
            <a:ext cx="8788320" cy="5594040"/>
            <a:chOff x="174600" y="966960"/>
            <a:chExt cx="8788320" cy="5594040"/>
          </a:xfrm>
        </p:grpSpPr>
        <p:sp>
          <p:nvSpPr>
            <p:cNvPr id="421" name="Rectangle 2"/>
            <p:cNvSpPr/>
            <p:nvPr/>
          </p:nvSpPr>
          <p:spPr>
            <a:xfrm>
              <a:off x="285480" y="966960"/>
              <a:ext cx="85708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НЕФАРМАКОЛОШКА ТЕРАПИЈСКА СТРАТЕГИЈ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3"/>
            <p:cNvSpPr/>
            <p:nvPr/>
          </p:nvSpPr>
          <p:spPr>
            <a:xfrm>
              <a:off x="174600" y="1451880"/>
              <a:ext cx="8780400" cy="0"/>
            </a:xfrm>
            <a:prstGeom prst="line">
              <a:avLst/>
            </a:prstGeom>
            <a:ln w="2844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"/>
            <p:cNvSpPr/>
            <p:nvPr/>
          </p:nvSpPr>
          <p:spPr>
            <a:xfrm>
              <a:off x="177480" y="1507680"/>
              <a:ext cx="8785440" cy="5053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5"/>
            <p:cNvSpPr/>
            <p:nvPr/>
          </p:nvSpPr>
          <p:spPr>
            <a:xfrm>
              <a:off x="285480" y="1611000"/>
              <a:ext cx="8570880" cy="21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ФАРМАКОЛОШ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ЕРАПИЈСКА СТРАТЕГИЈА З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ЕВЕНЦИЈ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РАЗВО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Б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6363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декватна хидрац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птимални статус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волеми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6363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државање средњег артеријског крвног притис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6363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збегавање употребе нефротоксичних агена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6363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миногликозид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6363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радиоконтрастн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 сред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buClr>
                  <a:srgbClr val="ff6363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мфотерицин Б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нвенционал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9"/>
            <p:cNvGrpSpPr/>
            <p:nvPr/>
          </p:nvGrpSpPr>
          <p:grpSpPr>
            <a:xfrm>
              <a:off x="725400" y="4333680"/>
              <a:ext cx="7633440" cy="1790640"/>
              <a:chOff x="725400" y="4333680"/>
              <a:chExt cx="7633440" cy="1790640"/>
            </a:xfrm>
          </p:grpSpPr>
          <p:sp>
            <p:nvSpPr>
              <p:cNvPr id="426" name="Rectangle 10"/>
              <p:cNvSpPr/>
              <p:nvPr/>
            </p:nvSpPr>
            <p:spPr>
              <a:xfrm>
                <a:off x="725400" y="4333680"/>
                <a:ext cx="1287360" cy="52056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ffffff"/>
                    </a:solidFill>
                    <a:latin typeface="Arial"/>
                  </a:rPr>
                  <a:t>Р.Бр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1"/>
              <p:cNvSpPr/>
              <p:nvPr/>
            </p:nvSpPr>
            <p:spPr>
              <a:xfrm>
                <a:off x="2012760" y="4333680"/>
                <a:ext cx="6344280" cy="52056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ffffff"/>
                    </a:solidFill>
                    <a:latin typeface="Arial"/>
                  </a:rPr>
                  <a:t>АДЕКВАТАН ХЕМОДИНАМСКИ СТАТУ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Group 12"/>
              <p:cNvGrpSpPr/>
              <p:nvPr/>
            </p:nvGrpSpPr>
            <p:grpSpPr>
              <a:xfrm>
                <a:off x="725400" y="4854240"/>
                <a:ext cx="7633440" cy="635040"/>
                <a:chOff x="725400" y="4854240"/>
                <a:chExt cx="7633440" cy="635040"/>
              </a:xfrm>
            </p:grpSpPr>
            <p:grpSp>
              <p:nvGrpSpPr>
                <p:cNvPr id="429" name="Group 13"/>
                <p:cNvGrpSpPr/>
                <p:nvPr/>
              </p:nvGrpSpPr>
              <p:grpSpPr>
                <a:xfrm>
                  <a:off x="725400" y="4854240"/>
                  <a:ext cx="7633440" cy="317520"/>
                  <a:chOff x="725400" y="4854240"/>
                  <a:chExt cx="7633440" cy="317520"/>
                </a:xfrm>
              </p:grpSpPr>
              <p:sp>
                <p:nvSpPr>
                  <p:cNvPr id="430" name="Rectangle 14"/>
                  <p:cNvSpPr/>
                  <p:nvPr/>
                </p:nvSpPr>
                <p:spPr>
                  <a:xfrm>
                    <a:off x="725400" y="4854240"/>
                    <a:ext cx="1287360" cy="317520"/>
                  </a:xfrm>
                  <a:prstGeom prst="rect">
                    <a:avLst/>
                  </a:prstGeom>
                  <a:noFill/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Latn-C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1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Rectangle 15"/>
                  <p:cNvSpPr/>
                  <p:nvPr/>
                </p:nvSpPr>
                <p:spPr>
                  <a:xfrm>
                    <a:off x="2012760" y="4854240"/>
                    <a:ext cx="6346080" cy="317520"/>
                  </a:xfrm>
                  <a:prstGeom prst="rect">
                    <a:avLst/>
                  </a:prstGeom>
                  <a:noFill/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C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централни венски притисак</a:t>
                    </a:r>
                    <a:r>
                      <a:rPr b="1" lang="sr-Latn-C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 - </a:t>
                    </a:r>
                    <a:r>
                      <a:rPr b="1" i="1" lang="sr-Latn-C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VP 8-12 </a:t>
                    </a:r>
                    <a:r>
                      <a:rPr b="1" i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mmH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Group 16"/>
                <p:cNvGrpSpPr/>
                <p:nvPr/>
              </p:nvGrpSpPr>
              <p:grpSpPr>
                <a:xfrm>
                  <a:off x="725400" y="5171760"/>
                  <a:ext cx="7633440" cy="317520"/>
                  <a:chOff x="725400" y="5171760"/>
                  <a:chExt cx="7633440" cy="317520"/>
                </a:xfrm>
              </p:grpSpPr>
              <p:sp>
                <p:nvSpPr>
                  <p:cNvPr id="433" name="Rectangle 17"/>
                  <p:cNvSpPr/>
                  <p:nvPr/>
                </p:nvSpPr>
                <p:spPr>
                  <a:xfrm>
                    <a:off x="725400" y="5171760"/>
                    <a:ext cx="1287360" cy="317520"/>
                  </a:xfrm>
                  <a:prstGeom prst="rect">
                    <a:avLst/>
                  </a:prstGeom>
                  <a:noFill/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Latn-C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2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Rectangle 18"/>
                  <p:cNvSpPr/>
                  <p:nvPr/>
                </p:nvSpPr>
                <p:spPr>
                  <a:xfrm>
                    <a:off x="2012760" y="5171760"/>
                    <a:ext cx="6346080" cy="317520"/>
                  </a:xfrm>
                  <a:prstGeom prst="rect">
                    <a:avLst/>
                  </a:prstGeom>
                  <a:noFill/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C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средњи артеријски крвни притисак</a:t>
                    </a:r>
                    <a:r>
                      <a:rPr b="1" lang="sr-Latn-C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 - </a:t>
                    </a:r>
                    <a:r>
                      <a:rPr b="1" i="1" lang="sr-Latn-C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AP </a:t>
                    </a:r>
                    <a:r>
                      <a:rPr b="1" i="1" lang="sr-Latn-C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</a:t>
                    </a:r>
                    <a:r>
                      <a:rPr b="1" i="1" lang="sr-Latn-C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 65 mmH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5" name="Group 19"/>
              <p:cNvGrpSpPr/>
              <p:nvPr/>
            </p:nvGrpSpPr>
            <p:grpSpPr>
              <a:xfrm>
                <a:off x="725400" y="5489280"/>
                <a:ext cx="7633440" cy="635040"/>
                <a:chOff x="725400" y="5489280"/>
                <a:chExt cx="7633440" cy="635040"/>
              </a:xfrm>
            </p:grpSpPr>
            <p:grpSp>
              <p:nvGrpSpPr>
                <p:cNvPr id="436" name="Group 20"/>
                <p:cNvGrpSpPr/>
                <p:nvPr/>
              </p:nvGrpSpPr>
              <p:grpSpPr>
                <a:xfrm>
                  <a:off x="725400" y="5489280"/>
                  <a:ext cx="7633440" cy="317520"/>
                  <a:chOff x="725400" y="5489280"/>
                  <a:chExt cx="7633440" cy="317520"/>
                </a:xfrm>
              </p:grpSpPr>
              <p:sp>
                <p:nvSpPr>
                  <p:cNvPr id="437" name="Rectangle 21"/>
                  <p:cNvSpPr/>
                  <p:nvPr/>
                </p:nvSpPr>
                <p:spPr>
                  <a:xfrm>
                    <a:off x="725400" y="5489280"/>
                    <a:ext cx="1287360" cy="317520"/>
                  </a:xfrm>
                  <a:prstGeom prst="rect">
                    <a:avLst/>
                  </a:prstGeom>
                  <a:noFill/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Latn-C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3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Rectangle 22"/>
                  <p:cNvSpPr/>
                  <p:nvPr/>
                </p:nvSpPr>
                <p:spPr>
                  <a:xfrm>
                    <a:off x="2012760" y="5489280"/>
                    <a:ext cx="6346080" cy="317520"/>
                  </a:xfrm>
                  <a:prstGeom prst="rect">
                    <a:avLst/>
                  </a:prstGeom>
                  <a:noFill/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C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диуреза</a:t>
                    </a:r>
                    <a:r>
                      <a:rPr b="1" lang="sr-Latn-C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lang="sr-Latn-C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</a:t>
                    </a:r>
                    <a:r>
                      <a:rPr b="1" lang="sr-Latn-C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 0.5 </a:t>
                    </a:r>
                    <a:r>
                      <a:rPr b="1" i="1" lang="sr-Latn-C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ml/kg/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Group 23"/>
                <p:cNvGrpSpPr/>
                <p:nvPr/>
              </p:nvGrpSpPr>
              <p:grpSpPr>
                <a:xfrm>
                  <a:off x="725400" y="5806800"/>
                  <a:ext cx="7633440" cy="317520"/>
                  <a:chOff x="725400" y="5806800"/>
                  <a:chExt cx="7633440" cy="317520"/>
                </a:xfrm>
              </p:grpSpPr>
              <p:sp>
                <p:nvSpPr>
                  <p:cNvPr id="440" name="Rectangle 24"/>
                  <p:cNvSpPr/>
                  <p:nvPr/>
                </p:nvSpPr>
                <p:spPr>
                  <a:xfrm>
                    <a:off x="725400" y="5806800"/>
                    <a:ext cx="1287360" cy="317520"/>
                  </a:xfrm>
                  <a:prstGeom prst="rect">
                    <a:avLst/>
                  </a:prstGeom>
                  <a:noFill/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Latn-C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4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Rectangle 25"/>
                  <p:cNvSpPr/>
                  <p:nvPr/>
                </p:nvSpPr>
                <p:spPr>
                  <a:xfrm>
                    <a:off x="2012760" y="5806800"/>
                    <a:ext cx="6346080" cy="317520"/>
                  </a:xfrm>
                  <a:prstGeom prst="rect">
                    <a:avLst/>
                  </a:prstGeom>
                  <a:noFill/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C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централна венска сатурација кисеоником</a:t>
                    </a:r>
                    <a:r>
                      <a:rPr b="1" lang="sr-Latn-C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 - </a:t>
                    </a:r>
                    <a:r>
                      <a:rPr b="1" i="1" lang="sr-Latn-C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cvO</a:t>
                    </a:r>
                    <a:r>
                      <a:rPr b="1" i="1" lang="sr-Latn-C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 </a:t>
                    </a:r>
                    <a:r>
                      <a:rPr b="1" i="1" lang="sr-Latn-C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</a:t>
                    </a:r>
                    <a:r>
                      <a:rPr b="1" i="1" lang="sr-Latn-C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 70%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42" name="Rectangle 27"/>
            <p:cNvSpPr/>
            <p:nvPr/>
          </p:nvSpPr>
          <p:spPr>
            <a:xfrm>
              <a:off x="363240" y="3836520"/>
              <a:ext cx="8417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ДЕКВАТ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НТРАВЕН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ХИДРАЦ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НАВЉАЊЕ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ВОЛУМЕ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4"/>
          <p:cNvGrpSpPr/>
          <p:nvPr/>
        </p:nvGrpSpPr>
        <p:grpSpPr>
          <a:xfrm>
            <a:off x="189000" y="1060560"/>
            <a:ext cx="8780400" cy="5256000"/>
            <a:chOff x="189000" y="1060560"/>
            <a:chExt cx="8780400" cy="5256000"/>
          </a:xfrm>
        </p:grpSpPr>
        <p:sp>
          <p:nvSpPr>
            <p:cNvPr id="444" name="Line 5"/>
            <p:cNvSpPr/>
            <p:nvPr/>
          </p:nvSpPr>
          <p:spPr>
            <a:xfrm>
              <a:off x="189000" y="1525320"/>
              <a:ext cx="878040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51"/>
            <p:cNvSpPr/>
            <p:nvPr/>
          </p:nvSpPr>
          <p:spPr>
            <a:xfrm>
              <a:off x="291240" y="3657960"/>
              <a:ext cx="612000" cy="431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.Бр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3"/>
            <p:cNvSpPr/>
            <p:nvPr/>
          </p:nvSpPr>
          <p:spPr>
            <a:xfrm>
              <a:off x="903960" y="3657960"/>
              <a:ext cx="2367720" cy="4298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ffffff"/>
                  </a:solidFill>
                  <a:latin typeface="Arial"/>
                </a:rPr>
                <a:t>Назив аген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55"/>
            <p:cNvSpPr/>
            <p:nvPr/>
          </p:nvSpPr>
          <p:spPr>
            <a:xfrm>
              <a:off x="3149640" y="3657960"/>
              <a:ext cx="2378880" cy="431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ffffff"/>
                  </a:solidFill>
                  <a:latin typeface="Arial"/>
                </a:rPr>
                <a:t>До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56"/>
            <p:cNvSpPr/>
            <p:nvPr/>
          </p:nvSpPr>
          <p:spPr>
            <a:xfrm>
              <a:off x="5528520" y="3657960"/>
              <a:ext cx="3247200" cy="431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Деј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8"/>
            <p:cNvSpPr/>
            <p:nvPr/>
          </p:nvSpPr>
          <p:spPr>
            <a:xfrm>
              <a:off x="291240" y="4088160"/>
              <a:ext cx="610920" cy="3204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59"/>
            <p:cNvSpPr/>
            <p:nvPr/>
          </p:nvSpPr>
          <p:spPr>
            <a:xfrm>
              <a:off x="903960" y="4089600"/>
              <a:ext cx="2367720" cy="3171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Норепинефр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60"/>
            <p:cNvSpPr/>
            <p:nvPr/>
          </p:nvSpPr>
          <p:spPr>
            <a:xfrm>
              <a:off x="3150000" y="4088160"/>
              <a:ext cx="2376720" cy="318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0.1 - 0.2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g/kg/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62"/>
            <p:cNvSpPr/>
            <p:nvPr/>
          </p:nvSpPr>
          <p:spPr>
            <a:xfrm>
              <a:off x="5526720" y="4089600"/>
              <a:ext cx="3249000" cy="3171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стемско вазоконстриктор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65"/>
            <p:cNvSpPr/>
            <p:nvPr/>
          </p:nvSpPr>
          <p:spPr>
            <a:xfrm>
              <a:off x="3150000" y="4408920"/>
              <a:ext cx="2376720" cy="3157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1.0 - 3.0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g/kg/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66"/>
            <p:cNvSpPr/>
            <p:nvPr/>
          </p:nvSpPr>
          <p:spPr>
            <a:xfrm>
              <a:off x="5526720" y="4407120"/>
              <a:ext cx="3249000" cy="3171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ренално вазодилататор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68"/>
            <p:cNvSpPr/>
            <p:nvPr/>
          </p:nvSpPr>
          <p:spPr>
            <a:xfrm>
              <a:off x="3150000" y="4724640"/>
              <a:ext cx="2376720" cy="3171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3.0 - 5.0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g/kg/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69"/>
            <p:cNvSpPr/>
            <p:nvPr/>
          </p:nvSpPr>
          <p:spPr>
            <a:xfrm>
              <a:off x="5526720" y="4724640"/>
              <a:ext cx="3249000" cy="3171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нотроп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71"/>
            <p:cNvSpPr/>
            <p:nvPr/>
          </p:nvSpPr>
          <p:spPr>
            <a:xfrm>
              <a:off x="3150000" y="5040720"/>
              <a:ext cx="2376720" cy="3189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5.0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g/kg/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72"/>
            <p:cNvSpPr/>
            <p:nvPr/>
          </p:nvSpPr>
          <p:spPr>
            <a:xfrm>
              <a:off x="5526720" y="5042160"/>
              <a:ext cx="3249000" cy="3171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стемско вазоконстриктор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75"/>
            <p:cNvSpPr/>
            <p:nvPr/>
          </p:nvSpPr>
          <p:spPr>
            <a:xfrm>
              <a:off x="291240" y="4407120"/>
              <a:ext cx="577440" cy="9536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6"/>
            <p:cNvSpPr/>
            <p:nvPr/>
          </p:nvSpPr>
          <p:spPr>
            <a:xfrm>
              <a:off x="903960" y="4407120"/>
              <a:ext cx="2367720" cy="9536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опам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0"/>
            <p:cNvSpPr/>
            <p:nvPr/>
          </p:nvSpPr>
          <p:spPr>
            <a:xfrm>
              <a:off x="291240" y="5359680"/>
              <a:ext cx="577440" cy="3157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81"/>
            <p:cNvSpPr/>
            <p:nvPr/>
          </p:nvSpPr>
          <p:spPr>
            <a:xfrm>
              <a:off x="903960" y="5361120"/>
              <a:ext cx="2367720" cy="3157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обутам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83"/>
            <p:cNvSpPr/>
            <p:nvPr/>
          </p:nvSpPr>
          <p:spPr>
            <a:xfrm>
              <a:off x="3150000" y="5361120"/>
              <a:ext cx="2376720" cy="3157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1.0 - 20.0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g/kg/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84"/>
            <p:cNvSpPr/>
            <p:nvPr/>
          </p:nvSpPr>
          <p:spPr>
            <a:xfrm>
              <a:off x="5526720" y="5359680"/>
              <a:ext cx="3249000" cy="3171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нотропно/хронотроп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88"/>
            <p:cNvSpPr/>
            <p:nvPr/>
          </p:nvSpPr>
          <p:spPr>
            <a:xfrm>
              <a:off x="291240" y="5677200"/>
              <a:ext cx="594360" cy="6393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9"/>
            <p:cNvSpPr/>
            <p:nvPr/>
          </p:nvSpPr>
          <p:spPr>
            <a:xfrm>
              <a:off x="903960" y="5677200"/>
              <a:ext cx="2367720" cy="6393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Фенолдоп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1"/>
            <p:cNvSpPr/>
            <p:nvPr/>
          </p:nvSpPr>
          <p:spPr>
            <a:xfrm>
              <a:off x="3150000" y="5677200"/>
              <a:ext cx="2376720" cy="3157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0.06 - 0.1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g/kg/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92"/>
            <p:cNvSpPr/>
            <p:nvPr/>
          </p:nvSpPr>
          <p:spPr>
            <a:xfrm>
              <a:off x="5526720" y="5677200"/>
              <a:ext cx="3249000" cy="3171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ренално вазодилататор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96"/>
            <p:cNvSpPr/>
            <p:nvPr/>
          </p:nvSpPr>
          <p:spPr>
            <a:xfrm>
              <a:off x="3150000" y="5992920"/>
              <a:ext cx="2376720" cy="3236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0.1 - 0.2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g/kg/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97"/>
            <p:cNvSpPr/>
            <p:nvPr/>
          </p:nvSpPr>
          <p:spPr>
            <a:xfrm>
              <a:off x="5526720" y="5994360"/>
              <a:ext cx="3249000" cy="3222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стемско вазодилататор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04"/>
            <p:cNvSpPr/>
            <p:nvPr/>
          </p:nvSpPr>
          <p:spPr>
            <a:xfrm>
              <a:off x="358560" y="1060560"/>
              <a:ext cx="8417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000000"/>
                  </a:solidFill>
                  <a:latin typeface="Arial"/>
                </a:rPr>
                <a:t>ФАРМАКОЛОШКА ТЕРАПИЈСКА СТРАТЕГИЈ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05"/>
            <p:cNvSpPr/>
            <p:nvPr/>
          </p:nvSpPr>
          <p:spPr>
            <a:xfrm>
              <a:off x="189000" y="1524600"/>
              <a:ext cx="878040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ФАРМАКОЛОШКА ТЕРАПИЈСКА СТРАТЕГИЈА ЗА ПРЕВЕНЦИЈУ РАЗВОЈА АБИ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ВАЗОАКТИВНИ АГЕНСИ (вазоконстрикторни/вазодилататорни агенси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6363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опам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6363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фенолдoп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6363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хумани рекомбинантни натриуретски пепти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6363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агонист аденози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6363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Н-ацетилцисте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38"/>
          <p:cNvGrpSpPr/>
          <p:nvPr/>
        </p:nvGrpSpPr>
        <p:grpSpPr>
          <a:xfrm>
            <a:off x="189000" y="968400"/>
            <a:ext cx="8780400" cy="5607360"/>
            <a:chOff x="189000" y="968400"/>
            <a:chExt cx="8780400" cy="5607360"/>
          </a:xfrm>
        </p:grpSpPr>
        <p:sp>
          <p:nvSpPr>
            <p:cNvPr id="474" name="Rectangle 2"/>
            <p:cNvSpPr/>
            <p:nvPr/>
          </p:nvSpPr>
          <p:spPr>
            <a:xfrm>
              <a:off x="363600" y="968400"/>
              <a:ext cx="84171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УПОТРЕБА ДИУРЕТИКА У АКУТНОЈ БУБРЕЖНОЈ ИНСУФИЦИЈЕНЦИЈИ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3"/>
            <p:cNvSpPr/>
            <p:nvPr/>
          </p:nvSpPr>
          <p:spPr>
            <a:xfrm>
              <a:off x="189000" y="1344600"/>
              <a:ext cx="87804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47"/>
            <p:cNvSpPr/>
            <p:nvPr/>
          </p:nvSpPr>
          <p:spPr>
            <a:xfrm>
              <a:off x="2397240" y="1393200"/>
              <a:ext cx="4368600" cy="696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лигурична бубрежна инсуфицијенц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(опструкција уринарног тракта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49"/>
            <p:cNvSpPr/>
            <p:nvPr/>
          </p:nvSpPr>
          <p:spPr>
            <a:xfrm>
              <a:off x="4572000" y="2089080"/>
              <a:ext cx="0" cy="17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50"/>
            <p:cNvSpPr/>
            <p:nvPr/>
          </p:nvSpPr>
          <p:spPr>
            <a:xfrm>
              <a:off x="2743200" y="2291760"/>
              <a:ext cx="3671280" cy="5954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ffffff"/>
                  </a:solidFill>
                  <a:latin typeface="Arial"/>
                </a:rPr>
                <a:t>Процена хемодинамско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ffffff"/>
                  </a:solidFill>
                  <a:latin typeface="Arial"/>
                </a:rPr>
                <a:t>статуса (мерење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VP</a:t>
              </a:r>
              <a:r>
                <a:rPr b="1" lang="sr-C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51"/>
            <p:cNvSpPr/>
            <p:nvPr/>
          </p:nvSpPr>
          <p:spPr>
            <a:xfrm>
              <a:off x="4572000" y="2887560"/>
              <a:ext cx="0" cy="14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52"/>
            <p:cNvSpPr/>
            <p:nvPr/>
          </p:nvSpPr>
          <p:spPr>
            <a:xfrm>
              <a:off x="2423160" y="3027960"/>
              <a:ext cx="4322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53"/>
            <p:cNvSpPr/>
            <p:nvPr/>
          </p:nvSpPr>
          <p:spPr>
            <a:xfrm flipH="1">
              <a:off x="2423160" y="3031200"/>
              <a:ext cx="1440" cy="19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54"/>
            <p:cNvSpPr/>
            <p:nvPr/>
          </p:nvSpPr>
          <p:spPr>
            <a:xfrm>
              <a:off x="4572000" y="3031200"/>
              <a:ext cx="0" cy="19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55"/>
            <p:cNvSpPr/>
            <p:nvPr/>
          </p:nvSpPr>
          <p:spPr>
            <a:xfrm>
              <a:off x="6746040" y="3031200"/>
              <a:ext cx="0" cy="19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56"/>
            <p:cNvSpPr/>
            <p:nvPr/>
          </p:nvSpPr>
          <p:spPr>
            <a:xfrm>
              <a:off x="3873600" y="3242520"/>
              <a:ext cx="1390680" cy="311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Адеквата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58"/>
            <p:cNvSpPr/>
            <p:nvPr/>
          </p:nvSpPr>
          <p:spPr>
            <a:xfrm>
              <a:off x="6045480" y="3242520"/>
              <a:ext cx="1390680" cy="311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Вис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59"/>
            <p:cNvSpPr/>
            <p:nvPr/>
          </p:nvSpPr>
          <p:spPr>
            <a:xfrm>
              <a:off x="1720800" y="3242520"/>
              <a:ext cx="1390680" cy="311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иза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60"/>
            <p:cNvSpPr/>
            <p:nvPr/>
          </p:nvSpPr>
          <p:spPr>
            <a:xfrm>
              <a:off x="2424240" y="3555720"/>
              <a:ext cx="0" cy="31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61"/>
            <p:cNvSpPr/>
            <p:nvPr/>
          </p:nvSpPr>
          <p:spPr>
            <a:xfrm>
              <a:off x="4576680" y="3558600"/>
              <a:ext cx="0" cy="31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62"/>
            <p:cNvSpPr/>
            <p:nvPr/>
          </p:nvSpPr>
          <p:spPr>
            <a:xfrm>
              <a:off x="6743880" y="3553920"/>
              <a:ext cx="0" cy="31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63"/>
            <p:cNvSpPr/>
            <p:nvPr/>
          </p:nvSpPr>
          <p:spPr>
            <a:xfrm>
              <a:off x="3873600" y="3903480"/>
              <a:ext cx="1390680" cy="476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Континуиран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мониторин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64"/>
            <p:cNvSpPr/>
            <p:nvPr/>
          </p:nvSpPr>
          <p:spPr>
            <a:xfrm>
              <a:off x="6045480" y="3903480"/>
              <a:ext cx="1390680" cy="4762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Диуретиц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65"/>
            <p:cNvSpPr/>
            <p:nvPr/>
          </p:nvSpPr>
          <p:spPr>
            <a:xfrm>
              <a:off x="1720800" y="3903480"/>
              <a:ext cx="1390680" cy="476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.v.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инфуз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67"/>
            <p:cNvSpPr/>
            <p:nvPr/>
          </p:nvSpPr>
          <p:spPr>
            <a:xfrm>
              <a:off x="6743880" y="4379760"/>
              <a:ext cx="0" cy="16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68"/>
            <p:cNvSpPr/>
            <p:nvPr/>
          </p:nvSpPr>
          <p:spPr>
            <a:xfrm flipH="1">
              <a:off x="1434600" y="4144680"/>
              <a:ext cx="28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69"/>
            <p:cNvSpPr/>
            <p:nvPr/>
          </p:nvSpPr>
          <p:spPr>
            <a:xfrm flipV="1">
              <a:off x="1434960" y="2599560"/>
              <a:ext cx="0" cy="154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70"/>
            <p:cNvSpPr/>
            <p:nvPr/>
          </p:nvSpPr>
          <p:spPr>
            <a:xfrm>
              <a:off x="1434960" y="2598480"/>
              <a:ext cx="1307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71"/>
            <p:cNvSpPr/>
            <p:nvPr/>
          </p:nvSpPr>
          <p:spPr>
            <a:xfrm>
              <a:off x="6935040" y="5101920"/>
              <a:ext cx="1390680" cy="476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Повећ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диуре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72"/>
            <p:cNvSpPr/>
            <p:nvPr/>
          </p:nvSpPr>
          <p:spPr>
            <a:xfrm flipH="1">
              <a:off x="5867640" y="4915080"/>
              <a:ext cx="1758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73"/>
            <p:cNvSpPr/>
            <p:nvPr/>
          </p:nvSpPr>
          <p:spPr>
            <a:xfrm>
              <a:off x="7626600" y="4915080"/>
              <a:ext cx="0" cy="17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74"/>
            <p:cNvSpPr/>
            <p:nvPr/>
          </p:nvSpPr>
          <p:spPr>
            <a:xfrm>
              <a:off x="8329680" y="5343120"/>
              <a:ext cx="164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75"/>
            <p:cNvSpPr/>
            <p:nvPr/>
          </p:nvSpPr>
          <p:spPr>
            <a:xfrm flipV="1">
              <a:off x="8496360" y="2586960"/>
              <a:ext cx="0" cy="27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76"/>
            <p:cNvSpPr/>
            <p:nvPr/>
          </p:nvSpPr>
          <p:spPr>
            <a:xfrm flipH="1">
              <a:off x="6414120" y="2587320"/>
              <a:ext cx="2081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77"/>
            <p:cNvSpPr/>
            <p:nvPr/>
          </p:nvSpPr>
          <p:spPr>
            <a:xfrm>
              <a:off x="5173560" y="5101920"/>
              <a:ext cx="1390680" cy="476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Без промен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у диурез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78"/>
            <p:cNvSpPr/>
            <p:nvPr/>
          </p:nvSpPr>
          <p:spPr>
            <a:xfrm>
              <a:off x="5867640" y="4915080"/>
              <a:ext cx="0" cy="17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80"/>
            <p:cNvSpPr/>
            <p:nvPr/>
          </p:nvSpPr>
          <p:spPr>
            <a:xfrm>
              <a:off x="5168880" y="5803200"/>
              <a:ext cx="1390680" cy="571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Повећати доз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и учестал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диурети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81"/>
            <p:cNvSpPr/>
            <p:nvPr/>
          </p:nvSpPr>
          <p:spPr>
            <a:xfrm>
              <a:off x="5867640" y="5599800"/>
              <a:ext cx="0" cy="17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82"/>
            <p:cNvSpPr/>
            <p:nvPr/>
          </p:nvSpPr>
          <p:spPr>
            <a:xfrm>
              <a:off x="6229440" y="4557960"/>
              <a:ext cx="1022040" cy="216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ДИУРЕЗ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84"/>
            <p:cNvSpPr/>
            <p:nvPr/>
          </p:nvSpPr>
          <p:spPr>
            <a:xfrm>
              <a:off x="6743880" y="4775400"/>
              <a:ext cx="0" cy="139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86"/>
            <p:cNvSpPr/>
            <p:nvPr/>
          </p:nvSpPr>
          <p:spPr>
            <a:xfrm>
              <a:off x="269640" y="6299280"/>
              <a:ext cx="31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r>
                <a:rPr b="1" i="1" lang="sr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- централни венски притиса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6"/>
          <p:cNvGrpSpPr/>
          <p:nvPr/>
        </p:nvGrpSpPr>
        <p:grpSpPr>
          <a:xfrm>
            <a:off x="320760" y="1028880"/>
            <a:ext cx="8577000" cy="5283000"/>
            <a:chOff x="320760" y="1028880"/>
            <a:chExt cx="8577000" cy="5283000"/>
          </a:xfrm>
        </p:grpSpPr>
        <p:grpSp>
          <p:nvGrpSpPr>
            <p:cNvPr id="511" name="Group 5"/>
            <p:cNvGrpSpPr/>
            <p:nvPr/>
          </p:nvGrpSpPr>
          <p:grpSpPr>
            <a:xfrm>
              <a:off x="320760" y="1463760"/>
              <a:ext cx="8577000" cy="4848120"/>
              <a:chOff x="320760" y="1463760"/>
              <a:chExt cx="8577000" cy="4848120"/>
            </a:xfrm>
          </p:grpSpPr>
          <p:sp>
            <p:nvSpPr>
              <p:cNvPr id="512" name="Line 4"/>
              <p:cNvSpPr/>
              <p:nvPr/>
            </p:nvSpPr>
            <p:spPr>
              <a:xfrm flipV="1">
                <a:off x="320760" y="1463760"/>
                <a:ext cx="843264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5"/>
              <p:cNvSpPr/>
              <p:nvPr/>
            </p:nvSpPr>
            <p:spPr>
              <a:xfrm>
                <a:off x="330120" y="1523160"/>
                <a:ext cx="8461440" cy="27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400" spc="-1" strike="noStrike">
                    <a:solidFill>
                      <a:srgbClr val="000000"/>
                    </a:solidFill>
                    <a:latin typeface="Arial"/>
                  </a:rPr>
                  <a:t>ЛЕЧЕЊ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ff8989"/>
                  </a:buClr>
                  <a:buFont typeface="Wingdings 2" charset="2"/>
                  <a:buChar char="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БРЗО ОСЛОБАЂАЊЕ БУБРЕГА ОД ЗАСТОЈА МОКРАЋЕ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buClr>
                    <a:srgbClr val="ff8989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ЕРКУТАНА НЕФРОСТОМА (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PCN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buClr>
                    <a:srgbClr val="ff8989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ЛАСИРАЊЕ УРИНАРНОГ КАТЕТЕРА -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Fole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buClr>
                    <a:srgbClr val="ff8989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УГРАДЊА СТЕНТА НА МЕСТУ ОПСТРУКЦИЈ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ИЗБОР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МЕТОДА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ЛЕЧЕЊА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ЗАВИСИ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ОД</a:t>
                </a: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: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buClr>
                    <a:srgbClr val="ff7575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УЗРОК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СТЕПЕН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ОПСТРУКЦИЈ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buClr>
                    <a:srgbClr val="ff7575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СТАЊ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БОЛЕСНИК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ПРИДРУЖЕНИХ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БОЛЕСТ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buClr>
                    <a:srgbClr val="ff7575"/>
                  </a:buClr>
                  <a:buFont typeface="Wingdings" charset="2"/>
                  <a:buChar char="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СТАЊ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ДРУГОГ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БУБРЕГ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ДОЊИХ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МОКРАЋНИХ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ПУТЕВ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7"/>
              <p:cNvSpPr/>
              <p:nvPr/>
            </p:nvSpPr>
            <p:spPr>
              <a:xfrm>
                <a:off x="320760" y="4251600"/>
                <a:ext cx="8577000" cy="2060280"/>
              </a:xfrm>
              <a:prstGeom prst="rect">
                <a:avLst/>
              </a:prstGeom>
              <a:solidFill>
                <a:srgbClr val="a5002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ffffff"/>
                    </a:solidFill>
                    <a:latin typeface="Arial"/>
                  </a:rPr>
                  <a:t>ПОСТОПСТРУКТИВНА</a:t>
                </a:r>
                <a:r>
                  <a:rPr b="1" lang="sr-Latn-C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ffffff"/>
                    </a:solidFill>
                    <a:latin typeface="Arial"/>
                  </a:rPr>
                  <a:t>ДИУРЕЗ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после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ослобађања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бубрега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од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опструкције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настаје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полиуриј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полиурија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доводи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до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смањења: 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Na</a:t>
                </a:r>
                <a:r>
                  <a:rPr b="1" i="1" lang="sr-CS" sz="1800" spc="-1" strike="noStrike" baseline="30000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, 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K</a:t>
                </a:r>
                <a:r>
                  <a:rPr b="1" i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, 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r>
                  <a:rPr b="1" i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+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, 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Mg</a:t>
                </a:r>
                <a:r>
                  <a:rPr b="1" i="1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+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у серум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мониторинг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болесника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(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на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6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сати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)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хемодинамски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статус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: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артеријски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крвни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притисак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, 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CV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електролити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: </a:t>
                </a:r>
                <a:r>
                  <a:rPr b="1" i="1" lang="sr-Latn-CS" sz="1800" spc="-1" strike="noStrike">
                    <a:solidFill>
                      <a:srgbClr val="ffffff"/>
                    </a:solidFill>
                    <a:latin typeface="Arial"/>
                  </a:rPr>
                  <a:t>Na</a:t>
                </a:r>
                <a:r>
                  <a:rPr b="1" i="1" lang="sr-Latn-CS" sz="1800" spc="-1" strike="noStrike" baseline="30000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1" i="1" lang="sr-Latn-CS" sz="1800" spc="-1" strike="noStrike">
                    <a:solidFill>
                      <a:srgbClr val="ffffff"/>
                    </a:solidFill>
                    <a:latin typeface="Arial"/>
                  </a:rPr>
                  <a:t>, </a:t>
                </a:r>
                <a:r>
                  <a:rPr b="1" i="1" lang="sr-CS" sz="1800" spc="-1" strike="noStrike">
                    <a:solidFill>
                      <a:srgbClr val="ffffff"/>
                    </a:solidFill>
                    <a:latin typeface="Arial"/>
                  </a:rPr>
                  <a:t>К</a:t>
                </a:r>
                <a:r>
                  <a:rPr b="1" i="1" lang="sr-Latn-CS" sz="1800" spc="-1" strike="noStrike" baseline="30000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1" i="1" lang="sr-Latn-CS" sz="1800" spc="-1" strike="noStrike">
                    <a:solidFill>
                      <a:srgbClr val="ffffff"/>
                    </a:solidFill>
                    <a:latin typeface="Arial"/>
                  </a:rPr>
                  <a:t>, C</a:t>
                </a:r>
                <a:r>
                  <a:rPr b="1" i="1" lang="sr-CS" sz="1800" spc="-1" strike="noStrike">
                    <a:solidFill>
                      <a:srgbClr val="ffffff"/>
                    </a:solidFill>
                    <a:latin typeface="Arial"/>
                  </a:rPr>
                  <a:t>а</a:t>
                </a:r>
                <a:r>
                  <a:rPr b="1" i="1" lang="sr-Latn-CS" sz="1800" spc="-1" strike="noStrike" baseline="30000">
                    <a:solidFill>
                      <a:srgbClr val="ffffff"/>
                    </a:solidFill>
                    <a:latin typeface="Arial"/>
                  </a:rPr>
                  <a:t>2+</a:t>
                </a:r>
                <a:r>
                  <a:rPr b="1" i="1" lang="sr-Latn-CS" sz="1800" spc="-1" strike="noStrike">
                    <a:solidFill>
                      <a:srgbClr val="ffffff"/>
                    </a:solidFill>
                    <a:latin typeface="Arial"/>
                  </a:rPr>
                  <a:t>, </a:t>
                </a:r>
                <a:r>
                  <a:rPr b="1" i="1" lang="sr-CS" sz="1800" spc="-1" strike="noStrike">
                    <a:solidFill>
                      <a:srgbClr val="ffffff"/>
                    </a:solidFill>
                    <a:latin typeface="Arial"/>
                  </a:rPr>
                  <a:t>М</a:t>
                </a:r>
                <a:r>
                  <a:rPr b="1" i="1" lang="sr-Latn-CS" sz="18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r>
                  <a:rPr b="1" i="1" lang="sr-Latn-CS" sz="1800" spc="-1" strike="noStrike" baseline="30000">
                    <a:solidFill>
                      <a:srgbClr val="ffffff"/>
                    </a:solidFill>
                    <a:latin typeface="Arial"/>
                  </a:rPr>
                  <a:t>2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 baseline="30000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диуреза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Rectangle 6"/>
            <p:cNvSpPr/>
            <p:nvPr/>
          </p:nvSpPr>
          <p:spPr>
            <a:xfrm>
              <a:off x="377640" y="1028880"/>
              <a:ext cx="8416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1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СТ</a:t>
              </a:r>
              <a:r>
                <a:rPr b="1" lang="sr-CS" sz="2100" spc="-1" strike="noStrike">
                  <a:solidFill>
                    <a:srgbClr val="000000"/>
                  </a:solidFill>
                  <a:latin typeface="Arial"/>
                </a:rPr>
                <a:t>РЕНАЛНИ ТИП АКУТНЕ БУБРЕЖНЕ ИНСУФИЦИЈЕНЦИЈЕ</a:t>
              </a:r>
              <a:r>
                <a:rPr b="1" lang="sr-Latn-C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17"/>
          <p:cNvGrpSpPr/>
          <p:nvPr/>
        </p:nvGrpSpPr>
        <p:grpSpPr>
          <a:xfrm>
            <a:off x="189000" y="1060560"/>
            <a:ext cx="8780400" cy="5475240"/>
            <a:chOff x="189000" y="1060560"/>
            <a:chExt cx="8780400" cy="5475240"/>
          </a:xfrm>
        </p:grpSpPr>
        <p:sp>
          <p:nvSpPr>
            <p:cNvPr id="517" name="Rectangle 3"/>
            <p:cNvSpPr/>
            <p:nvPr/>
          </p:nvSpPr>
          <p:spPr>
            <a:xfrm>
              <a:off x="363600" y="1060560"/>
              <a:ext cx="84171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900" spc="-1" strike="noStrike">
                  <a:solidFill>
                    <a:srgbClr val="000000"/>
                  </a:solidFill>
                  <a:latin typeface="Arial"/>
                </a:rPr>
                <a:t>ИНДИКАЦИЈЕ ЗА ЛЕЧЕЊЕ МЕТОДАМА ЗА ЗАМЕНУ ФУНКЦИЈЕ БУБРЕГ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16"/>
            <p:cNvGrpSpPr/>
            <p:nvPr/>
          </p:nvGrpSpPr>
          <p:grpSpPr>
            <a:xfrm>
              <a:off x="189000" y="1491120"/>
              <a:ext cx="8780400" cy="1617120"/>
              <a:chOff x="189000" y="1491120"/>
              <a:chExt cx="8780400" cy="1617120"/>
            </a:xfrm>
          </p:grpSpPr>
          <p:sp>
            <p:nvSpPr>
              <p:cNvPr id="519" name="Line 4"/>
              <p:cNvSpPr/>
              <p:nvPr/>
            </p:nvSpPr>
            <p:spPr>
              <a:xfrm>
                <a:off x="189000" y="1491120"/>
                <a:ext cx="8780400" cy="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9"/>
              <p:cNvSpPr/>
              <p:nvPr/>
            </p:nvSpPr>
            <p:spPr>
              <a:xfrm>
                <a:off x="323640" y="2008080"/>
                <a:ext cx="8527320" cy="274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Резистентна х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иперкалиемија (K</a:t>
                </a:r>
                <a:r>
                  <a:rPr b="1" lang="sr-Latn-C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gt;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6.5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mol/l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+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ЕКГ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2"/>
              <p:cNvSpPr/>
              <p:nvPr/>
            </p:nvSpPr>
            <p:spPr>
              <a:xfrm>
                <a:off x="323640" y="2283840"/>
                <a:ext cx="8527320" cy="274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Резистентна тешка м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етаболичка ацидоза (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pH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7.15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5"/>
              <p:cNvSpPr/>
              <p:nvPr/>
            </p:nvSpPr>
            <p:spPr>
              <a:xfrm>
                <a:off x="323640" y="2556720"/>
                <a:ext cx="8527320" cy="274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Резистентна х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иперволемија (едем плућа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7"/>
              <p:cNvSpPr/>
              <p:nvPr/>
            </p:nvSpPr>
            <p:spPr>
              <a:xfrm>
                <a:off x="323640" y="2832120"/>
                <a:ext cx="8527320" cy="276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Уремија: перикардитис/енцефалопат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24"/>
              <p:cNvSpPr/>
              <p:nvPr/>
            </p:nvSpPr>
            <p:spPr>
              <a:xfrm>
                <a:off x="323640" y="1657800"/>
                <a:ext cx="8527320" cy="35064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ИНДИКАЦИЈЕ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ЗА АКУТНУ ХЕМОДИЈАЛИЗ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Rectangle 6"/>
            <p:cNvSpPr/>
            <p:nvPr/>
          </p:nvSpPr>
          <p:spPr>
            <a:xfrm>
              <a:off x="203040" y="1570320"/>
              <a:ext cx="8766360" cy="4965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8"/>
          <p:cNvGrpSpPr/>
          <p:nvPr/>
        </p:nvGrpSpPr>
        <p:grpSpPr>
          <a:xfrm>
            <a:off x="100080" y="901800"/>
            <a:ext cx="8969400" cy="5840280"/>
            <a:chOff x="100080" y="901800"/>
            <a:chExt cx="8969400" cy="5840280"/>
          </a:xfrm>
        </p:grpSpPr>
        <p:sp>
          <p:nvSpPr>
            <p:cNvPr id="51" name="Rectangle 11"/>
            <p:cNvSpPr/>
            <p:nvPr/>
          </p:nvSpPr>
          <p:spPr>
            <a:xfrm>
              <a:off x="100080" y="901800"/>
              <a:ext cx="89694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АКУТНА БУБРЕЖНА ИНСУФИЦИЈЕНЦИЈА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ИФЛЕ 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КЛАСИФИКАЦ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2"/>
            <p:cNvSpPr/>
            <p:nvPr/>
          </p:nvSpPr>
          <p:spPr>
            <a:xfrm>
              <a:off x="183240" y="1405800"/>
              <a:ext cx="877176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183240" y="1477800"/>
              <a:ext cx="8771760" cy="5264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0"/>
            <p:cNvSpPr/>
            <p:nvPr/>
          </p:nvSpPr>
          <p:spPr>
            <a:xfrm>
              <a:off x="215280" y="1537920"/>
              <a:ext cx="1650960" cy="45216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ffffff"/>
                  </a:solidFill>
                  <a:latin typeface="Arial"/>
                </a:rPr>
                <a:t>RIFL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/РИФЛ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32"/>
            <p:cNvSpPr/>
            <p:nvPr/>
          </p:nvSpPr>
          <p:spPr>
            <a:xfrm>
              <a:off x="1866240" y="1537920"/>
              <a:ext cx="4514760" cy="45324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КРИТЕРИЈУМ КРЕАТИН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33"/>
            <p:cNvSpPr/>
            <p:nvPr/>
          </p:nvSpPr>
          <p:spPr>
            <a:xfrm>
              <a:off x="6381360" y="1537920"/>
              <a:ext cx="2502000" cy="45216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КРИТЕРИЈУМ ДИУРЕЗ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35"/>
            <p:cNvSpPr/>
            <p:nvPr/>
          </p:nvSpPr>
          <p:spPr>
            <a:xfrm>
              <a:off x="215280" y="1990440"/>
              <a:ext cx="343440" cy="81108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7"/>
            <p:cNvSpPr/>
            <p:nvPr/>
          </p:nvSpPr>
          <p:spPr>
            <a:xfrm>
              <a:off x="558000" y="1991160"/>
              <a:ext cx="1307880" cy="8103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Риз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8"/>
            <p:cNvSpPr/>
            <p:nvPr/>
          </p:nvSpPr>
          <p:spPr>
            <a:xfrm>
              <a:off x="1866240" y="1990440"/>
              <a:ext cx="4514760" cy="8110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0000"/>
                </a:buClr>
                <a:buFont typeface="Symbol" charset="2"/>
                <a:buChar char="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нцентрације креатинина у серум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Symbol" charset="2"/>
                <a:buChar char="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26.5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mol/l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ли </a:t>
              </a:r>
              <a:r>
                <a:rPr b="1" lang="sr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150-200%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1.5-2.0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пут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 однoсу на бaзaлну вредност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9"/>
            <p:cNvSpPr/>
            <p:nvPr/>
          </p:nvSpPr>
          <p:spPr>
            <a:xfrm>
              <a:off x="6381360" y="1991880"/>
              <a:ext cx="2502000" cy="8085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lt;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0.5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l/kg/h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ок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6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2"/>
            <p:cNvSpPr/>
            <p:nvPr/>
          </p:nvSpPr>
          <p:spPr>
            <a:xfrm>
              <a:off x="215280" y="2801520"/>
              <a:ext cx="343440" cy="89964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43"/>
            <p:cNvSpPr/>
            <p:nvPr/>
          </p:nvSpPr>
          <p:spPr>
            <a:xfrm>
              <a:off x="558000" y="2801520"/>
              <a:ext cx="1307880" cy="8996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Inju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штећeњ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4"/>
            <p:cNvSpPr/>
            <p:nvPr/>
          </p:nvSpPr>
          <p:spPr>
            <a:xfrm>
              <a:off x="1866240" y="2887920"/>
              <a:ext cx="4514760" cy="8136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нцентрације креатинина у серум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200-300%  (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2.0-3.0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ута) у однoс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 бaзaлну вредност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45"/>
            <p:cNvSpPr/>
            <p:nvPr/>
          </p:nvSpPr>
          <p:spPr>
            <a:xfrm>
              <a:off x="6381360" y="2887920"/>
              <a:ext cx="2502000" cy="8150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lt;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0.5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l/kg/h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ок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12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46"/>
            <p:cNvSpPr/>
            <p:nvPr/>
          </p:nvSpPr>
          <p:spPr>
            <a:xfrm>
              <a:off x="215280" y="3703320"/>
              <a:ext cx="343440" cy="105588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47"/>
            <p:cNvSpPr/>
            <p:nvPr/>
          </p:nvSpPr>
          <p:spPr>
            <a:xfrm>
              <a:off x="558000" y="3705120"/>
              <a:ext cx="1307880" cy="10540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Fail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лабо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8"/>
            <p:cNvSpPr/>
            <p:nvPr/>
          </p:nvSpPr>
          <p:spPr>
            <a:xfrm>
              <a:off x="1866240" y="3832200"/>
              <a:ext cx="4514760" cy="9270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нцентрације креатинина у серуму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300%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3.0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ута) у однoсу нa бaзaлну вреднос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ли </a:t>
              </a:r>
              <a:r>
                <a:rPr b="1" lang="sr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креатинiнa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 354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ol/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з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кутн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већање креатини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д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44.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ol/l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49"/>
            <p:cNvSpPr/>
            <p:nvPr/>
          </p:nvSpPr>
          <p:spPr>
            <a:xfrm>
              <a:off x="6381360" y="3834000"/>
              <a:ext cx="2502000" cy="9255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lt;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0.3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l/kg/h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24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нурија у току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2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55"/>
            <p:cNvSpPr/>
            <p:nvPr/>
          </p:nvSpPr>
          <p:spPr>
            <a:xfrm>
              <a:off x="215280" y="4759560"/>
              <a:ext cx="343440" cy="88920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56"/>
            <p:cNvSpPr/>
            <p:nvPr/>
          </p:nvSpPr>
          <p:spPr>
            <a:xfrm>
              <a:off x="558000" y="4759560"/>
              <a:ext cx="1307880" cy="8892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убита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7"/>
            <p:cNvSpPr/>
            <p:nvPr/>
          </p:nvSpPr>
          <p:spPr>
            <a:xfrm>
              <a:off x="1881000" y="4832640"/>
              <a:ext cx="6827040" cy="8157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ерзистентна АБИ = потреба за методама лечења за замен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функције бубрега у периоду дужем од четири недеље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62"/>
            <p:cNvSpPr/>
            <p:nvPr/>
          </p:nvSpPr>
          <p:spPr>
            <a:xfrm>
              <a:off x="215280" y="5648760"/>
              <a:ext cx="343440" cy="81036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63"/>
            <p:cNvSpPr/>
            <p:nvPr/>
          </p:nvSpPr>
          <p:spPr>
            <a:xfrm>
              <a:off x="558000" y="5663160"/>
              <a:ext cx="1307880" cy="8103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ES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Завршн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тадију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64"/>
            <p:cNvSpPr/>
            <p:nvPr/>
          </p:nvSpPr>
          <p:spPr>
            <a:xfrm>
              <a:off x="1879920" y="5663160"/>
              <a:ext cx="6827760" cy="81036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Завршни стадијум болести бубрега = потреба за дијализом 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временском периоду дужем од три месеца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8"/>
          <p:cNvGrpSpPr/>
          <p:nvPr/>
        </p:nvGrpSpPr>
        <p:grpSpPr>
          <a:xfrm>
            <a:off x="189000" y="1189080"/>
            <a:ext cx="8780400" cy="4587840"/>
            <a:chOff x="189000" y="1189080"/>
            <a:chExt cx="8780400" cy="4587840"/>
          </a:xfrm>
        </p:grpSpPr>
        <p:sp>
          <p:nvSpPr>
            <p:cNvPr id="76" name="Rectangle 3"/>
            <p:cNvSpPr/>
            <p:nvPr/>
          </p:nvSpPr>
          <p:spPr>
            <a:xfrm>
              <a:off x="363600" y="1189080"/>
              <a:ext cx="8417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АКУТНА БУБРЕЖНА ИНСУФИЦИЈЕНЦИЈ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АБИ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"/>
            <p:cNvSpPr/>
            <p:nvPr/>
          </p:nvSpPr>
          <p:spPr>
            <a:xfrm>
              <a:off x="189000" y="1605960"/>
              <a:ext cx="878040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5"/>
            <p:cNvSpPr/>
            <p:nvPr/>
          </p:nvSpPr>
          <p:spPr>
            <a:xfrm>
              <a:off x="1974240" y="1771560"/>
              <a:ext cx="5239440" cy="507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АКУТНА БУБРЕЖНА ИНСУФИЦИЈЕНЦ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8"/>
            <p:cNvSpPr/>
            <p:nvPr/>
          </p:nvSpPr>
          <p:spPr>
            <a:xfrm>
              <a:off x="4591080" y="2279880"/>
              <a:ext cx="0" cy="139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9"/>
            <p:cNvSpPr/>
            <p:nvPr/>
          </p:nvSpPr>
          <p:spPr>
            <a:xfrm>
              <a:off x="2133720" y="2424240"/>
              <a:ext cx="4927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40"/>
            <p:cNvSpPr/>
            <p:nvPr/>
          </p:nvSpPr>
          <p:spPr>
            <a:xfrm>
              <a:off x="4591080" y="24307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41"/>
            <p:cNvSpPr/>
            <p:nvPr/>
          </p:nvSpPr>
          <p:spPr>
            <a:xfrm>
              <a:off x="7061400" y="24307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2"/>
            <p:cNvSpPr/>
            <p:nvPr/>
          </p:nvSpPr>
          <p:spPr>
            <a:xfrm>
              <a:off x="2133720" y="24307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3"/>
            <p:cNvSpPr/>
            <p:nvPr/>
          </p:nvSpPr>
          <p:spPr>
            <a:xfrm>
              <a:off x="958680" y="2666520"/>
              <a:ext cx="2372400" cy="44892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ПРЕРЕНАЛНА АБ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45"/>
            <p:cNvSpPr/>
            <p:nvPr/>
          </p:nvSpPr>
          <p:spPr>
            <a:xfrm>
              <a:off x="3416040" y="2664360"/>
              <a:ext cx="2372400" cy="45288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РЕНАЛНА АБ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47"/>
            <p:cNvSpPr/>
            <p:nvPr/>
          </p:nvSpPr>
          <p:spPr>
            <a:xfrm>
              <a:off x="5886360" y="2666520"/>
              <a:ext cx="2372400" cy="44892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ПОСТРЕНАЛНА АБ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8"/>
            <p:cNvSpPr/>
            <p:nvPr/>
          </p:nvSpPr>
          <p:spPr>
            <a:xfrm>
              <a:off x="4591080" y="3132000"/>
              <a:ext cx="0" cy="215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9"/>
            <p:cNvSpPr/>
            <p:nvPr/>
          </p:nvSpPr>
          <p:spPr>
            <a:xfrm>
              <a:off x="2147760" y="3340080"/>
              <a:ext cx="4890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0"/>
            <p:cNvSpPr/>
            <p:nvPr/>
          </p:nvSpPr>
          <p:spPr>
            <a:xfrm>
              <a:off x="2139840" y="3340080"/>
              <a:ext cx="0" cy="33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1"/>
            <p:cNvSpPr/>
            <p:nvPr/>
          </p:nvSpPr>
          <p:spPr>
            <a:xfrm>
              <a:off x="4591080" y="3344760"/>
              <a:ext cx="0" cy="33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52"/>
            <p:cNvSpPr/>
            <p:nvPr/>
          </p:nvSpPr>
          <p:spPr>
            <a:xfrm>
              <a:off x="7039080" y="3344760"/>
              <a:ext cx="0" cy="33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53"/>
            <p:cNvSpPr/>
            <p:nvPr/>
          </p:nvSpPr>
          <p:spPr>
            <a:xfrm>
              <a:off x="3391920" y="3687480"/>
              <a:ext cx="2413440" cy="919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нтерстицијумс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фрит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6"/>
            <p:cNvSpPr/>
            <p:nvPr/>
          </p:nvSpPr>
          <p:spPr>
            <a:xfrm>
              <a:off x="5844960" y="3682800"/>
              <a:ext cx="2413440" cy="919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кут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омерулонефрит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57"/>
            <p:cNvSpPr/>
            <p:nvPr/>
          </p:nvSpPr>
          <p:spPr>
            <a:xfrm>
              <a:off x="929520" y="3682800"/>
              <a:ext cx="2413440" cy="919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кутна тубулс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кр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8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8"/>
            <p:cNvSpPr/>
            <p:nvPr/>
          </p:nvSpPr>
          <p:spPr>
            <a:xfrm>
              <a:off x="2133720" y="4602240"/>
              <a:ext cx="0" cy="231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9"/>
            <p:cNvSpPr/>
            <p:nvPr/>
          </p:nvSpPr>
          <p:spPr>
            <a:xfrm>
              <a:off x="1334520" y="4834080"/>
              <a:ext cx="1598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0"/>
            <p:cNvSpPr/>
            <p:nvPr/>
          </p:nvSpPr>
          <p:spPr>
            <a:xfrm>
              <a:off x="1334520" y="4834080"/>
              <a:ext cx="0" cy="29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1"/>
            <p:cNvSpPr/>
            <p:nvPr/>
          </p:nvSpPr>
          <p:spPr>
            <a:xfrm>
              <a:off x="2932920" y="4835880"/>
              <a:ext cx="0" cy="28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62"/>
            <p:cNvSpPr/>
            <p:nvPr/>
          </p:nvSpPr>
          <p:spPr>
            <a:xfrm>
              <a:off x="682920" y="5139000"/>
              <a:ext cx="1333080" cy="637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схем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4"/>
            <p:cNvSpPr/>
            <p:nvPr/>
          </p:nvSpPr>
          <p:spPr>
            <a:xfrm>
              <a:off x="2266200" y="5140440"/>
              <a:ext cx="1333080" cy="628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оксин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33"/>
          <p:cNvGrpSpPr/>
          <p:nvPr/>
        </p:nvGrpSpPr>
        <p:grpSpPr>
          <a:xfrm>
            <a:off x="333360" y="1189080"/>
            <a:ext cx="8475840" cy="4543560"/>
            <a:chOff x="333360" y="1189080"/>
            <a:chExt cx="8475840" cy="4543560"/>
          </a:xfrm>
        </p:grpSpPr>
        <p:sp>
          <p:nvSpPr>
            <p:cNvPr id="102" name="Line 43"/>
            <p:cNvSpPr/>
            <p:nvPr/>
          </p:nvSpPr>
          <p:spPr>
            <a:xfrm>
              <a:off x="1555560" y="1409760"/>
              <a:ext cx="0" cy="120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"/>
            <p:cNvSpPr/>
            <p:nvPr/>
          </p:nvSpPr>
          <p:spPr>
            <a:xfrm>
              <a:off x="378000" y="1189080"/>
              <a:ext cx="8416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200" spc="-1" strike="noStrike">
                  <a:solidFill>
                    <a:srgbClr val="000000"/>
                  </a:solidFill>
                  <a:latin typeface="Arial"/>
                </a:rPr>
                <a:t>ПРЕРЕНАЛНИ ТИП АКУТНЕ БУБРЕЖНЕ ИНСУФИЦИЈЕНЦИЈЕ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"/>
            <p:cNvSpPr/>
            <p:nvPr/>
          </p:nvSpPr>
          <p:spPr>
            <a:xfrm>
              <a:off x="333360" y="1605600"/>
              <a:ext cx="842004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43"/>
            <p:cNvSpPr/>
            <p:nvPr/>
          </p:nvSpPr>
          <p:spPr>
            <a:xfrm>
              <a:off x="369360" y="1668960"/>
              <a:ext cx="842508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ХИПОПЕРФУЗИЈА БУБРЕГ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3"/>
            <p:cNvSpPr/>
            <p:nvPr/>
          </p:nvSpPr>
          <p:spPr>
            <a:xfrm>
              <a:off x="378000" y="2009520"/>
              <a:ext cx="842508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СМАЊЕН ИНТРАВАСКУЛАРНИ ВОЛУМ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3"/>
            <p:cNvSpPr/>
            <p:nvPr/>
          </p:nvSpPr>
          <p:spPr>
            <a:xfrm>
              <a:off x="376560" y="2335680"/>
              <a:ext cx="8425080" cy="16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губитак течности преко коже: опекоти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губитак течности преко ГИТ : повраћање, течне столиц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губитак течности преко бубрега: полиур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масивна крварењ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релазак течности у трећи просто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3"/>
            <p:cNvSpPr/>
            <p:nvPr/>
          </p:nvSpPr>
          <p:spPr>
            <a:xfrm>
              <a:off x="370440" y="4063320"/>
              <a:ext cx="842508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СМАЊЕН МИНУТНИ ВОЛУМЕН СРЦ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3"/>
            <p:cNvSpPr/>
            <p:nvPr/>
          </p:nvSpPr>
          <p:spPr>
            <a:xfrm>
              <a:off x="384120" y="4360320"/>
              <a:ext cx="84250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застојна срчана слабо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кардиогени ш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масивна емболија плућ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велики перикардни изли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2"/>
          <p:cNvGrpSpPr/>
          <p:nvPr/>
        </p:nvGrpSpPr>
        <p:grpSpPr>
          <a:xfrm>
            <a:off x="333360" y="1189080"/>
            <a:ext cx="8469360" cy="4094280"/>
            <a:chOff x="333360" y="1189080"/>
            <a:chExt cx="8469360" cy="4094280"/>
          </a:xfrm>
        </p:grpSpPr>
        <p:sp>
          <p:nvSpPr>
            <p:cNvPr id="111" name="Line 43"/>
            <p:cNvSpPr/>
            <p:nvPr/>
          </p:nvSpPr>
          <p:spPr>
            <a:xfrm>
              <a:off x="1555560" y="1409760"/>
              <a:ext cx="0" cy="120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"/>
            <p:cNvSpPr/>
            <p:nvPr/>
          </p:nvSpPr>
          <p:spPr>
            <a:xfrm>
              <a:off x="378000" y="1189080"/>
              <a:ext cx="84164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200" spc="-1" strike="noStrike">
                  <a:solidFill>
                    <a:srgbClr val="000000"/>
                  </a:solidFill>
                  <a:latin typeface="Arial"/>
                </a:rPr>
                <a:t>ПРЕРЕНАЛНИ ТИП АКУТНЕ БУБРЕЖНЕ ИНСУФИЦИЈЕНЦИЈЕ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"/>
            <p:cNvSpPr/>
            <p:nvPr/>
          </p:nvSpPr>
          <p:spPr>
            <a:xfrm>
              <a:off x="333360" y="1605960"/>
              <a:ext cx="841968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3"/>
            <p:cNvSpPr/>
            <p:nvPr/>
          </p:nvSpPr>
          <p:spPr>
            <a:xfrm>
              <a:off x="369360" y="1668960"/>
              <a:ext cx="84247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ХИПОПЕРФУЗИЈА БУБРЕГ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3"/>
            <p:cNvSpPr/>
            <p:nvPr/>
          </p:nvSpPr>
          <p:spPr>
            <a:xfrm>
              <a:off x="378000" y="2038680"/>
              <a:ext cx="84247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ОВЕЋАНА РЕНАЛНА ВАСКУЛАРНА РЕЗИСТЕНЦ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3"/>
            <p:cNvSpPr/>
            <p:nvPr/>
          </p:nvSpPr>
          <p:spPr>
            <a:xfrm>
              <a:off x="376560" y="2321640"/>
              <a:ext cx="8424720" cy="29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хиперкалцием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локатори калцинеур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buClr>
                  <a:srgbClr val="ff8989"/>
                </a:buClr>
                <a:buFont typeface="Wingdings" charset="2"/>
                <a:buChar char="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циклоспор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buClr>
                  <a:srgbClr val="ff8989"/>
                </a:buClr>
                <a:buFont typeface="Wingdings" charset="2"/>
                <a:buChar char="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такролиму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tabLst>
                  <a:tab algn="l" pos="0"/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хепато-ренални синдр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buClr>
                  <a:srgbClr val="ff8989"/>
                </a:buClr>
                <a:buFont typeface="Wingdings" charset="2"/>
                <a:buChar char="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овећана активација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RAA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buClr>
                  <a:srgbClr val="ff8989"/>
                </a:buClr>
                <a:buFont typeface="Wingdings" charset="2"/>
                <a:buChar char="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већана активација симпатичког нервног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tabLst>
                  <a:tab algn="l" pos="0"/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" charset="2"/>
                <a:buChar char=""/>
                <a:tabLst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радиконтрастна сред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5"/>
          <p:cNvGrpSpPr/>
          <p:nvPr/>
        </p:nvGrpSpPr>
        <p:grpSpPr>
          <a:xfrm>
            <a:off x="333360" y="1189080"/>
            <a:ext cx="8469360" cy="2917800"/>
            <a:chOff x="333360" y="1189080"/>
            <a:chExt cx="8469360" cy="2917800"/>
          </a:xfrm>
        </p:grpSpPr>
        <p:sp>
          <p:nvSpPr>
            <p:cNvPr id="118" name="Line 43"/>
            <p:cNvSpPr/>
            <p:nvPr/>
          </p:nvSpPr>
          <p:spPr>
            <a:xfrm>
              <a:off x="1555560" y="1409760"/>
              <a:ext cx="0" cy="120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"/>
            <p:cNvSpPr/>
            <p:nvPr/>
          </p:nvSpPr>
          <p:spPr>
            <a:xfrm>
              <a:off x="378000" y="1189080"/>
              <a:ext cx="84164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200" spc="-1" strike="noStrike">
                  <a:solidFill>
                    <a:srgbClr val="000000"/>
                  </a:solidFill>
                  <a:latin typeface="Arial"/>
                </a:rPr>
                <a:t>РЕНАЛНИ ТИП АКУТНЕ БУБРЕЖНЕ ИНСУФИЦИЈЕНЦИЈЕ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"/>
            <p:cNvSpPr/>
            <p:nvPr/>
          </p:nvSpPr>
          <p:spPr>
            <a:xfrm>
              <a:off x="333360" y="1605600"/>
              <a:ext cx="841968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3"/>
            <p:cNvSpPr/>
            <p:nvPr/>
          </p:nvSpPr>
          <p:spPr>
            <a:xfrm>
              <a:off x="369360" y="1668960"/>
              <a:ext cx="84247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ГЛОМЕРУЛСКА ЛЕЗ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3"/>
            <p:cNvSpPr/>
            <p:nvPr/>
          </p:nvSpPr>
          <p:spPr>
            <a:xfrm>
              <a:off x="378000" y="2009520"/>
              <a:ext cx="84247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Гудпашчеров синдр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buClr>
                  <a:srgbClr val="ff898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buClr>
                  <a:srgbClr val="ff898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ифузна алвеоларна хеморагија -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A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ембранопролиферативни гломерулонефрит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кутни постстрептококни гломерулонефрит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9"/>
          <p:cNvGrpSpPr/>
          <p:nvPr/>
        </p:nvGrpSpPr>
        <p:grpSpPr>
          <a:xfrm>
            <a:off x="333360" y="1189080"/>
            <a:ext cx="8469360" cy="2863800"/>
            <a:chOff x="333360" y="1189080"/>
            <a:chExt cx="8469360" cy="2863800"/>
          </a:xfrm>
        </p:grpSpPr>
        <p:sp>
          <p:nvSpPr>
            <p:cNvPr id="124" name="Line 43"/>
            <p:cNvSpPr/>
            <p:nvPr/>
          </p:nvSpPr>
          <p:spPr>
            <a:xfrm>
              <a:off x="1555560" y="1409760"/>
              <a:ext cx="0" cy="120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"/>
            <p:cNvSpPr/>
            <p:nvPr/>
          </p:nvSpPr>
          <p:spPr>
            <a:xfrm>
              <a:off x="378000" y="1189080"/>
              <a:ext cx="84164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200" spc="-1" strike="noStrike">
                  <a:solidFill>
                    <a:srgbClr val="000000"/>
                  </a:solidFill>
                  <a:latin typeface="Arial"/>
                </a:rPr>
                <a:t>РЕНАЛНИ ТИП АКУТНЕ БУБРЕЖНЕ ИНСУФИЦИЈЕНЦИЈЕ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"/>
            <p:cNvSpPr/>
            <p:nvPr/>
          </p:nvSpPr>
          <p:spPr>
            <a:xfrm>
              <a:off x="333360" y="1605960"/>
              <a:ext cx="841968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3"/>
            <p:cNvSpPr/>
            <p:nvPr/>
          </p:nvSpPr>
          <p:spPr>
            <a:xfrm>
              <a:off x="369360" y="1668960"/>
              <a:ext cx="84247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ВАСКУЛАРНА ЛЕЗ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3"/>
            <p:cNvSpPr/>
            <p:nvPr/>
          </p:nvSpPr>
          <p:spPr>
            <a:xfrm>
              <a:off x="378000" y="2009880"/>
              <a:ext cx="8424720" cy="20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ВЕЛИКИ КРВНИ СУДОВИ БУБРЕ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buClr>
                  <a:srgbClr val="ff898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РЕНАЛНЕ АРТЕРИЈ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buClr>
                  <a:srgbClr val="ff8989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стеноза/тромбоза/ембол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buClr>
                  <a:srgbClr val="ff8989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оперативно клемовање артер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buClr>
                  <a:srgbClr val="ff898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РЕНАЛНЕ ВЕ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buClr>
                  <a:srgbClr val="ff8989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тромбоз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9"/>
          <p:cNvGrpSpPr/>
          <p:nvPr/>
        </p:nvGrpSpPr>
        <p:grpSpPr>
          <a:xfrm>
            <a:off x="333360" y="1189080"/>
            <a:ext cx="8469360" cy="4949640"/>
            <a:chOff x="333360" y="1189080"/>
            <a:chExt cx="8469360" cy="4949640"/>
          </a:xfrm>
        </p:grpSpPr>
        <p:sp>
          <p:nvSpPr>
            <p:cNvPr id="130" name="Line 43"/>
            <p:cNvSpPr/>
            <p:nvPr/>
          </p:nvSpPr>
          <p:spPr>
            <a:xfrm>
              <a:off x="1555560" y="1409760"/>
              <a:ext cx="0" cy="120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"/>
            <p:cNvSpPr/>
            <p:nvPr/>
          </p:nvSpPr>
          <p:spPr>
            <a:xfrm>
              <a:off x="378000" y="1189080"/>
              <a:ext cx="84164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200" spc="-1" strike="noStrike">
                  <a:solidFill>
                    <a:srgbClr val="000000"/>
                  </a:solidFill>
                  <a:latin typeface="Arial"/>
                </a:rPr>
                <a:t>РЕНАЛНИ ТИП АКУТНЕ БУБРЕЖНЕ ИНСУФИЦИЈЕНЦИЈЕ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"/>
            <p:cNvSpPr/>
            <p:nvPr/>
          </p:nvSpPr>
          <p:spPr>
            <a:xfrm>
              <a:off x="333360" y="1605600"/>
              <a:ext cx="841968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3"/>
            <p:cNvSpPr/>
            <p:nvPr/>
          </p:nvSpPr>
          <p:spPr>
            <a:xfrm>
              <a:off x="369360" y="1668960"/>
              <a:ext cx="84247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ВАСКУЛАРНА ЛЕЗ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3"/>
            <p:cNvSpPr/>
            <p:nvPr/>
          </p:nvSpPr>
          <p:spPr>
            <a:xfrm>
              <a:off x="378000" y="1908000"/>
              <a:ext cx="8424720" cy="42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8989"/>
                </a:buClr>
                <a:buFont typeface="Wingdings 2" charset="2"/>
                <a:buChar char="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МАЛИ КРВНИ СУДОВИ БУБРЕ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898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РЕНАЛНИ ВАСКУЛИТИС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8989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АНКА позитивни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ANCA/pANC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8989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Wegene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ова грануломато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8989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икроскопски полиангиит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8989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hurg-Straus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ов синдр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8989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АНКА негативни (посредовани имунским комплексим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8989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Henoch-Sch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ö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lein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в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урпу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buClr>
                  <a:srgbClr val="ff8989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риоглобулинемични васкулит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371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ff898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РЕНАЛНЕ ТРОМБОТИЧНЕ МИКРОАНГИОПАТИЈ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8989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хемолитичко-уремијски синдром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U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8989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ромботична тромбоцитопенијска пурпура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TP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buClr>
                  <a:srgbClr val="ff8989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EELP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синдр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arina</cp:lastModifiedBy>
  <dcterms:modified xsi:type="dcterms:W3CDTF">2020-10-01T19:09:51Z</dcterms:modified>
  <cp:revision>173</cp:revision>
  <dc:subject/>
  <dc:title>Slide 1</dc:title>
</cp:coreProperties>
</file>